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8675-9522-443A-AED7-BEC24381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0A5E-0225-446F-961B-98A9A17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D88F-5975-441A-9638-8802B98B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7CC4-FE5A-439C-9FC0-EADF5C54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E4F-8DC0-47AB-B20E-C846C5CD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32F1-8196-4C7C-BFBD-A67139C4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3827-7565-4E7C-8A5A-2EE33416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242B-2DE5-4B62-9A7D-9FE9DBD1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77C5-0322-4CC1-BAE5-B74AA0AF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7B18-0447-4C9D-B7AD-C2748EBA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0004-1FD3-4A86-BAEB-F4193D5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DC73-E5EF-438C-9B7B-E6AE4515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134-992B-4187-ADEE-172E7D5A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FB3E-5D66-431E-89C9-410B9CBB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09DB-4B82-4A2D-9F75-DB9B9DB8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8AC-E7CC-4919-82BA-D6BD0D66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799A-2D94-4A48-AFB7-A73A89E3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AF75-0ACA-4B32-ADBE-429862BE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CD86-A71C-4DB1-9A02-03966A2B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4E52-B28F-4DA4-BF03-461B7084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A417-0896-4ED8-ACCA-DDAF9899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B4DF-F36C-4712-8DA3-8C04B94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AF871-2914-4AAA-AD84-69DBD9C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D8E2A-AE64-4753-BE11-A0B3456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600C-AC21-4218-B00F-84797544491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1ACB-3101-4A4D-9D35-F77C76AD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50F-B232-4F56-8B2A-05387E3B615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D489-245D-4685-82D9-73F57F29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Combinatorio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full adder tiene la siguiente tabla de verdad para la suma S y el carry Co en función de las entradas a, b y carry 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rive las funciones de la tabla y escriba una descripción comportamental del circ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375240" y="1714680"/>
          <a:ext cx="2444760" cy="3585960"/>
        </p:xfrm>
        <a:graphic>
          <a:graphicData uri="http://schemas.openxmlformats.org/drawingml/2006/table">
            <a:tbl>
              <a:tblPr/>
              <a:tblGrid>
                <a:gridCol w="428760"/>
                <a:gridCol w="358920"/>
                <a:gridCol w="649080"/>
                <a:gridCol w="432000"/>
                <a:gridCol w="57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loques Proced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ódigo comportamental de Verilog se encuentra dentro de los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ay dos tipos de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itial: se ejecuta solo una vez, al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ways: se ejecuta siempre basado en los cambios de las variables mencionadas en el com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Ini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637000"/>
            <a:ext cx="7489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exampl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lk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se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able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–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63700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initial_always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g clk,reset,enable,q_in,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 else 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ata &lt;= q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sign en Bloques Proced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se asignan valores a variables del tipo reg, integer, real o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uede asignar a un reg el valor de una net, constante, otro reg o un valor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signaciones Bloqueantes y no Bloque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bloqueantes (=) son secuenciales y se ejecutan en el orden en que son escr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asignaciones no bloqueantes (&lt;=) se ejecutan en paral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852640"/>
            <a:ext cx="1081080" cy="1224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IN/1 O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272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720" y="34527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36925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2720" y="393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63000" y="3233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63000" y="3659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1520" y="3068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31520" y="329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31520" y="3573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520" y="3789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68840" y="2736720"/>
          <a:ext cx="2603520" cy="1699920"/>
        </p:xfrm>
        <a:graphic>
          <a:graphicData uri="http://schemas.openxmlformats.org/drawingml/2006/table">
            <a:tbl>
              <a:tblPr/>
              <a:tblGrid>
                <a:gridCol w="444240"/>
                <a:gridCol w="432000"/>
                <a:gridCol w="431640"/>
                <a:gridCol w="432000"/>
                <a:gridCol w="431640"/>
                <a:gridCol w="432000"/>
              </a:tblGrid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484280"/>
            <a:ext cx="2592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decod (a,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wire [1:0]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3:0]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z = 4'b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0: z = 4'b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01: z = 4'b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0: z = 4'b01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2'b11: z = 4'b1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haría el decodificador utilizando las instrucciones if …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42512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log puede ser usado para definir circuitos en 4 niveles de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orít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uer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dos tipos de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l: descripción verbal del circuito sin considerar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dural: usado para circuitos con elementos de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module sevenseg (a,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put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utput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wire [3:0] 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g [6:0]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z = 7'b0000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play 7 Seg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1773360"/>
            <a:ext cx="7489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lways @(a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0: z = 7'b1110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01: z = 7'b0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0: z = 7'b101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011: z = 7'b10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0: z = 7'b0111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01: z = 7'b110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0: z = 7'b110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0111: z = 7'b10100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0: z = 7'b1111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01: z = 7'b11110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01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01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0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4'b1111: z = 7'b11011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z = 7'b00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6472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oncepto de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ne solo una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requiere más de una salida, estas deben ser concate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ograma que llama la función puede extraer cada salida de la salida concat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00720" y="404640"/>
            <a:ext cx="46796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function[16:0] decode_ad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add_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code,opr1,opr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code = instr[31:24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1 = instr[7: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case (opc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0: begin  //add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01: begin  //substract two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instr[15:8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8'b10001010: begin  //in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fault: begin  //decrement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add_func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pr2 = 8'b0000000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decode_add = {add_func,opr2, opr1}; //concatenated into 17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07920"/>
            <a:ext cx="4392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module simple_procesosor(instruction, out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input [31:0] instruc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output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ut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fun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g [7:0] op1,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3357720"/>
            <a:ext cx="457200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instruction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func,op2,op1} = decode_add(instructio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unc =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+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 = op1 - op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2708280"/>
            <a:ext cx="1871640" cy="4334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61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or 4 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00280"/>
            <a:ext cx="45720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mux_behavioral(a,b,c,d,sel,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In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[1:0] 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Output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Port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a,b,c,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[1:0]se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1773360"/>
            <a:ext cx="45720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(sel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sel == 2'b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b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 if (sel == 2'b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ódulo es la entidad principal de diseño en 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860640"/>
            <a:ext cx="748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module_name (port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outp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o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msb:lsb] inout_port_l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statemem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signación Contin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signación continua es usada para asignar un valor a un wire dentro de un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aliza a través del comando assign o asignando un valor al wire en su decl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eclaraciones de asignación continua son concurrentes y son ejecutadas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orden de las asignaciones no tiene impor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4508640"/>
            <a:ext cx="74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wire_variable = </a:t>
            </a:r>
            <a:r>
              <a:rPr b="0" i="1" lang="es-ES_tradnl" sz="14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nstanciación de un módulo crea un obje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uertos del módulo instanciado deben corresponder a los de la declaración del mód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nombre, usando un punto ‘.template_port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 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292640"/>
            <a:ext cx="7489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_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1(port_connection_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2(port connection list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stance_name_n (port_connection_li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anciación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2637000"/>
            <a:ext cx="7489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module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modul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and4(a,b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a,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assign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c=a&amp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module instanti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[3:0] in1, in2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400" spc="-1" strike="noStrike">
                <a:solidFill>
                  <a:srgbClr val="000000"/>
                </a:solidFill>
                <a:latin typeface="Courier New"/>
              </a:rPr>
              <a:t>wire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[3:0] o1, 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 C1 is an instance of and 4 referenced by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1(in1,in2,o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C2 is an instance of and 4 referenced b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4 C2(.c(o2), .a(in1), .b(in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struyendo la Descripción VHDL a Partir de la Tabla de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421000"/>
          <a:ext cx="1366920" cy="301464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60360"/>
                <a:gridCol w="2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76720" y="3141720"/>
                <a:ext cx="1511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1 – Descripción Estructu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7489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ternal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nota,o1,o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not C1 (nota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2 (o1,nota,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nd C3 (o2,a,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r C4 (z,o1,o2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Opción 2 – Descripción Comporta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637000"/>
            <a:ext cx="748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module comb (a,b,c,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In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input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Output 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output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//Port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a,b,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ire 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assign z = (!a &amp;&amp; b) || (a &amp;&amp; 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08T22:15:17Z</dcterms:modified>
  <cp:revision>228</cp:revision>
  <dc:subject/>
  <dc:title>EL 6XX</dc:title>
</cp:coreProperties>
</file>