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B55A-1CC4-4C72-9A6C-714E4523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34AE-7ED3-4B68-9A80-A275E868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D140-8FCE-4089-9B04-47A80F95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34B2-12C5-4A86-8A80-7FA8D2F3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B481-A9FC-40D1-8F74-8F129879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67BA-79DD-41DB-BEB9-27B7A77F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31EC-6A93-409C-85D3-94ADD268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A742-7B33-4CA4-8427-7B811FEC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4A9D-A16C-410B-8107-A070F75B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7561-1EDA-4F9E-9B49-0011A05F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F5FE-0462-48C6-BA97-52BD804F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D439-5B18-4AD7-951F-033712A6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1EAF-F624-42F3-A66C-0DA80C60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51CD-9A0D-4A4B-B2B7-5A005DA6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9634-8B8D-4B29-91FD-1BE260B9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476A-3078-4DB5-BD69-579EF7D4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E657-2680-4B5C-BCFF-AEB3FDC3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2B379-2D55-4BE4-BA60-8071C983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C68B2-C76E-4D5D-B3A3-D4263120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CF0FB-E58A-4425-86B7-FECFB1C2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DAB1-B8AA-41CD-A95B-69C9D3DF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34EFD-0B44-4D99-9EDE-A5462ADD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2AE6-1741-48AF-9E9C-A9285661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3F91-9DB4-4F35-94AF-F9F54F75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7158-E4E8-4FB1-A54C-1F83BBC83F5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157D-2AA7-4F47-9A19-C18852F9C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4196-673F-4983-BA08-ED691193A4E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3461-78F0-40A8-931C-A404CC676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nthesis and Optim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8480" y="4889520"/>
            <a:ext cx="581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Synthesis and Optimization of Digital Circuits”, Giovanni de Michel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w-Hill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consider the differential equation                  in the interval [0,a] with step size dx and initial values x(0) = x, y(0) = y and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 =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the Forward Euler Method (numerical sol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area and performance depend on this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732720" y="2060640"/>
                <a:ext cx="2016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68360" y="3789360"/>
            <a:ext cx="5183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diffeq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ad (x,y,u,dx,a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repeat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x1 = x + d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u1 = u – (3 * x * u * dx) – (3 *y * d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y1 = y + u * d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 = x1 &lt;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} until (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write (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162864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162864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56000" y="1628640"/>
            <a:ext cx="144000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TEERING &amp;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48360" y="1628640"/>
            <a:ext cx="144000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NTROL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580000" y="76464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258560" y="765000"/>
            <a:ext cx="432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58920" y="76500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435640" y="90792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834920" y="907920"/>
            <a:ext cx="36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835280" y="90792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788000" y="11253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643280" y="12679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916000" y="112536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92000" y="1268280"/>
            <a:ext cx="115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16360" y="1125360"/>
            <a:ext cx="144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92360" y="126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270828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47640" y="3284640"/>
            <a:ext cx="396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508720" y="270792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270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306864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16360" y="270792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6000" y="242100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795640" y="1916280"/>
            <a:ext cx="115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26720" y="33764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20240" y="59500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HD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 model is provided by a state transition diagram or a finite state machine (FSM), or a circuit schematic (HDL model as 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pecified by a designer or synthesized from an architectural lev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is different depending on the nature of the circuit (sequential, combinational) and the type of the starting representation (state diagram or schema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outcome is a fully structural representation (e.g. net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generating the layout of the c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the layout correspond to the masks used for fabr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the design style (handcrafted or automa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tasks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in general in conjunction with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ptimization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 to the sum of the areas of the circui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derived from a structural view of the circuit, once the area of each component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computation can be performed hierarc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area plays an important role, can be derived from physical view or estimated from a structural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ive quantity, it is not add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 requires a full analysis of the structure and the behavior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f a combinational circuit depends on the input/output propagation delay assuming all inputs are available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f a synchronous sequential circuit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ooking for the fastest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ecessary time to execute the operations of the circuit. It could be measured in terms of cloc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execution time is provided by the product betw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optimized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circuit can implement a sequence of operations in a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circuit is the rate at which data are produced and consu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non pipelined circuit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less or equal than the inverse of the product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rate pipelining is whe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verse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ata are produced and consumed at each clock cy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mbinational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ynchronous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ipelined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rea minimization and performance max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 is subject to constraints (upper bounds of the area and lower bounds of the perform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circuit – different feasible structura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finite set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design point there are values of area and performa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s man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 fun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obje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rea, latency, cycle time, and through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evaluation sp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multidimensional space of these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optimization – a circuit design that optimizes all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s that the optimization problem is a minimization problem (maximizes the throughput is equivalent to minimize the complement of the through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to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 point in the design space with no other point with at least an inferior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eto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rresponds to a global optimum in a monodimensional design evalu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the optimal trade-off points – image of the Pareto points in the design evaluatio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-off curve or surface – interpolation of the set of the optimal trade – off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techniques speed up the design cycle and reduce the human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ation techniques enhances the desig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and optimization are used in mostly all circuit design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ational Logic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design evaluation space (area – de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-off points shown in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80000" y="2276640"/>
            <a:ext cx="0" cy="3313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80000" y="5589720"/>
            <a:ext cx="3024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76560" y="56595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3852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0192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6568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29080" y="5661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920" y="4869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920" y="41720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29920" y="3476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29920" y="27813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8000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84720" y="2924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27640" y="321300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8000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645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0000" y="364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64360" y="414972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80000" y="4149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12000" y="4437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580000" y="4437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1010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80000" y="48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2000" y="285264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56360" y="314172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88000" y="3573360"/>
            <a:ext cx="14472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093080" y="407664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740720" y="436572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028000" y="4797360"/>
            <a:ext cx="14436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439480" y="5661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04000" y="22766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tial Logic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aluation space for logic level models of sequential circuits is (area, cycle-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aluation space for non pipelined architectural level model is (area, latency, cycle-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aluation space for synchronous pipelined architectural level model is (area, latency, cycle-time, through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al logic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area under dela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delay under area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area under latenc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circuit latency under area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 rot="10800000">
            <a:off x="611280" y="1483920"/>
            <a:ext cx="288720" cy="215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Behavioral vi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0920" y="765000"/>
            <a:ext cx="165600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anguage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0800000">
            <a:off x="611280" y="3642840"/>
            <a:ext cx="288720" cy="2233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tructural vi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21440" y="765000"/>
            <a:ext cx="165564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bstract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340000" y="1557360"/>
            <a:ext cx="936720" cy="86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40000" y="2708280"/>
            <a:ext cx="936720" cy="86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4579920"/>
            <a:ext cx="936720" cy="8650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16360" y="1701720"/>
            <a:ext cx="28814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Operations &amp; depend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Data flow &amp; sequencing 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0800000">
            <a:off x="8170920" y="1483920"/>
            <a:ext cx="288720" cy="215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rchitectural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8170920" y="3642840"/>
            <a:ext cx="288720" cy="2233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Logic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198900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99840" y="19875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16360" y="2852640"/>
            <a:ext cx="28814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SMs – logic 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State diagrams &amp; logic networ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312732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99840" y="31258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56360" y="2276640"/>
            <a:ext cx="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07480" y="2276640"/>
            <a:ext cx="197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hitectural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16360" y="4795920"/>
            <a:ext cx="2881440" cy="576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erconnected logic blo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(Logic network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507060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98760" y="506880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56360" y="3429000"/>
            <a:ext cx="0" cy="1368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10000" y="3774960"/>
            <a:ext cx="140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opti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39960" y="3970440"/>
            <a:ext cx="6061320" cy="1033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39960" y="2674800"/>
            <a:ext cx="6061320" cy="1033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86560" y="215748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4560" y="3051000"/>
            <a:ext cx="1017720" cy="357480"/>
          </a:xfrm>
          <a:prstGeom prst="leftRightArrow">
            <a:avLst>
              <a:gd name="adj1" fmla="val 50000"/>
              <a:gd name="adj2" fmla="val 56675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36880" y="356220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1040" y="2286000"/>
            <a:ext cx="358920" cy="507960"/>
          </a:xfrm>
          <a:prstGeom prst="downArrow">
            <a:avLst>
              <a:gd name="adj1" fmla="val 50000"/>
              <a:gd name="adj2" fmla="val 3538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36880" y="4902120"/>
            <a:ext cx="357120" cy="492120"/>
          </a:xfrm>
          <a:prstGeom prst="downArrow">
            <a:avLst>
              <a:gd name="adj1" fmla="val 50000"/>
              <a:gd name="adj2" fmla="val 34451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4560" y="4327560"/>
            <a:ext cx="1017720" cy="357120"/>
          </a:xfrm>
          <a:prstGeom prst="leftRightArrow">
            <a:avLst>
              <a:gd name="adj1" fmla="val 50000"/>
              <a:gd name="adj2" fmla="val 56732"/>
            </a:avLst>
          </a:prstGeom>
          <a:gradFill rotWithShape="0">
            <a:gsLst>
              <a:gs pos="0">
                <a:srgbClr val="f0d614"/>
              </a:gs>
              <a:gs pos="100000">
                <a:srgbClr val="f0d6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1320" y="1557360"/>
            <a:ext cx="219096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Archite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86400" y="286380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uncti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Verif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1320" y="2870280"/>
            <a:ext cx="2190960" cy="718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TL Design/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Synthes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1320" y="4140360"/>
            <a:ext cx="2190960" cy="7315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hysical Desig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86400" y="4140360"/>
            <a:ext cx="2190960" cy="733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00280" y="1628640"/>
            <a:ext cx="1660320" cy="4178160"/>
            <a:chOff x="800280" y="1628640"/>
            <a:chExt cx="1660320" cy="41781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rcRect l="80095" t="7093" r="3251" b="58248"/>
            <a:stretch/>
          </p:blipFill>
          <p:spPr>
            <a:xfrm>
              <a:off x="941400" y="3213000"/>
              <a:ext cx="1393920" cy="103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800280" y="3076560"/>
              <a:ext cx="1660320" cy="1282680"/>
              <a:chOff x="800280" y="3076560"/>
              <a:chExt cx="1660320" cy="1282680"/>
            </a:xfrm>
          </p:grpSpPr>
          <p:sp>
            <p:nvSpPr>
              <p:cNvPr id="139" name=""/>
              <p:cNvSpPr/>
              <p:nvPr/>
            </p:nvSpPr>
            <p:spPr>
              <a:xfrm>
                <a:off x="800280" y="307656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56440" y="313560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00280" y="1628640"/>
              <a:ext cx="1660320" cy="1282680"/>
              <a:chOff x="800280" y="1628640"/>
              <a:chExt cx="1660320" cy="1282680"/>
            </a:xfrm>
          </p:grpSpPr>
          <p:sp>
            <p:nvSpPr>
              <p:cNvPr id="142" name=""/>
              <p:cNvSpPr/>
              <p:nvPr/>
            </p:nvSpPr>
            <p:spPr>
              <a:xfrm>
                <a:off x="800280" y="1628640"/>
                <a:ext cx="1660320" cy="1282680"/>
              </a:xfrm>
              <a:prstGeom prst="rect">
                <a:avLst/>
              </a:prstGeom>
              <a:gradFill rotWithShape="0">
                <a:gsLst>
                  <a:gs pos="0">
                    <a:srgbClr val="100051"/>
                  </a:gs>
                  <a:gs pos="50000">
                    <a:srgbClr val="070025"/>
                  </a:gs>
                  <a:gs pos="100000">
                    <a:srgbClr val="100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56440" y="1687680"/>
                <a:ext cx="1532160" cy="1163880"/>
              </a:xfrm>
              <a:prstGeom prst="rect">
                <a:avLst/>
              </a:prstGeom>
              <a:gradFill rotWithShape="0">
                <a:gsLst>
                  <a:gs pos="0">
                    <a:srgbClr val="070025"/>
                  </a:gs>
                  <a:gs pos="50000">
                    <a:srgbClr val="100051"/>
                  </a:gs>
                  <a:gs pos="100000">
                    <a:srgbClr val="07002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944640" y="1717560"/>
              <a:ext cx="1377720" cy="1054080"/>
              <a:chOff x="944640" y="1717560"/>
              <a:chExt cx="1377720" cy="1054080"/>
            </a:xfrm>
          </p:grpSpPr>
          <p:sp>
            <p:nvSpPr>
              <p:cNvPr id="145" name=""/>
              <p:cNvSpPr/>
              <p:nvPr/>
            </p:nvSpPr>
            <p:spPr>
              <a:xfrm>
                <a:off x="1492200" y="1717560"/>
                <a:ext cx="62568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44640" y="1788840"/>
                <a:ext cx="1377720" cy="982800"/>
              </a:xfrm>
              <a:prstGeom prst="rect">
                <a:avLst/>
              </a:prstGeom>
              <a:ln w="15840">
                <a:solidFill>
                  <a:srgbClr val="630da3"/>
                </a:solidFill>
                <a:miter/>
              </a:ln>
            </p:spPr>
          </p:pic>
          <p:sp>
            <p:nvSpPr>
              <p:cNvPr id="147" name=""/>
              <p:cNvSpPr/>
              <p:nvPr/>
            </p:nvSpPr>
            <p:spPr>
              <a:xfrm>
                <a:off x="947880" y="1925280"/>
                <a:ext cx="1326960" cy="77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85920" y="1946160"/>
                <a:ext cx="623880" cy="75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08960" y="1965240"/>
                <a:ext cx="5112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process begi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310400" y="2041200"/>
                <a:ext cx="550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wait until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08960" y="2124000"/>
                <a:ext cx="6620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LOCK'stabl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08240" y="2206440"/>
                <a:ext cx="7048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CLOCK=1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09680" y="2293920"/>
                <a:ext cx="855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if(ENABLE='1') then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307160" y="2374560"/>
                <a:ext cx="7214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&lt;= not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07880" y="2450880"/>
                <a:ext cx="41364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TOGGLE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08960" y="2531880"/>
                <a:ext cx="2887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if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308960" y="2606400"/>
                <a:ext cx="4716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end process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944640" y="3225600"/>
              <a:ext cx="1374840" cy="988920"/>
              <a:chOff x="944640" y="3225600"/>
              <a:chExt cx="1374840" cy="988920"/>
            </a:xfrm>
          </p:grpSpPr>
          <p:sp>
            <p:nvSpPr>
              <p:cNvPr id="159" name=""/>
              <p:cNvSpPr/>
              <p:nvPr/>
            </p:nvSpPr>
            <p:spPr>
              <a:xfrm>
                <a:off x="944640" y="3225600"/>
                <a:ext cx="1374840" cy="988920"/>
              </a:xfrm>
              <a:prstGeom prst="rect">
                <a:avLst/>
              </a:prstGeom>
              <a:noFill/>
              <a:ln w="12600">
                <a:solidFill>
                  <a:srgbClr val="630d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38280" y="3612960"/>
                <a:ext cx="345960" cy="87480"/>
              </a:xfrm>
              <a:custGeom>
                <a:avLst/>
                <a:gdLst/>
                <a:ahLst/>
                <a:rect l="l" t="t" r="r" b="b"/>
                <a:pathLst>
                  <a:path w="162" h="35">
                    <a:moveTo>
                      <a:pt x="0" y="0"/>
                    </a:moveTo>
                    <a:lnTo>
                      <a:pt x="56" y="0"/>
                    </a:lnTo>
                    <a:lnTo>
                      <a:pt x="56" y="34"/>
                    </a:lnTo>
                    <a:lnTo>
                      <a:pt x="161" y="34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9680" y="361620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039680" y="354168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65360" y="3616200"/>
                <a:ext cx="41904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39680" y="3801960"/>
                <a:ext cx="907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1278000" y="3993840"/>
                <a:ext cx="94680" cy="104400"/>
                <a:chOff x="1278000" y="3993840"/>
                <a:chExt cx="94680" cy="1044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1326240" y="3993840"/>
                  <a:ext cx="46440" cy="10440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278000" y="3993840"/>
                  <a:ext cx="50760" cy="1044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1084320" y="3801960"/>
                <a:ext cx="0" cy="21564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84320" y="4017600"/>
                <a:ext cx="185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30320" y="4044600"/>
                <a:ext cx="3430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382760" y="4074840"/>
                <a:ext cx="47952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84320" y="3892320"/>
                <a:ext cx="20628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24080" y="3473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2" h="44">
                    <a:moveTo>
                      <a:pt x="0" y="0"/>
                    </a:moveTo>
                    <a:lnTo>
                      <a:pt x="0" y="43"/>
                    </a:lnTo>
                    <a:lnTo>
                      <a:pt x="51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407960" y="3740040"/>
                <a:ext cx="466920" cy="174600"/>
              </a:xfrm>
              <a:custGeom>
                <a:avLst/>
                <a:gdLst/>
                <a:ahLst/>
                <a:rect l="l" t="t" r="r" b="b"/>
                <a:pathLst>
                  <a:path w="219" h="70">
                    <a:moveTo>
                      <a:pt x="218" y="0"/>
                    </a:moveTo>
                    <a:lnTo>
                      <a:pt x="0" y="0"/>
                    </a:lnTo>
                    <a:lnTo>
                      <a:pt x="0" y="69"/>
                    </a:lnTo>
                    <a:lnTo>
                      <a:pt x="65" y="69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373040" y="3838320"/>
                <a:ext cx="738360" cy="3240"/>
              </a:xfrm>
              <a:custGeom>
                <a:avLst/>
                <a:gdLst/>
                <a:ahLst/>
                <a:rect l="l" t="t" r="r" b="b"/>
                <a:pathLst>
                  <a:path w="346" h="1">
                    <a:moveTo>
                      <a:pt x="0" y="0"/>
                    </a:moveTo>
                    <a:lnTo>
                      <a:pt x="345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1125360" y="3730320"/>
                <a:ext cx="91800" cy="98280"/>
                <a:chOff x="1125360" y="3730320"/>
                <a:chExt cx="91800" cy="982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167480" y="3730320"/>
                  <a:ext cx="49680" cy="9828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125360" y="3730320"/>
                  <a:ext cx="48240" cy="9828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111320" y="3525480"/>
                <a:ext cx="101160" cy="107640"/>
                <a:chOff x="1111320" y="3525480"/>
                <a:chExt cx="101160" cy="1076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163880" y="3525480"/>
                  <a:ext cx="48600" cy="10764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111320" y="3525480"/>
                  <a:ext cx="50400" cy="1076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1265400" y="3797280"/>
                <a:ext cx="101160" cy="101160"/>
                <a:chOff x="1265400" y="3797280"/>
                <a:chExt cx="101160" cy="1011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316880" y="3797280"/>
                  <a:ext cx="49680" cy="10116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265400" y="3797280"/>
                  <a:ext cx="49680" cy="10116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465200" y="3862080"/>
                <a:ext cx="98280" cy="107640"/>
                <a:chOff x="1465200" y="3862080"/>
                <a:chExt cx="98280" cy="1076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1510200" y="3862080"/>
                  <a:ext cx="53280" cy="107640"/>
                </a:xfrm>
                <a:prstGeom prst="ellipse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465200" y="3862080"/>
                  <a:ext cx="53280" cy="107640"/>
                </a:xfrm>
                <a:prstGeom prst="rect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1576440" y="3914640"/>
                <a:ext cx="10476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28880" y="3733560"/>
                <a:ext cx="244440" cy="55440"/>
              </a:xfrm>
              <a:custGeom>
                <a:avLst/>
                <a:gdLst/>
                <a:ahLst/>
                <a:rect l="l" t="t" r="r" b="b"/>
                <a:pathLst>
                  <a:path w="115" h="22">
                    <a:moveTo>
                      <a:pt x="0" y="0"/>
                    </a:moveTo>
                    <a:lnTo>
                      <a:pt x="39" y="0"/>
                    </a:lnTo>
                    <a:lnTo>
                      <a:pt x="39" y="21"/>
                    </a:lnTo>
                    <a:lnTo>
                      <a:pt x="114" y="21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222200" y="3585960"/>
                <a:ext cx="209880" cy="60480"/>
              </a:xfrm>
              <a:custGeom>
                <a:avLst/>
                <a:gdLst/>
                <a:ahLst/>
                <a:rect l="l" t="t" r="r" b="b"/>
                <a:pathLst>
                  <a:path w="98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7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1432080" y="3555720"/>
                <a:ext cx="96480" cy="106200"/>
                <a:chOff x="1432080" y="3555720"/>
                <a:chExt cx="96480" cy="106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477080" y="3555720"/>
                  <a:ext cx="51480" cy="106200"/>
                </a:xfrm>
                <a:prstGeom prst="ellips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440" bIns="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432080" y="3555720"/>
                  <a:ext cx="51480" cy="10620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1789200" y="3904920"/>
                <a:ext cx="48420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1690560" y="3817800"/>
                <a:ext cx="97920" cy="117000"/>
                <a:chOff x="1690560" y="3817800"/>
                <a:chExt cx="97920" cy="1170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34480" y="3817800"/>
                  <a:ext cx="54000" cy="117000"/>
                </a:xfrm>
                <a:prstGeom prst="ellips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90560" y="3817800"/>
                  <a:ext cx="54720" cy="11700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109960" y="3749400"/>
                <a:ext cx="92880" cy="107640"/>
                <a:chOff x="2109960" y="3749400"/>
                <a:chExt cx="92880" cy="1076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156400" y="3749400"/>
                  <a:ext cx="46440" cy="107640"/>
                </a:xfrm>
                <a:prstGeom prst="ellips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09960" y="3749400"/>
                  <a:ext cx="52920" cy="107640"/>
                </a:xfrm>
                <a:prstGeom prst="rect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1854360" y="3987720"/>
                <a:ext cx="99000" cy="107640"/>
                <a:chOff x="1854360" y="3987720"/>
                <a:chExt cx="99000" cy="1076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898280" y="3987720"/>
                  <a:ext cx="55080" cy="107640"/>
                </a:xfrm>
                <a:prstGeom prst="ellipse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854360" y="3987720"/>
                  <a:ext cx="48240" cy="107640"/>
                </a:xfrm>
                <a:prstGeom prst="rect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854360" y="3681360"/>
                <a:ext cx="101160" cy="112320"/>
                <a:chOff x="1854360" y="3681360"/>
                <a:chExt cx="101160" cy="112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899720" y="3681360"/>
                  <a:ext cx="55800" cy="112320"/>
                </a:xfrm>
                <a:prstGeom prst="ellips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54360" y="3681360"/>
                  <a:ext cx="53640" cy="112320"/>
                </a:xfrm>
                <a:prstGeom prst="rect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1407960" y="3912840"/>
                <a:ext cx="444600" cy="109800"/>
              </a:xfrm>
              <a:custGeom>
                <a:avLst/>
                <a:gdLst/>
                <a:ahLst/>
                <a:rect l="l" t="t" r="r" b="b"/>
                <a:pathLst>
                  <a:path w="208" h="44">
                    <a:moveTo>
                      <a:pt x="0" y="0"/>
                    </a:moveTo>
                    <a:lnTo>
                      <a:pt x="0" y="43"/>
                    </a:lnTo>
                    <a:lnTo>
                      <a:pt x="207" y="4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1762200" y="3446280"/>
                <a:ext cx="91800" cy="97920"/>
                <a:chOff x="1762200" y="3446280"/>
                <a:chExt cx="91800" cy="979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806120" y="3446280"/>
                  <a:ext cx="47880" cy="97920"/>
                </a:xfrm>
                <a:prstGeom prst="ellips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762200" y="3446280"/>
                  <a:ext cx="50040" cy="97920"/>
                </a:xfrm>
                <a:prstGeom prst="rect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095560" y="3538440"/>
                <a:ext cx="97920" cy="107640"/>
                <a:chOff x="2095560" y="3538440"/>
                <a:chExt cx="97920" cy="1076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2139120" y="3538440"/>
                  <a:ext cx="54360" cy="107640"/>
                </a:xfrm>
                <a:prstGeom prst="ellipse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95560" y="3538440"/>
                  <a:ext cx="50040" cy="107640"/>
                </a:xfrm>
                <a:prstGeom prst="rect">
                  <a:avLst/>
                </a:prstGeom>
                <a:blipFill rotWithShape="0">
                  <a:blip r:embed="rId26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957320" y="3341520"/>
                <a:ext cx="99720" cy="101160"/>
                <a:chOff x="1957320" y="3341520"/>
                <a:chExt cx="99720" cy="1011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005920" y="3341520"/>
                  <a:ext cx="51120" cy="101160"/>
                </a:xfrm>
                <a:prstGeom prst="ellips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957320" y="3341520"/>
                  <a:ext cx="52920" cy="101160"/>
                </a:xfrm>
                <a:prstGeom prst="rect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1881360" y="3495600"/>
                <a:ext cx="207720" cy="60120"/>
              </a:xfrm>
              <a:custGeom>
                <a:avLst/>
                <a:gdLst/>
                <a:ahLst/>
                <a:rect l="l" t="t" r="r" b="b"/>
                <a:pathLst>
                  <a:path w="97" h="24">
                    <a:moveTo>
                      <a:pt x="0" y="0"/>
                    </a:moveTo>
                    <a:lnTo>
                      <a:pt x="33" y="0"/>
                    </a:lnTo>
                    <a:lnTo>
                      <a:pt x="33" y="23"/>
                    </a:lnTo>
                    <a:lnTo>
                      <a:pt x="96" y="23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44760" y="3500280"/>
                <a:ext cx="201600" cy="98280"/>
              </a:xfrm>
              <a:custGeom>
                <a:avLst/>
                <a:gdLst/>
                <a:ahLst/>
                <a:rect l="l" t="t" r="r" b="b"/>
                <a:pathLst>
                  <a:path w="95" h="39">
                    <a:moveTo>
                      <a:pt x="0" y="38"/>
                    </a:moveTo>
                    <a:lnTo>
                      <a:pt x="32" y="38"/>
                    </a:lnTo>
                    <a:lnTo>
                      <a:pt x="32" y="0"/>
                    </a:lnTo>
                    <a:lnTo>
                      <a:pt x="94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862280" y="3395520"/>
                <a:ext cx="83880" cy="79200"/>
              </a:xfrm>
              <a:custGeom>
                <a:avLst/>
                <a:gdLst/>
                <a:ahLst/>
                <a:rect l="l" t="t" r="r" b="b"/>
                <a:pathLst>
                  <a:path w="40" h="32">
                    <a:moveTo>
                      <a:pt x="0" y="31"/>
                    </a:moveTo>
                    <a:lnTo>
                      <a:pt x="13" y="31"/>
                    </a:lnTo>
                    <a:lnTo>
                      <a:pt x="13" y="0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800280" y="4524120"/>
              <a:ext cx="1660320" cy="1282680"/>
              <a:chOff x="800280" y="4524120"/>
              <a:chExt cx="1660320" cy="12826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800280" y="4524120"/>
                <a:ext cx="1660320" cy="1282680"/>
                <a:chOff x="800280" y="4524120"/>
                <a:chExt cx="1660320" cy="12826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00280" y="4524120"/>
                  <a:ext cx="1660320" cy="128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0051"/>
                    </a:gs>
                    <a:gs pos="50000">
                      <a:srgbClr val="070025"/>
                    </a:gs>
                    <a:gs pos="100000">
                      <a:srgbClr val="10005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56440" y="4583160"/>
                  <a:ext cx="1532160" cy="1163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70025"/>
                    </a:gs>
                    <a:gs pos="50000">
                      <a:srgbClr val="100051"/>
                    </a:gs>
                    <a:gs pos="100000">
                      <a:srgbClr val="070025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915840" y="4660560"/>
                <a:ext cx="1414440" cy="102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86560" y="5027760"/>
            <a:ext cx="220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k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41560" y="5457960"/>
            <a:ext cx="2192400" cy="731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Fabr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s an abstraction, i.e. a representation showing relevant features without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is the generation of a circuit model starting from a less detailed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s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al – the circuit performs a set of operations (HDL models or flow dia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– A digital circuit evaluates a set of logic functions (state transition diagrams or schema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al – a circuit is a set of geometrical entities (floor plans or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– describes the function of the circuit regardless of it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– describes a model as an interconnection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– relates to the physical objects of a design (e.g. transis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Abstraction and 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24000" y="2276640"/>
            <a:ext cx="4608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24000" y="3427560"/>
            <a:ext cx="4608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4579920"/>
            <a:ext cx="4608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al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1700280"/>
            <a:ext cx="2089080" cy="28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356000" y="1700280"/>
            <a:ext cx="2160720" cy="316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4869000"/>
            <a:ext cx="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2200" y="165276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8680" y="16527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26560" y="544500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5360" y="573264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ajski and Kun’s Y – c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 can be seen as a set of transformations between two axial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al level synthesis -  generates a structural view of an architectural leve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level synthesis – generates a structural view of a logic leve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ical level synthesis – generates a physical view at the geometric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 level model represents a set of operations and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s the hardware resources that can implement th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s the execution time of th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s the operations to th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tructural model of a datapath (interconnection of resources) and a logic level model of the control unit (issues control signals to the datapath according the 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area and performance depend on this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9-02T16:03:08Z</dcterms:modified>
  <cp:revision>137</cp:revision>
  <dc:subject/>
  <dc:title>EL 6XX</dc:title>
</cp:coreProperties>
</file>