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73040-94A1-44BA-9AB3-4E2F2C68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625E0-A58C-472F-AE03-F69AE8B4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F35A7-0634-4158-88BF-A2F86D1A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0159B-DA57-43C3-A1EE-D17A0983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F034-66D0-43EA-A502-FA0C7121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2907-034A-4881-8DD3-2A2DF266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1C56-D073-4193-9137-FE48D4E0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5882-53CD-4FBD-911D-7F0E0F6A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B9A7-0B00-42F2-B628-FBD5D3E1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48C6-2F17-416E-8785-56F8BA9F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FFC2-8025-40A9-AAEC-4A46FA39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761F5-9B56-4DE9-B23F-6339972A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5D30-774E-4253-80D8-738F3868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77AC-48CE-4CB5-B060-0D181DFB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4CF6-21EF-4C98-9DA9-101B0DA5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9C75-BEFD-4107-99C4-B3666D47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A6C8-06A5-45DA-8974-DE976B8B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7AF3E-7AD9-4A39-8DF5-A3763CC3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BD3C3-57E1-4167-9290-7DE9EEA3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4A076-F45B-48F4-BE7F-253FA60C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AF54C-17B8-4CAB-A678-23CA3E86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2378A-2E33-4D5B-ACB4-5E4CAAF7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315B3-F9A9-40A1-8A6C-B9636BE1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3A711-FF67-4E13-960D-058A5AD4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43DB-2D59-45DC-9077-FB244880083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2E3F-49BE-47DD-8C53-57EE200C2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E8B2-665D-4421-9EDE-00E6499A389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66F1-5738-46A0-9880-4B9C7B92B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trucciones de Bu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773360"/>
            <a:ext cx="8064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for_exampl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[7:0] ram [0:255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 = 0; i &lt; 256; i = i + 1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 $display(" Address = %g Data = %h",i,ram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m[i] &lt;= 0; // Initialize the RAM with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 $display(" Address = %g Data = %h",i,ram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 $finis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codificador con </a:t>
            </a: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816200"/>
            <a:ext cx="8064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decoder_using_for (binary_in,decoder_out,enabl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[3:0] binary_i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 enabl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[15:0] decoder_ou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[15:0] decoder_ou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 (enable or binary_in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coder_ou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enable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 = 0; i &lt; 16; i = i +1 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coder_out = (i == binary_in) ? i + 1 : 16'h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rucciones de Bucle (Lo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rilog posee cuatro instrucciones de bu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instrucciones de bucle aparecen solo en bloques proced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rucción </a:t>
            </a: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for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jecuta continuamente (sin f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utilizada normalmente en bloques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taxis: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forever &lt;statem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2349360"/>
            <a:ext cx="7489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forever_example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cl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 clk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ver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5 clk = !cl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rucción </a:t>
            </a: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cuta la instrucción n v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taxis: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peat (&lt;number&gt;) &lt;statem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2133720"/>
            <a:ext cx="7489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repeat_exampl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[3:0] opcod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[15:0]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ways @ (opcode or data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opcode == 10) begin // Perform ro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eat (8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 temp = data[15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 = data &lt;&lt;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[0] 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rucción </a:t>
            </a: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jecuta mientras la condición sea verdad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taxis: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while (&lt;statement&gt;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773360"/>
            <a:ext cx="8064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while_exampl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[5:0] lo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[7:0]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ways @ (data or loc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c = 0; // If Data is 0, then loc is 32 (invalid val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data == 0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c = 3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ata[0] == 0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c = loc +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 = data &gt;&gt;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rucción </a:t>
            </a: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milar a instrucciones for de lenguajes de progra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cuta una instrucción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cuta las instrucciones mientras la condición sea verdad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cuta la instrucción de a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taxi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&lt; initial assignment &gt;; &lt; expression &gt;, &lt; step assignment &gt;) &lt; statement 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perador ++ no existe en Veri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8-26T16:40:37Z</dcterms:modified>
  <cp:revision>232</cp:revision>
  <dc:subject/>
  <dc:title>EL 6XX</dc:title>
</cp:coreProperties>
</file>