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5C0D-F6C5-4DC3-9B53-6A698E8E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B1BC-4AD3-46C3-923B-14EA8CA9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1FFE-0891-4C6E-BBF4-EC85336C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9C61-F519-4CA7-8830-09A7BA56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A043-03D8-4DB9-8C08-3004B8C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8B6-3EF2-4A91-9342-91A4D1B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E9AB-5E1B-4CB4-A1B6-5E49E60E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C1C4-2106-49AE-9133-EFF323B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AF31-F8A3-4DBB-B333-F4D1E0F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A1C-C616-4E4E-94B4-4D597E3C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8EC5-3142-4334-9E26-0816E5E1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0045-8F61-41DB-8FA4-BCA46DF5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F1F4-6F9B-4531-A121-6CE94F92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5E57-D1B2-4F4E-87AB-6288AB1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BF3-4A80-4E13-9F20-6D9941B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9442-92A5-4B5E-A8F2-5C22F1FB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D297-199B-47E4-98C2-E93F2C84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B0D7-4559-4F72-897E-C046B1D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EC47-1A8C-4187-BCD8-6D693C4B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4E1E-D6A7-4D0B-AB1C-97EE56A8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4FA9-E46B-4AD4-A17A-7F56655C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68BD-6371-49B7-BB8C-FDB376F6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9D6D-AC38-4363-BBCE-9AA9FFE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ACEF-7CD7-4284-8CD2-2A9E968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93E-E491-4406-AC87-469D09ED132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1B9B-8169-482B-BB1F-2F4EBB43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643-89A3-4963-B8A7-63787B92EB2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5A1A-1F3E-40AB-B00B-E268E206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Secu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ógica Secu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oore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652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24360" y="371628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ealy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8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48360" y="386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4360" y="3500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2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618920" y="2637000"/>
            <a:ext cx="41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24360" y="3860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– Flop Tipo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2997360"/>
            <a:ext cx="93672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78936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63640" y="3931920"/>
            <a:ext cx="14436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00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908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10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1080" y="371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1628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219640" y="2692440"/>
          <a:ext cx="1728720" cy="1928880"/>
        </p:xfrm>
        <a:graphic>
          <a:graphicData uri="http://schemas.openxmlformats.org/drawingml/2006/table">
            <a:tbl>
              <a:tblPr/>
              <a:tblGrid>
                <a:gridCol w="384120"/>
                <a:gridCol w="432000"/>
                <a:gridCol w="480960"/>
                <a:gridCol w="431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610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050920" y="1776240"/>
          <a:ext cx="2256120" cy="4100760"/>
        </p:xfrm>
        <a:graphic>
          <a:graphicData uri="http://schemas.openxmlformats.org/drawingml/2006/table">
            <a:tbl>
              <a:tblPr/>
              <a:tblGrid>
                <a:gridCol w="887400"/>
                <a:gridCol w="13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127480" y="280044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próximo estado d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270180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3214800"/>
            <a:ext cx="66600" cy="9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88000" y="3306240"/>
            <a:ext cx="66600" cy="9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385272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4365720"/>
            <a:ext cx="6660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88000" y="4457880"/>
            <a:ext cx="6660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86200" y="5005440"/>
            <a:ext cx="43200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200" y="5518080"/>
            <a:ext cx="6696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86200" y="5610240"/>
            <a:ext cx="6696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9178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40705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52214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4000" y="272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94880" y="3846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7200" y="5005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0000" y="2701800"/>
            <a:ext cx="1152360" cy="316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492360" y="2917800"/>
            <a:ext cx="129564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492360" y="4070160"/>
            <a:ext cx="129564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92360" y="5221440"/>
            <a:ext cx="12956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00720" y="3278160"/>
            <a:ext cx="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2781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4429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5818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9440" y="5942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4840" y="2629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5360" y="3754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7680" y="49132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51640" y="2269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34920" y="227016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35280" y="227016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5280" y="31338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12000" y="19098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547280" y="1909800"/>
            <a:ext cx="44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47640" y="190980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392580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372360" y="154944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186920" y="1549440"/>
            <a:ext cx="518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1549440"/>
            <a:ext cx="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457344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pas de Karnaugh del Contador 3 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97200" cy="1242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87280" y="3201840"/>
            <a:ext cx="1897200" cy="1246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89080" y="4491000"/>
            <a:ext cx="1897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51280" y="2637000"/>
                <a:ext cx="280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3860640"/>
                <a:ext cx="172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51280" y="5229360"/>
                <a:ext cx="936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851800" y="524844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: Dibuje el 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68360" y="888840"/>
            <a:ext cx="8064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counter_state (clk,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2:0] 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ire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[2:0] state,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tate0=3'b0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1=3'b0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2=3'b0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3=3'b0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4=3'b1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5=3'b1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6=3'b1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7=3'b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0] = (state[0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tate[0] &amp;&amp; !state[1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0] &amp;&amp; 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1] = (state[1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2] = !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ógica Secuencial – Máquina de Estado Finito (F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quina de Estado 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8000" y="1952640"/>
          <a:ext cx="52293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52640"/>
                    <a:ext cx="5229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SM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combi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secu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gn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ombinaciones posibles para codificar s estados usando m variables es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! /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 método que permita determinar antes cual es la mejor asign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directrices que ayudan a resolver est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buena práctica de dar un significado a la inicialización de la máquina de estado. El estado de inicio puede ser codificado con puros ceros o puros 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la secuencia normal de cuenta para otr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minimizar el número de bits que cambian entre un estado y otro (código G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tados pueden tener significados particulares, de modo que una variable se setea en un estado y no en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una variable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Hot (un solo bit con valor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Cold (un solo bit con val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836640"/>
            <a:ext cx="806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_full(clock,reset,req_0,req_1,req_2,req_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_0,gnt_1,gnt_2,gnt_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clock,reset,req_0,req_1,req_2,req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[2:0]  IDLE  = 3'b0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0  = 3'b00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1  = 3'b01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2  = 3'b01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3  = 3'b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2:0] state, next_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8360" y="836640"/>
            <a:ext cx="575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req_0 or req_1 or req_2 or req_3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if (req_0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1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2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3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if (req_0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if (req_1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573360"/>
            <a:ext cx="439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if (req_2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if (req_3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8360" y="836640"/>
            <a:ext cx="5759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2637000"/>
            <a:ext cx="41752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79280" y="173844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849400" y="3519360"/>
            <a:ext cx="6115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étricas Temporales para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5000" y="23464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9600" y="309096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3320" y="22669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43720" y="28684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320" y="2595600"/>
            <a:ext cx="26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2484360"/>
            <a:ext cx="4626000" cy="638280"/>
          </a:xfrm>
          <a:custGeom>
            <a:avLst/>
            <a:gdLst/>
            <a:ahLst/>
            <a:rect l="l" t="t" r="r" b="b"/>
            <a:pathLst>
              <a:path w="2914" h="402">
                <a:moveTo>
                  <a:pt x="2914" y="402"/>
                </a:moveTo>
                <a:lnTo>
                  <a:pt x="2688" y="402"/>
                </a:lnTo>
                <a:lnTo>
                  <a:pt x="2565" y="0"/>
                </a:lnTo>
                <a:lnTo>
                  <a:pt x="1416" y="0"/>
                </a:lnTo>
                <a:lnTo>
                  <a:pt x="1292" y="402"/>
                </a:lnTo>
                <a:lnTo>
                  <a:pt x="340" y="402"/>
                </a:lnTo>
                <a:lnTo>
                  <a:pt x="217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333540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40798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3255840"/>
            <a:ext cx="63360" cy="1047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3720" y="3857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4480" y="3584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4156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1760" y="42418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8520" y="42577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thematicalPi 1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0" y="42418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26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4200" y="3209760"/>
            <a:ext cx="2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7880" y="3209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5000" y="43498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5089680"/>
            <a:ext cx="104760" cy="6804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7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7"/>
                </a:cubicBezTo>
                <a:cubicBezTo>
                  <a:pt x="17" y="7"/>
                  <a:pt x="13" y="8"/>
                  <a:pt x="10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3320" y="42703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6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3"/>
                  <a:pt x="6" y="0"/>
                </a:cubicBezTo>
                <a:cubicBezTo>
                  <a:pt x="7" y="3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3720" y="4870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3320" y="466740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4120" y="485784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3514680"/>
            <a:ext cx="4673520" cy="596880"/>
          </a:xfrm>
          <a:custGeom>
            <a:avLst/>
            <a:gdLst/>
            <a:ahLst/>
            <a:rect l="l" t="t" r="r" b="b"/>
            <a:pathLst>
              <a:path w="2944" h="376">
                <a:moveTo>
                  <a:pt x="2944" y="0"/>
                </a:moveTo>
                <a:lnTo>
                  <a:pt x="1825" y="0"/>
                </a:lnTo>
                <a:lnTo>
                  <a:pt x="1639" y="376"/>
                </a:lnTo>
                <a:lnTo>
                  <a:pt x="956" y="376"/>
                </a:lnTo>
                <a:lnTo>
                  <a:pt x="770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35000" y="3514680"/>
            <a:ext cx="4621320" cy="596880"/>
          </a:xfrm>
          <a:custGeom>
            <a:avLst/>
            <a:gdLst/>
            <a:ahLst/>
            <a:rect l="l" t="t" r="r" b="b"/>
            <a:pathLst>
              <a:path w="2911" h="376">
                <a:moveTo>
                  <a:pt x="2911" y="376"/>
                </a:moveTo>
                <a:lnTo>
                  <a:pt x="1815" y="376"/>
                </a:lnTo>
                <a:lnTo>
                  <a:pt x="1629" y="0"/>
                </a:lnTo>
                <a:lnTo>
                  <a:pt x="963" y="0"/>
                </a:lnTo>
                <a:lnTo>
                  <a:pt x="776" y="376"/>
                </a:lnTo>
                <a:lnTo>
                  <a:pt x="0" y="37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8000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6640" y="2827080"/>
            <a:ext cx="1440" cy="22986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398760"/>
            <a:ext cx="6177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33670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6"/>
                </a:cubicBezTo>
                <a:cubicBezTo>
                  <a:pt x="17" y="7"/>
                  <a:pt x="13" y="8"/>
                  <a:pt x="1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1160" y="3398760"/>
            <a:ext cx="449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3440" y="3367080"/>
            <a:ext cx="1065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6" y="6"/>
                  <a:pt x="20" y="6"/>
                </a:cubicBezTo>
                <a:cubicBezTo>
                  <a:pt x="16" y="7"/>
                  <a:pt x="13" y="8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995640" y="4424400"/>
            <a:ext cx="1800" cy="4428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424400"/>
            <a:ext cx="67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3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3"/>
                  <a:pt x="9" y="3"/>
                  <a:pt x="9" y="3"/>
                </a:cubicBezTo>
                <a:cubicBezTo>
                  <a:pt x="13" y="4"/>
                  <a:pt x="16" y="5"/>
                  <a:pt x="19" y="6"/>
                </a:cubicBezTo>
                <a:cubicBezTo>
                  <a:pt x="16" y="6"/>
                  <a:pt x="13" y="7"/>
                  <a:pt x="9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16" y="6"/>
                </a:move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7"/>
                  <a:pt x="3" y="6"/>
                  <a:pt x="0" y="6"/>
                </a:cubicBezTo>
                <a:cubicBezTo>
                  <a:pt x="3" y="5"/>
                  <a:pt x="6" y="4"/>
                  <a:pt x="1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5000" y="4608360"/>
            <a:ext cx="4673520" cy="517680"/>
          </a:xfrm>
          <a:custGeom>
            <a:avLst/>
            <a:gdLst/>
            <a:ahLst/>
            <a:rect l="l" t="t" r="r" b="b"/>
            <a:pathLst>
              <a:path w="2944" h="326">
                <a:moveTo>
                  <a:pt x="2944" y="0"/>
                </a:moveTo>
                <a:lnTo>
                  <a:pt x="1909" y="0"/>
                </a:lnTo>
                <a:lnTo>
                  <a:pt x="1825" y="326"/>
                </a:lnTo>
                <a:lnTo>
                  <a:pt x="1589" y="326"/>
                </a:lnTo>
                <a:lnTo>
                  <a:pt x="1506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5000" y="4608360"/>
            <a:ext cx="4605480" cy="517680"/>
          </a:xfrm>
          <a:custGeom>
            <a:avLst/>
            <a:gdLst/>
            <a:ahLst/>
            <a:rect l="l" t="t" r="r" b="b"/>
            <a:pathLst>
              <a:path w="2901" h="326">
                <a:moveTo>
                  <a:pt x="2901" y="326"/>
                </a:moveTo>
                <a:lnTo>
                  <a:pt x="1909" y="326"/>
                </a:lnTo>
                <a:lnTo>
                  <a:pt x="1825" y="0"/>
                </a:lnTo>
                <a:lnTo>
                  <a:pt x="1589" y="0"/>
                </a:lnTo>
                <a:lnTo>
                  <a:pt x="1506" y="326"/>
                </a:lnTo>
                <a:lnTo>
                  <a:pt x="0" y="32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3000" y="361332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3440" y="380052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04960" y="3181320"/>
            <a:ext cx="63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Ten Roman"/>
              </a:rPr>
              <a:t>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39840" y="40273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8400" y="3432240"/>
            <a:ext cx="1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8600" y="343224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58120" y="3997440"/>
            <a:ext cx="1440" cy="19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3897360"/>
            <a:ext cx="84240" cy="14292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3141720"/>
            <a:ext cx="877680" cy="755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3745080"/>
            <a:ext cx="306360" cy="152280"/>
          </a:xfrm>
          <a:custGeom>
            <a:avLst/>
            <a:gdLst/>
            <a:ahLst/>
            <a:rect l="l" t="t" r="r" b="b"/>
            <a:pathLst>
              <a:path w="193" h="96">
                <a:moveTo>
                  <a:pt x="193" y="96"/>
                </a:moveTo>
                <a:lnTo>
                  <a:pt x="96" y="0"/>
                </a:lnTo>
                <a:lnTo>
                  <a:pt x="0" y="96"/>
                </a:lnTo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824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1760" y="3484440"/>
            <a:ext cx="138240" cy="85680"/>
          </a:xfrm>
          <a:custGeom>
            <a:avLst/>
            <a:gdLst/>
            <a:ahLst/>
            <a:rect l="l" t="t" r="r" b="b"/>
            <a:pathLst>
              <a:path w="26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7" y="10"/>
                  <a:pt x="22" y="9"/>
                  <a:pt x="26" y="8"/>
                </a:cubicBezTo>
                <a:cubicBezTo>
                  <a:pt x="22" y="7"/>
                  <a:pt x="17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768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61200" y="3484440"/>
            <a:ext cx="142920" cy="85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8" y="10"/>
                  <a:pt x="22" y="9"/>
                  <a:pt x="27" y="8"/>
                </a:cubicBezTo>
                <a:cubicBezTo>
                  <a:pt x="22" y="7"/>
                  <a:pt x="18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68360" y="836640"/>
            <a:ext cx="53989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dule traffic1(clock,auto,principal,secondar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ock,a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,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fin_timer,inicio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 GREEN = 1'b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auto or fin_timer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auto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fin_timer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907920"/>
            <a:ext cx="3816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cio_timer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un detector de paridad en que los datos llegan de a un bit por ciclo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atos se agrupan en paquetes de cuatro donde el cuarto bit es el de p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número de 1s en los tres primeros bits es impar el cuarto bit será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paridad está incorrecta, una señal de error es levantada durante el cuarto ciclo de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a un reset asíncrono que deje la máquina de estados en el estado inicial 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olvide de inicializar las señales y/o variables nec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e la máquina de estados correspondiente y escriba el archivo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tches vs.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94040"/>
            <a:ext cx="4152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Latch: guarda los datos cuando el reloj (CLK) esta en nivel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4280" y="3081240"/>
            <a:ext cx="981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3271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5240" y="393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09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3118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7393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4880" y="31186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73720" y="3043080"/>
            <a:ext cx="8906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080" y="3233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4680" y="38941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271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37011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216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7600" y="3821040"/>
            <a:ext cx="133200" cy="85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897000"/>
            <a:ext cx="125640" cy="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2560" y="1994040"/>
            <a:ext cx="3594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Registro: guarda los datos cuando el reloj (CLK) s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290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862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04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86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167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99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771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43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8487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13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487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199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578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487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4902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4902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1760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5099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78556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855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con L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4920" y="3002040"/>
            <a:ext cx="180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252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16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N es transparent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191628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P es transparente cuand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3400560"/>
            <a:ext cx="79524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3320" y="3795840"/>
            <a:ext cx="2374560" cy="788760"/>
          </a:xfrm>
          <a:custGeom>
            <a:avLst/>
            <a:gdLst/>
            <a:ahLst/>
            <a:rect l="l" t="t" r="r" b="b"/>
            <a:pathLst>
              <a:path w="1496" h="497">
                <a:moveTo>
                  <a:pt x="0" y="249"/>
                </a:moveTo>
                <a:lnTo>
                  <a:pt x="4" y="221"/>
                </a:lnTo>
                <a:lnTo>
                  <a:pt x="16" y="196"/>
                </a:lnTo>
                <a:lnTo>
                  <a:pt x="35" y="171"/>
                </a:lnTo>
                <a:lnTo>
                  <a:pt x="63" y="147"/>
                </a:lnTo>
                <a:lnTo>
                  <a:pt x="99" y="124"/>
                </a:lnTo>
                <a:lnTo>
                  <a:pt x="141" y="101"/>
                </a:lnTo>
                <a:lnTo>
                  <a:pt x="192" y="82"/>
                </a:lnTo>
                <a:lnTo>
                  <a:pt x="247" y="63"/>
                </a:lnTo>
                <a:lnTo>
                  <a:pt x="308" y="46"/>
                </a:lnTo>
                <a:lnTo>
                  <a:pt x="374" y="31"/>
                </a:lnTo>
                <a:lnTo>
                  <a:pt x="444" y="21"/>
                </a:lnTo>
                <a:lnTo>
                  <a:pt x="518" y="10"/>
                </a:lnTo>
                <a:lnTo>
                  <a:pt x="592" y="4"/>
                </a:lnTo>
                <a:lnTo>
                  <a:pt x="670" y="0"/>
                </a:lnTo>
                <a:lnTo>
                  <a:pt x="748" y="0"/>
                </a:lnTo>
                <a:lnTo>
                  <a:pt x="826" y="0"/>
                </a:lnTo>
                <a:lnTo>
                  <a:pt x="904" y="4"/>
                </a:lnTo>
                <a:lnTo>
                  <a:pt x="981" y="10"/>
                </a:lnTo>
                <a:lnTo>
                  <a:pt x="1052" y="21"/>
                </a:lnTo>
                <a:lnTo>
                  <a:pt x="1122" y="31"/>
                </a:lnTo>
                <a:lnTo>
                  <a:pt x="1188" y="46"/>
                </a:lnTo>
                <a:lnTo>
                  <a:pt x="1249" y="63"/>
                </a:lnTo>
                <a:lnTo>
                  <a:pt x="1304" y="82"/>
                </a:lnTo>
                <a:lnTo>
                  <a:pt x="1355" y="101"/>
                </a:lnTo>
                <a:lnTo>
                  <a:pt x="1397" y="124"/>
                </a:lnTo>
                <a:lnTo>
                  <a:pt x="1433" y="147"/>
                </a:lnTo>
                <a:lnTo>
                  <a:pt x="1461" y="171"/>
                </a:lnTo>
                <a:lnTo>
                  <a:pt x="1482" y="196"/>
                </a:lnTo>
                <a:lnTo>
                  <a:pt x="1494" y="221"/>
                </a:lnTo>
                <a:lnTo>
                  <a:pt x="1496" y="249"/>
                </a:lnTo>
                <a:lnTo>
                  <a:pt x="1494" y="274"/>
                </a:lnTo>
                <a:lnTo>
                  <a:pt x="1482" y="299"/>
                </a:lnTo>
                <a:lnTo>
                  <a:pt x="1461" y="325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4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49"/>
                </a:lnTo>
                <a:lnTo>
                  <a:pt x="1122" y="464"/>
                </a:lnTo>
                <a:lnTo>
                  <a:pt x="1052" y="476"/>
                </a:lnTo>
                <a:lnTo>
                  <a:pt x="981" y="485"/>
                </a:lnTo>
                <a:lnTo>
                  <a:pt x="904" y="491"/>
                </a:lnTo>
                <a:lnTo>
                  <a:pt x="826" y="495"/>
                </a:lnTo>
                <a:lnTo>
                  <a:pt x="748" y="497"/>
                </a:lnTo>
                <a:lnTo>
                  <a:pt x="670" y="495"/>
                </a:lnTo>
                <a:lnTo>
                  <a:pt x="592" y="491"/>
                </a:lnTo>
                <a:lnTo>
                  <a:pt x="518" y="485"/>
                </a:lnTo>
                <a:lnTo>
                  <a:pt x="444" y="476"/>
                </a:lnTo>
                <a:lnTo>
                  <a:pt x="374" y="464"/>
                </a:lnTo>
                <a:lnTo>
                  <a:pt x="308" y="449"/>
                </a:lnTo>
                <a:lnTo>
                  <a:pt x="247" y="434"/>
                </a:lnTo>
                <a:lnTo>
                  <a:pt x="192" y="415"/>
                </a:lnTo>
                <a:lnTo>
                  <a:pt x="141" y="394"/>
                </a:lnTo>
                <a:lnTo>
                  <a:pt x="99" y="373"/>
                </a:lnTo>
                <a:lnTo>
                  <a:pt x="63" y="350"/>
                </a:lnTo>
                <a:lnTo>
                  <a:pt x="35" y="325"/>
                </a:lnTo>
                <a:lnTo>
                  <a:pt x="16" y="299"/>
                </a:lnTo>
                <a:lnTo>
                  <a:pt x="4" y="274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3320" y="5375160"/>
            <a:ext cx="2374560" cy="790560"/>
          </a:xfrm>
          <a:custGeom>
            <a:avLst/>
            <a:gdLst/>
            <a:ahLst/>
            <a:rect l="l" t="t" r="r" b="b"/>
            <a:pathLst>
              <a:path w="1496" h="498">
                <a:moveTo>
                  <a:pt x="0" y="249"/>
                </a:moveTo>
                <a:lnTo>
                  <a:pt x="4" y="224"/>
                </a:lnTo>
                <a:lnTo>
                  <a:pt x="16" y="198"/>
                </a:lnTo>
                <a:lnTo>
                  <a:pt x="35" y="173"/>
                </a:lnTo>
                <a:lnTo>
                  <a:pt x="63" y="148"/>
                </a:lnTo>
                <a:lnTo>
                  <a:pt x="99" y="124"/>
                </a:lnTo>
                <a:lnTo>
                  <a:pt x="141" y="103"/>
                </a:lnTo>
                <a:lnTo>
                  <a:pt x="192" y="82"/>
                </a:lnTo>
                <a:lnTo>
                  <a:pt x="247" y="63"/>
                </a:lnTo>
                <a:lnTo>
                  <a:pt x="308" y="49"/>
                </a:lnTo>
                <a:lnTo>
                  <a:pt x="374" y="34"/>
                </a:lnTo>
                <a:lnTo>
                  <a:pt x="444" y="21"/>
                </a:lnTo>
                <a:lnTo>
                  <a:pt x="518" y="13"/>
                </a:lnTo>
                <a:lnTo>
                  <a:pt x="592" y="6"/>
                </a:lnTo>
                <a:lnTo>
                  <a:pt x="670" y="2"/>
                </a:lnTo>
                <a:lnTo>
                  <a:pt x="748" y="0"/>
                </a:lnTo>
                <a:lnTo>
                  <a:pt x="826" y="2"/>
                </a:lnTo>
                <a:lnTo>
                  <a:pt x="904" y="6"/>
                </a:lnTo>
                <a:lnTo>
                  <a:pt x="981" y="13"/>
                </a:lnTo>
                <a:lnTo>
                  <a:pt x="1052" y="21"/>
                </a:lnTo>
                <a:lnTo>
                  <a:pt x="1122" y="34"/>
                </a:lnTo>
                <a:lnTo>
                  <a:pt x="1188" y="49"/>
                </a:lnTo>
                <a:lnTo>
                  <a:pt x="1249" y="63"/>
                </a:lnTo>
                <a:lnTo>
                  <a:pt x="1304" y="82"/>
                </a:lnTo>
                <a:lnTo>
                  <a:pt x="1355" y="103"/>
                </a:lnTo>
                <a:lnTo>
                  <a:pt x="1397" y="124"/>
                </a:lnTo>
                <a:lnTo>
                  <a:pt x="1433" y="148"/>
                </a:lnTo>
                <a:lnTo>
                  <a:pt x="1461" y="173"/>
                </a:lnTo>
                <a:lnTo>
                  <a:pt x="1482" y="198"/>
                </a:lnTo>
                <a:lnTo>
                  <a:pt x="1494" y="224"/>
                </a:lnTo>
                <a:lnTo>
                  <a:pt x="1496" y="249"/>
                </a:lnTo>
                <a:lnTo>
                  <a:pt x="1494" y="276"/>
                </a:lnTo>
                <a:lnTo>
                  <a:pt x="1482" y="302"/>
                </a:lnTo>
                <a:lnTo>
                  <a:pt x="1461" y="327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6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51"/>
                </a:lnTo>
                <a:lnTo>
                  <a:pt x="1122" y="464"/>
                </a:lnTo>
                <a:lnTo>
                  <a:pt x="1052" y="477"/>
                </a:lnTo>
                <a:lnTo>
                  <a:pt x="981" y="487"/>
                </a:lnTo>
                <a:lnTo>
                  <a:pt x="904" y="493"/>
                </a:lnTo>
                <a:lnTo>
                  <a:pt x="826" y="498"/>
                </a:lnTo>
                <a:lnTo>
                  <a:pt x="748" y="498"/>
                </a:lnTo>
                <a:lnTo>
                  <a:pt x="670" y="498"/>
                </a:lnTo>
                <a:lnTo>
                  <a:pt x="592" y="493"/>
                </a:lnTo>
                <a:lnTo>
                  <a:pt x="518" y="487"/>
                </a:lnTo>
                <a:lnTo>
                  <a:pt x="444" y="477"/>
                </a:lnTo>
                <a:lnTo>
                  <a:pt x="374" y="464"/>
                </a:lnTo>
                <a:lnTo>
                  <a:pt x="308" y="451"/>
                </a:lnTo>
                <a:lnTo>
                  <a:pt x="247" y="434"/>
                </a:lnTo>
                <a:lnTo>
                  <a:pt x="192" y="415"/>
                </a:lnTo>
                <a:lnTo>
                  <a:pt x="141" y="396"/>
                </a:lnTo>
                <a:lnTo>
                  <a:pt x="99" y="373"/>
                </a:lnTo>
                <a:lnTo>
                  <a:pt x="63" y="350"/>
                </a:lnTo>
                <a:lnTo>
                  <a:pt x="35" y="327"/>
                </a:lnTo>
                <a:lnTo>
                  <a:pt x="16" y="302"/>
                </a:lnTo>
                <a:lnTo>
                  <a:pt x="4" y="276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4760" y="406080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88200" y="3400560"/>
            <a:ext cx="79200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6240" y="4191120"/>
            <a:ext cx="29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7880" y="4191120"/>
            <a:ext cx="300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37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3002040"/>
            <a:ext cx="49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002040"/>
            <a:ext cx="144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70280" y="2975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9" y="0"/>
                </a:moveTo>
                <a:lnTo>
                  <a:pt x="26" y="2"/>
                </a:lnTo>
                <a:lnTo>
                  <a:pt x="32" y="4"/>
                </a:lnTo>
                <a:lnTo>
                  <a:pt x="34" y="11"/>
                </a:lnTo>
                <a:lnTo>
                  <a:pt x="36" y="19"/>
                </a:lnTo>
                <a:lnTo>
                  <a:pt x="34" y="26"/>
                </a:lnTo>
                <a:lnTo>
                  <a:pt x="32" y="32"/>
                </a:lnTo>
                <a:lnTo>
                  <a:pt x="26" y="34"/>
                </a:lnTo>
                <a:lnTo>
                  <a:pt x="19" y="36"/>
                </a:lnTo>
                <a:lnTo>
                  <a:pt x="11" y="34"/>
                </a:lnTo>
                <a:lnTo>
                  <a:pt x="5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5" y="4"/>
                </a:lnTo>
                <a:lnTo>
                  <a:pt x="11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00520" y="296856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5" y="6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7" y="11"/>
                </a:lnTo>
                <a:lnTo>
                  <a:pt x="9" y="13"/>
                </a:lnTo>
                <a:lnTo>
                  <a:pt x="11" y="15"/>
                </a:lnTo>
                <a:lnTo>
                  <a:pt x="13" y="23"/>
                </a:lnTo>
                <a:lnTo>
                  <a:pt x="13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0520" y="3005280"/>
            <a:ext cx="3312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1" y="0"/>
                </a:lnTo>
                <a:lnTo>
                  <a:pt x="13" y="0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3800" y="3005280"/>
            <a:ext cx="3672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6" y="15"/>
                </a:lnTo>
                <a:lnTo>
                  <a:pt x="13" y="21"/>
                </a:lnTo>
                <a:lnTo>
                  <a:pt x="23" y="21"/>
                </a:lnTo>
                <a:lnTo>
                  <a:pt x="23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63800" y="2968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23" y="0"/>
                </a:lnTo>
                <a:lnTo>
                  <a:pt x="13" y="0"/>
                </a:lnTo>
                <a:lnTo>
                  <a:pt x="6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3" y="8"/>
                </a:lnTo>
                <a:lnTo>
                  <a:pt x="23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4680" y="297504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9" y="0"/>
                </a:moveTo>
                <a:lnTo>
                  <a:pt x="25" y="2"/>
                </a:lnTo>
                <a:lnTo>
                  <a:pt x="31" y="4"/>
                </a:lnTo>
                <a:lnTo>
                  <a:pt x="33" y="11"/>
                </a:lnTo>
                <a:lnTo>
                  <a:pt x="35" y="19"/>
                </a:lnTo>
                <a:lnTo>
                  <a:pt x="33" y="26"/>
                </a:lnTo>
                <a:lnTo>
                  <a:pt x="31" y="32"/>
                </a:lnTo>
                <a:lnTo>
                  <a:pt x="25" y="34"/>
                </a:lnTo>
                <a:lnTo>
                  <a:pt x="19" y="36"/>
                </a:lnTo>
                <a:lnTo>
                  <a:pt x="10" y="34"/>
                </a:lnTo>
                <a:lnTo>
                  <a:pt x="4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4" y="4"/>
                </a:lnTo>
                <a:lnTo>
                  <a:pt x="10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4920" y="29685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4" y="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6" y="11"/>
                </a:lnTo>
                <a:lnTo>
                  <a:pt x="8" y="13"/>
                </a:lnTo>
                <a:lnTo>
                  <a:pt x="10" y="15"/>
                </a:lnTo>
                <a:lnTo>
                  <a:pt x="12" y="23"/>
                </a:lnTo>
                <a:lnTo>
                  <a:pt x="12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4920" y="30052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8" y="21"/>
                </a:lnTo>
                <a:lnTo>
                  <a:pt x="14" y="15"/>
                </a:lnTo>
                <a:lnTo>
                  <a:pt x="21" y="9"/>
                </a:lnTo>
                <a:lnTo>
                  <a:pt x="21" y="0"/>
                </a:lnTo>
                <a:lnTo>
                  <a:pt x="12" y="0"/>
                </a:lnTo>
                <a:lnTo>
                  <a:pt x="10" y="7"/>
                </a:lnTo>
                <a:lnTo>
                  <a:pt x="8" y="9"/>
                </a:lnTo>
                <a:lnTo>
                  <a:pt x="6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760" y="30052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7" y="15"/>
                </a:lnTo>
                <a:lnTo>
                  <a:pt x="13" y="21"/>
                </a:lnTo>
                <a:lnTo>
                  <a:pt x="24" y="21"/>
                </a:lnTo>
                <a:lnTo>
                  <a:pt x="24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46760" y="29685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4" y="0"/>
                </a:moveTo>
                <a:lnTo>
                  <a:pt x="24" y="0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23920" y="4191120"/>
            <a:ext cx="1589400" cy="1579320"/>
          </a:xfrm>
          <a:custGeom>
            <a:avLst/>
            <a:gdLst/>
            <a:ahLst/>
            <a:rect l="l" t="t" r="r" b="b"/>
            <a:pathLst>
              <a:path w="1001" h="995">
                <a:moveTo>
                  <a:pt x="1001" y="995"/>
                </a:moveTo>
                <a:lnTo>
                  <a:pt x="0" y="995"/>
                </a:ln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760" y="4191120"/>
            <a:ext cx="1487520" cy="1579320"/>
          </a:xfrm>
          <a:custGeom>
            <a:avLst/>
            <a:gdLst/>
            <a:ahLst/>
            <a:rect l="l" t="t" r="r" b="b"/>
            <a:pathLst>
              <a:path w="937" h="995">
                <a:moveTo>
                  <a:pt x="687" y="0"/>
                </a:moveTo>
                <a:lnTo>
                  <a:pt x="937" y="0"/>
                </a:lnTo>
                <a:lnTo>
                  <a:pt x="937" y="995"/>
                </a:lnTo>
                <a:lnTo>
                  <a:pt x="0" y="99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7880" y="571356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72"/>
                </a:moveTo>
                <a:lnTo>
                  <a:pt x="0" y="36"/>
                </a:lnTo>
                <a:lnTo>
                  <a:pt x="72" y="0"/>
                </a:lnTo>
                <a:lnTo>
                  <a:pt x="7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29000" y="2617920"/>
            <a:ext cx="18396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7720" y="2610000"/>
            <a:ext cx="18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4760" y="561816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tches Basados en Multiplex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08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neg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256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91040" y="52164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6240" y="2930400"/>
            <a:ext cx="1735200" cy="103212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8360" y="3703680"/>
            <a:ext cx="210960" cy="13320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5360" y="396252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2280" y="4478400"/>
            <a:ext cx="62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38360" y="4414680"/>
            <a:ext cx="210960" cy="12564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8560" y="483696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4673520"/>
            <a:ext cx="133200" cy="203400"/>
          </a:xfrm>
          <a:custGeom>
            <a:avLst/>
            <a:gdLst/>
            <a:ahLst/>
            <a:rect l="l" t="t" r="r" b="b"/>
            <a:pathLst>
              <a:path w="17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7" y="26"/>
                  <a:pt x="17" y="26"/>
                  <a:pt x="17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3640" y="3629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43640" y="4336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9240" y="433692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5640" y="3575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2854440"/>
            <a:ext cx="1734840" cy="103176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4880" y="3627360"/>
            <a:ext cx="209520" cy="13356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388620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697360" y="4402080"/>
            <a:ext cx="625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84880" y="4338720"/>
            <a:ext cx="209520" cy="1252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21560" y="4761000"/>
            <a:ext cx="144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4597560"/>
            <a:ext cx="125280" cy="203040"/>
          </a:xfrm>
          <a:custGeom>
            <a:avLst/>
            <a:gdLst/>
            <a:ahLst/>
            <a:rect l="l" t="t" r="r" b="b"/>
            <a:pathLst>
              <a:path w="16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90160" y="3552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9000" y="514044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90160" y="42609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07560" y="426096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3960" y="349884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7520" y="5697360"/>
                <a:ext cx="2514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80040" y="567360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istro Maestro – Escl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891560" cy="26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34160" y="5084640"/>
            <a:ext cx="49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latches opuestos gatillan en el c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lamado par de latches maestro – escl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5800" y="2527200"/>
            <a:ext cx="8245440" cy="2264400"/>
            <a:chOff x="415800" y="2527200"/>
            <a:chExt cx="8245440" cy="2264400"/>
          </a:xfrm>
        </p:grpSpPr>
        <p:sp>
          <p:nvSpPr>
            <p:cNvPr id="349" name=""/>
            <p:cNvSpPr/>
            <p:nvPr/>
          </p:nvSpPr>
          <p:spPr>
            <a:xfrm>
              <a:off x="654120" y="2527200"/>
              <a:ext cx="1412640" cy="1990800"/>
            </a:xfrm>
            <a:custGeom>
              <a:avLst/>
              <a:gdLst/>
              <a:ahLst/>
              <a:rect l="l" t="t" r="r" b="b"/>
              <a:pathLst>
                <a:path w="227" h="320">
                  <a:moveTo>
                    <a:pt x="227" y="284"/>
                  </a:moveTo>
                  <a:cubicBezTo>
                    <a:pt x="227" y="304"/>
                    <a:pt x="210" y="320"/>
                    <a:pt x="191" y="320"/>
                  </a:cubicBezTo>
                  <a:cubicBezTo>
                    <a:pt x="36" y="320"/>
                    <a:pt x="36" y="320"/>
                    <a:pt x="36" y="320"/>
                  </a:cubicBezTo>
                  <a:cubicBezTo>
                    <a:pt x="16" y="320"/>
                    <a:pt x="0" y="304"/>
                    <a:pt x="0" y="28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210" y="0"/>
                    <a:pt x="227" y="16"/>
                    <a:pt x="227" y="36"/>
                  </a:cubicBezTo>
                  <a:lnTo>
                    <a:pt x="227" y="28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3880" y="4486320"/>
              <a:ext cx="191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ado prohib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4040" y="291924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4320" y="2676600"/>
              <a:ext cx="633240" cy="5713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85720" y="2832120"/>
              <a:ext cx="534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2000" y="3092400"/>
              <a:ext cx="3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10800" y="296244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7960" y="29257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840" y="2720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4972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9160" y="31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4972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73544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73544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720" y="35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5880" y="31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05160" y="28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286236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880" y="3576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7080" y="3584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7600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0160" y="2597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0840" y="259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72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12120" y="260208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600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12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08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272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12120" y="308124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636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12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508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4308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36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12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508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308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636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412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508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4308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4040" y="396396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4320" y="3720960"/>
              <a:ext cx="633240" cy="5731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91640" y="3882960"/>
              <a:ext cx="32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360" y="4138560"/>
              <a:ext cx="52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10800" y="400860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47960" y="39704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5800" y="4027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5160" y="3898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000" y="3000240"/>
              <a:ext cx="1194120" cy="882720"/>
            </a:xfrm>
            <a:custGeom>
              <a:avLst/>
              <a:gdLst/>
              <a:ahLst/>
              <a:rect l="l" t="t" r="r" b="b"/>
              <a:pathLst>
                <a:path w="752" h="556">
                  <a:moveTo>
                    <a:pt x="752" y="0"/>
                  </a:moveTo>
                  <a:lnTo>
                    <a:pt x="752" y="196"/>
                  </a:lnTo>
                  <a:lnTo>
                    <a:pt x="0" y="364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000" y="3092400"/>
              <a:ext cx="1194120" cy="878040"/>
            </a:xfrm>
            <a:custGeom>
              <a:avLst/>
              <a:gdLst/>
              <a:ahLst/>
              <a:rect l="l" t="t" r="r" b="b"/>
              <a:pathLst>
                <a:path w="752" h="553">
                  <a:moveTo>
                    <a:pt x="0" y="0"/>
                  </a:moveTo>
                  <a:lnTo>
                    <a:pt x="0" y="192"/>
                  </a:lnTo>
                  <a:lnTo>
                    <a:pt x="752" y="361"/>
                  </a:lnTo>
                  <a:lnTo>
                    <a:pt x="752" y="5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4680" y="2975040"/>
              <a:ext cx="950760" cy="9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0" y="4002120"/>
              <a:ext cx="231444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46800" y="2932200"/>
              <a:ext cx="231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504200" y="2595600"/>
              <a:ext cx="1440" cy="17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87920" y="4238280"/>
              <a:ext cx="6415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1280" y="4206960"/>
              <a:ext cx="125280" cy="745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7" y="1"/>
                    <a:pt x="20" y="0"/>
                  </a:cubicBezTo>
                  <a:cubicBezTo>
                    <a:pt x="17" y="2"/>
                    <a:pt x="14" y="4"/>
                    <a:pt x="11" y="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90720" y="2689200"/>
            <a:ext cx="2300040" cy="1700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733920" y="200340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77640" y="1611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9T15:02:25Z</dcterms:modified>
  <cp:revision>234</cp:revision>
  <dc:subject/>
  <dc:title>EL 6XX</dc:title>
</cp:coreProperties>
</file>