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EF69-8FAC-4573-9307-B67FEAEE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41C4-C340-41BF-9F9D-70D8F318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1AB9-C073-4291-AFAE-5B351D84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2A70D-76B3-413D-8B9A-0F11C1DC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E127-4C95-4FDF-B095-F5811435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9FE2-D6E0-4FE5-8832-535CB243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213F-238B-4869-A029-A15D70DC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01B7-2BC2-4947-BCF5-29349726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B2EA-AE9F-477B-8E4B-938688BE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DB31-D40C-4D32-BF37-393F3CFB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A4F7-417A-45E1-B14C-00273885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1B4F-B70E-4965-B819-74349777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2618-EC92-48AA-94B5-5C09B1C4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E3E2-E8AA-4736-B5C3-B8D48A40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90B5-E2E0-4EF1-BC90-B8728EB2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1417-8C59-4F8D-9F3B-02778689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53AC-FEBA-4C05-AF62-259F20E5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B1DEF-2FFD-4F0F-B5A9-036D9309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90F2-AA06-4E57-AAB6-6C859181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1946-7C8B-4889-85DD-72B5C458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70B7-1DAB-417E-91BC-6378FD12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AD6E-FF49-411B-8D3D-CDE6216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BA27C-B896-4E89-B780-068D856A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8F23-B599-4268-97FB-C789773E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B259-A93F-4977-8492-1AC681CC784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D683-2D80-475E-97EE-00E64B1BC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542C-BB75-438B-8048-008D2722C26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3A66-1AE5-4F81-A608-885E2AD4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0000" y="42667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IC Desig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4880" y="4889520"/>
            <a:ext cx="613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Advanced ASIC Chip Synthesis using Synopsys”, Himanshu Bhatnaga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L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evels of abstraction my be used to represent the design: behavioral, RTL, and struc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is used primarily for translating the architectural specification to a code that can be sim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is used to explore the authenticity and feasibility of the chosen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L describes and infers the structural components and their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L describes the functionality of the design and is synthesizable to produce the structural ne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RTL code is performed to check the functionality of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ign is surrounded by a test bench ready for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benches are written in behavioral HDL (Verilog or VH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test bench is to provide necessary stimuli to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 of the design is dependant on the number of tests performed and the quality of the test b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484360" y="3375000"/>
            <a:ext cx="3600360" cy="266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4670280"/>
            <a:ext cx="3024360" cy="1152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L simulation doesn’t consider componen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inimize the differences between RTL and gate level simulation, delays are added into the RTL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3591000"/>
            <a:ext cx="115272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591000"/>
            <a:ext cx="115272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4815000"/>
            <a:ext cx="115272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5080" y="474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81360" y="335772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735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395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4238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068640"/>
            <a:ext cx="417672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08280" y="306864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B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2123640" y="4005360"/>
            <a:ext cx="3628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 Stimu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6082920" y="3790440"/>
            <a:ext cx="3628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ultant Out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6836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58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5589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3718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6836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718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71640" y="522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522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522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44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84720" y="378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378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28472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 and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st, HDLs were used for logic verification, Designers manually translated HDL into schematics and draw the inter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 tools renders the manual tasks obsol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 reduces the RTL to a gate 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ing a design is an iterative process starting with the timing constraints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constraints define the relationship of each signal with the clock input for a particula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 and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also needs a file specifying the environment (e.g. technology libra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produces a gate level netlist from the RTL code using a cell library, timing constraints, and environm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3500280"/>
            <a:ext cx="100800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TL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3502080"/>
            <a:ext cx="1008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ell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48360" y="3500280"/>
            <a:ext cx="136836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nvironment &amp; timing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734080"/>
            <a:ext cx="122400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Gate level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35280" y="4581360"/>
            <a:ext cx="863640" cy="79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414972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4941720"/>
            <a:ext cx="1150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414972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4941720"/>
            <a:ext cx="1293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414972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53737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esigns incorporate design-for-test (DTF) logic to test functionality after the chip is fabr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IST (built-in-self-test): synthesizable RTL based upon controller logic and incorporated in the design before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insertion: maps the RTL directly to scan-flops, before linking them in a scan-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y scan (JTAG): used for test the board connection without unplugging the chip from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a validation of a design using mathematic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for logic functions of a design by comparing it against the referenc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methods verifies the design by proving that the two descriptions are log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s RTL against RTL, gate level against RTL, and gate level against gat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Timing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he user to exhaustively analyze all critical paths of th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information about capacitive loading (fan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n iterativ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353880"/>
            <a:ext cx="4326120" cy="6170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83160" y="1771560"/>
            <a:ext cx="268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: Static timing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: Clock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: Synopsys Design 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and electrica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 coding and simulation test bench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T (design for test) memory BIST (built-in self test) insertion, for design containing memory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austive dynamic simulation of the design, in order to verify the functionality of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nvironment settings (technology library and other environment attrib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ing and synthesizing the design with scan in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level static tim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verification of the design (RTL against synthesized net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layout static timing analysis on the ful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annotation of timing constraints to the layout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floorplanning with timing driven placement of cells, clock tree insertion and global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of clock tree to the original design (net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verification between the synthesized netlist and clock tree inserted net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ion of estimated timing delays from the layout after the global routing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annotation of estimated timing data from the global rout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timing analysis using the estimated delays extracted after performing global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routing of th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 of real timing delays from the detailed rou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annotation of the real extracted data from the detailed rou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layout static tim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gate level simulation of the design with post - layou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out after LVS (layout-versus-schematic) and DRC (design rule checking)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design starts with the conception of an idea dictated by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s are translated to architectural and electrical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pecification defines the functionality of the chip as well as the partition into several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specification defines the relationship between the blocks in terms of tim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L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specifications are made, design continues with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st implementation was done manually drawing schematics (components of a cell libr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design was time consuming and impractical for design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are used today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 are mostly us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7-01-05T18:36:53Z</dcterms:modified>
  <cp:revision>167</cp:revision>
  <dc:subject/>
  <dc:title>EL 6XX</dc:title>
</cp:coreProperties>
</file>