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80A7-81F6-42D9-B5A3-478CC328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56F4-A18A-4074-A926-1D255644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EC5D-40FC-4AD0-804A-8A659247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E933-09FB-465C-9271-9ACFA853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6239-74CC-42EB-9C5F-979C428F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3426-738D-4B62-AEC8-A4809364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67B9-74B4-4297-8584-EE3BBF87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F8AF-34C5-4A3D-B491-FC2D9103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DEBF-C65C-490A-8C25-F244934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0B69-58FF-417F-939D-F29288C3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AD06-88FA-4EC0-860E-CE410EB7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DF2E-83D0-4BDA-B77F-CABB6239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8DF4-2DEE-48C8-8377-06FB2F64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CDB9-3AE2-4A06-B658-55736845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83A4-68B5-4289-8E37-35AE9038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5B7B-A7EE-4027-98C3-1286FA7C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F020-D0EF-43A3-B491-D2CCF2AF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8258-A698-437D-8F3B-0A24870A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6C80-7BD7-443F-BC02-060C7A50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F7EA-FEA5-46EA-A3AE-60D2E5E9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708B-B660-4FD1-A7EB-9C12CCCE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6A6D-F3ED-4D67-82CC-BEE0945F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EDE1-50D4-4A7D-B5FF-A1A352F6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BC8F-05FB-4045-897E-B3863FBD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C771-9262-4B70-B332-C2C4896EA63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5627-42AE-466E-8B8B-FD3BE34E0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798-E343-4A75-94F2-836773D2410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BC88-A803-4B92-82C7-CB722AA1C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0000" y="42667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Transfer Level Design with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9200" y="4889520"/>
            <a:ext cx="485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Verilog Digital System Design”, Zainalabedin Navab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349360"/>
            <a:ext cx="7489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Mux8 (sel, data1, data0, bus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[7:0] data1, data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se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7:0] bu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6 ns delay for all values assigned to bu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bus1 = data1 if sel = 1, else bus1 = dat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ssign #6 bus1 = sel ? data1 : data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lip Fl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2349360"/>
            <a:ext cx="7489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Flop (reset, din, clk, q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reset, din, 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q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lways @ (nededge clk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f (reset) qout &lt;= #8 1’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else qout &lt;= #8 d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er (4 bits modulo 16 count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06064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4 (reset, clk, cou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reset, 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 [3:0]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3:0] coun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@ (nededge clk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et) count &lt;= #3 4’b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count &lt;= #5 count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 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060640"/>
            <a:ext cx="7489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4 (a, b, sum, c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a,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 sum, c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sign #5 sum = a ^ b ^ c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sign #3 cout = (a &amp; b) | (a &amp; cin) | (b &amp; cin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844640"/>
            <a:ext cx="74898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hiftRegister8 (sl, sr, clk, ParIn, m, ParOu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sl, sr,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7:0] Par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1:0] 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[7:0] Par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[7:0] Par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ned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case 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0: ParOut &lt;= Par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1: ParOut &lt;= {sl, ParOut [7:1]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2: ParOut &lt;= {ParOut [6:0], sr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3: ParOut &lt;= Par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default: ParOut &lt;= 8’b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844640"/>
            <a:ext cx="74898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ALU8 (left, right, mode, ALUou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7:0] left,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1:0] mod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[7:0] ALU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[7:0] ALU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left, right, mode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case (m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0: ALUout &lt;= left +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1: ALUout &lt;= left -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2: ALUout &lt;= left &amp;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3: ALUout &lt;= left |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default: ALUout &lt;= 8’b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al Hardware - Inter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130480"/>
            <a:ext cx="504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LU8 U1 (.left(Inbus), .right(Abinput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mode(function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ALUout(Outbus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Mux8 U2 (.sel(select_sourc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data1(Asid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data0(Bside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456000" cy="3124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4403880"/>
            <a:ext cx="50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LU8 U1 (Inbus, Abinput, func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bu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Mux8 U2 (select_source, Aside, Bsi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d to the data part to control its flow of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s easy as one flip-flop, handshaking handlers, or as complex as several concurrent stat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er – used to synchronize incoming data with a given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detector – good representation for the general class of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84720" y="1989000"/>
            <a:ext cx="2663640" cy="136872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isions based on inputs, outputs,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43280" y="3789360"/>
            <a:ext cx="1944720" cy="50472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sue control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3280" y="4653000"/>
            <a:ext cx="1944720" cy="50472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 nex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43280" y="5516640"/>
            <a:ext cx="1944720" cy="50472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nex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3357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51577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602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16360" y="623736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00720" y="1699920"/>
            <a:ext cx="0" cy="453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16000" y="170028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16360" y="17002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synchronize incoming data with a given 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design is referred to take a high level design of a design, partition it, describe and implement various component of the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 a circuit is composed by a data part and a control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rt consists of data components and the bussing structure of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art is usually a state machine generating control signals that control the flow of data in the data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69840" y="3592440"/>
            <a:ext cx="7489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Synchronizer (clk, adata, synche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input clk, a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output synch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reg synch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always @ (posedge clk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if (adata == 0) synched &lt;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else synched &lt;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00000" y="1871640"/>
            <a:ext cx="72723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1844640"/>
            <a:ext cx="230508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110 is detected on a, then w gets 1, else w gets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24192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41920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41640" y="248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34040" y="2486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3571920"/>
            <a:ext cx="11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340000" y="29952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8400" y="3133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72010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1844640"/>
            <a:ext cx="74898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Detector110 (a, clk, reset, 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a, clk, res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parameter [1:0] s0=2’b00, s1=2’b01, s2=2’b10, s3=2’b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[1:0]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f (reset) current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case (curr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0: if (a) current&lt;= s1; else current &lt;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1: if (a) current&lt;= s2; else current &lt;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2: if (a) current&lt;= s2; else current &lt;= s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3: if (a) current&lt;= s1; else current &lt;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assign w &lt;= (current == s3) ? 1 :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 Detector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844640"/>
            <a:ext cx="7489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Detector110Test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aa, clock, rst;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wire w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tector110 UUT (aa, clock, rst, w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aa= 0; clock = 0; rst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tial repeat (44) #7 closk = ~clo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itial repeat (15) #23 aa = ~a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#31 rst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#23 rst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always @ (ww) if (ww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$display (“A 1 was detected on w at time = %t”, $tim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/ Data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1859040"/>
            <a:ext cx="84960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Part / Data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part consist of the interconnection of data components and bu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external data inputs and outputs, and control inputs and outputs from and to the control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component has control signals that control its clocking and/or its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ses have control signals that select their sources and routing of data from one data component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aPath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349360"/>
            <a:ext cx="7489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DataPath (DataInput, DataOutput, Flags, Opcod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rolSigna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[15:0] DataInpu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15:0]DataOutpu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Flags, Status1, Status2, ..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Opcod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ControlSigna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instantiation of data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interconnection of data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bussing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a Component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349360"/>
            <a:ext cx="7489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DataComponent (DataIn, DataOut, ControlSigna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[7:0] Data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7:0]Data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ControlSigna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Depending on Control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operate on Da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and produce Data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Part / Control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control inputs from the data part and external control inputs and depending on its state makes decisions as to when and what control signals to 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 of one or more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state of th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decisions based on the current data and dat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how data is routed and what operations are performed on the data in the data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rol Unit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349360"/>
            <a:ext cx="7489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ntrolUnit (Flags, Opcodes,ExternalControl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rolSigna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Flags, Status1, Status2, ..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Opcod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ExternalContro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ControlSigna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Based on inputs dec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what control signals to 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and what next state to 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generally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s for bu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for data sto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flops for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units for arithmetical and/or llogic operations 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10-04T22:40:37Z</dcterms:modified>
  <cp:revision>213</cp:revision>
  <dc:subject/>
  <dc:title>EL 6XX</dc:title>
</cp:coreProperties>
</file>