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wmf" ContentType="image/x-wmf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907588" cy="6858000"/>
  <p:notesSz cx="9291638" cy="7005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1875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762120"/>
          </a:xfrm>
          <a:prstGeom prst="rect">
            <a:avLst/>
          </a:prstGeom>
          <a:gradFill rotWithShape="0">
            <a:gsLst>
              <a:gs pos="0">
                <a:srgbClr val="b9c7e2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73800"/>
            <a:ext cx="9906120" cy="484200"/>
          </a:xfrm>
          <a:prstGeom prst="rect">
            <a:avLst/>
          </a:prstGeom>
          <a:gradFill rotWithShape="0">
            <a:gsLst>
              <a:gs pos="0">
                <a:srgbClr val="00008a"/>
              </a:gs>
              <a:gs pos="100000">
                <a:srgbClr val="b7b7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762120"/>
            <a:ext cx="9906120" cy="56116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1920" y="-3348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340760" y="6359400"/>
            <a:ext cx="2610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EM735 Mercados Internacionales de la Energí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Dr.-Ing. Rodrigo Palma Behnk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Depto. de Ingeniería Eléctr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Universidad de Chile  /  Primavera 200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45520" y="1070640"/>
            <a:ext cx="20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0"/>
                </a:solidFill>
                <a:uFillTx/>
                <a:latin typeface="Comic Sans MS"/>
              </a:rPr>
              <a:t>CONTEN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1120" y="18936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EM735 Mercados Internacionales de la Energí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0160" y="1976400"/>
            <a:ext cx="94946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400" spc="-1" strike="noStrike">
                <a:solidFill>
                  <a:srgbClr val="fc0128"/>
                </a:solidFill>
                <a:latin typeface="Comic Sans MS"/>
              </a:rPr>
              <a:t>Capítulo 7: Herramientas de Aná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7.1   Evolución de modelos y herramientas de análi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7.2  Modelamiento de un mercado competi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7.3  Modelación de la operación / Casos de apl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7.4  Modelación de la inversión / Casos de apl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7.5  Sistemas de monitoreo de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2271600" y="1695600"/>
            <a:ext cx="5243760" cy="2004840"/>
            <a:chOff x="2271600" y="1695600"/>
            <a:chExt cx="5243760" cy="2004840"/>
          </a:xfrm>
        </p:grpSpPr>
        <p:graphicFrame>
          <p:nvGraphicFramePr>
            <p:cNvPr id="201" name=""/>
            <p:cNvGraphicFramePr/>
            <p:nvPr/>
          </p:nvGraphicFramePr>
          <p:xfrm>
            <a:off x="2271600" y="1695600"/>
            <a:ext cx="5243760" cy="2004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71600" y="1695600"/>
                      <a:ext cx="5243760" cy="200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3" name=""/>
            <p:cNvSpPr/>
            <p:nvPr/>
          </p:nvSpPr>
          <p:spPr>
            <a:xfrm>
              <a:off x="2349360" y="3194280"/>
              <a:ext cx="9036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ae00"/>
                  </a:solidFill>
                  <a:latin typeface="Comic Sans MS"/>
                </a:rPr>
                <a:t>GENERAD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127320" y="3194280"/>
              <a:ext cx="1157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ae00"/>
                  </a:solidFill>
                  <a:latin typeface="Comic Sans MS"/>
                </a:rPr>
                <a:t>TRANSFORMAD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73560" y="3186360"/>
              <a:ext cx="90324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ae00"/>
                  </a:solidFill>
                  <a:latin typeface="Comic Sans MS"/>
                </a:rPr>
                <a:t>CARG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15040" y="3184560"/>
              <a:ext cx="90324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ae00"/>
                  </a:solidFill>
                  <a:latin typeface="Comic Sans MS"/>
                </a:rPr>
                <a:t>BARR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483240" y="3186360"/>
              <a:ext cx="90324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ae00"/>
                  </a:solidFill>
                  <a:latin typeface="Comic Sans MS"/>
                </a:rPr>
                <a:t>LINE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8" name=""/>
          <p:cNvGraphicFramePr/>
          <p:nvPr/>
        </p:nvGraphicFramePr>
        <p:xfrm>
          <a:off x="1839960" y="4044960"/>
          <a:ext cx="6256440" cy="198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9960" y="4044960"/>
                    <a:ext cx="6256440" cy="19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2014560" y="5513400"/>
            <a:ext cx="9032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ae00"/>
                </a:solidFill>
                <a:latin typeface="Comic Sans MS"/>
              </a:rPr>
              <a:t>AFLUE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17800" y="5513400"/>
            <a:ext cx="903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c0128"/>
                </a:solidFill>
                <a:latin typeface="Comic Sans MS"/>
              </a:rPr>
              <a:t>UNIDAD DE EMB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67120" y="5513400"/>
            <a:ext cx="9032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Comic Sans MS"/>
              </a:rPr>
              <a:t>UNIDAD SER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70360" y="5514840"/>
            <a:ext cx="903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cc66"/>
                </a:solidFill>
                <a:latin typeface="Comic Sans MS"/>
              </a:rPr>
              <a:t>CANAL DE REGADÍ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556240" y="5514840"/>
            <a:ext cx="903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ff66"/>
                </a:solidFill>
                <a:latin typeface="Comic Sans MS"/>
              </a:rPr>
              <a:t>CENTRAL DE PASADA PU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59480" y="5504040"/>
            <a:ext cx="903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618ffd"/>
                </a:solidFill>
                <a:latin typeface="Comic Sans MS"/>
              </a:rPr>
              <a:t>CONVENIO DE REGADÍ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61280" y="5514840"/>
            <a:ext cx="903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ccffff"/>
                </a:solidFill>
                <a:latin typeface="Comic Sans MS"/>
              </a:rPr>
              <a:t>ENLACE HIDRÁULIC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34800" y="857160"/>
            <a:ext cx="9259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8a"/>
                </a:solidFill>
                <a:latin typeface="Comic Sans MS"/>
              </a:rPr>
              <a:t>Objetos Involucrados en PLP (nuevos y existen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8040" y="240480"/>
            <a:ext cx="67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7.2 Modelamiento de un mercado competitivo (V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4240" y="6402960"/>
            <a:ext cx="5700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7. Herramientas de Aná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34800" y="857160"/>
            <a:ext cx="9259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8a"/>
                </a:solidFill>
                <a:latin typeface="Comic Sans MS"/>
              </a:rPr>
              <a:t>Variaciones Objetos Hidrául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92120" y="1616040"/>
            <a:ext cx="4914720" cy="2125800"/>
            <a:chOff x="492120" y="1616040"/>
            <a:chExt cx="4914720" cy="2125800"/>
          </a:xfrm>
        </p:grpSpPr>
        <p:graphicFrame>
          <p:nvGraphicFramePr>
            <p:cNvPr id="222" name=""/>
            <p:cNvGraphicFramePr/>
            <p:nvPr/>
          </p:nvGraphicFramePr>
          <p:xfrm>
            <a:off x="492120" y="1616040"/>
            <a:ext cx="4914720" cy="212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92120" y="1616040"/>
                      <a:ext cx="4914720" cy="212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4" name=""/>
            <p:cNvSpPr/>
            <p:nvPr/>
          </p:nvSpPr>
          <p:spPr>
            <a:xfrm>
              <a:off x="730080" y="3282840"/>
              <a:ext cx="90324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c0128"/>
                  </a:solidFill>
                  <a:latin typeface="Comic Sans MS"/>
                </a:rPr>
                <a:t>PUR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633320" y="3240000"/>
              <a:ext cx="101952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c0128"/>
                  </a:solidFill>
                  <a:latin typeface="Comic Sans MS"/>
                </a:rPr>
                <a:t>CON FILTRACIONES NORMAL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3270240"/>
              <a:ext cx="9032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c0128"/>
                  </a:solidFill>
                  <a:latin typeface="Comic Sans MS"/>
                </a:rPr>
                <a:t>ASOCIADO A GENERADOR ELÉCTRIC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83080" y="3205080"/>
              <a:ext cx="15271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c0128"/>
                  </a:solidFill>
                  <a:latin typeface="Comic Sans MS"/>
                </a:rPr>
                <a:t>ASOCIADO A GENERADOR ELÉCTRICO CON FILTRACIONES REUTILIZABL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676520" y="4016520"/>
            <a:ext cx="2590560" cy="1896840"/>
            <a:chOff x="1676520" y="4016520"/>
            <a:chExt cx="2590560" cy="1896840"/>
          </a:xfrm>
        </p:grpSpPr>
        <p:graphicFrame>
          <p:nvGraphicFramePr>
            <p:cNvPr id="229" name=""/>
            <p:cNvGraphicFramePr/>
            <p:nvPr/>
          </p:nvGraphicFramePr>
          <p:xfrm>
            <a:off x="1676520" y="4016520"/>
            <a:ext cx="2590560" cy="1896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76520" y="4016520"/>
                      <a:ext cx="2590560" cy="189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1" name=""/>
            <p:cNvSpPr/>
            <p:nvPr/>
          </p:nvSpPr>
          <p:spPr>
            <a:xfrm>
              <a:off x="1897200" y="5465520"/>
              <a:ext cx="903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Comic Sans MS"/>
                </a:rPr>
                <a:t>DERIVACIÓN HIDRÁULI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800440" y="5446800"/>
              <a:ext cx="13222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Comic Sans MS"/>
                </a:rPr>
                <a:t>ASOCIADA A GENERADOR ELÉCTRIC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967360" y="1316160"/>
            <a:ext cx="3179880" cy="4827600"/>
            <a:chOff x="5967360" y="1316160"/>
            <a:chExt cx="3179880" cy="4827600"/>
          </a:xfrm>
        </p:grpSpPr>
        <p:graphicFrame>
          <p:nvGraphicFramePr>
            <p:cNvPr id="234" name=""/>
            <p:cNvGraphicFramePr/>
            <p:nvPr/>
          </p:nvGraphicFramePr>
          <p:xfrm>
            <a:off x="5969160" y="1770120"/>
            <a:ext cx="3178080" cy="4373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969160" y="1770120"/>
                      <a:ext cx="3178080" cy="437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6" name=""/>
            <p:cNvGraphicFramePr/>
            <p:nvPr/>
          </p:nvGraphicFramePr>
          <p:xfrm>
            <a:off x="5967360" y="1316160"/>
            <a:ext cx="3178080" cy="541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3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967360" y="1316160"/>
                      <a:ext cx="3178080" cy="54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38" name=""/>
          <p:cNvSpPr/>
          <p:nvPr/>
        </p:nvSpPr>
        <p:spPr>
          <a:xfrm>
            <a:off x="608040" y="240480"/>
            <a:ext cx="67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7.2 Modelamiento de un mercado competitivo (V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4240" y="6402960"/>
            <a:ext cx="5700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7. Herramientas de Aná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44600" y="7164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elo Orientado al Objeto del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523320" y="11642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0000"/>
                </a:solidFill>
                <a:uFillTx/>
                <a:latin typeface="Comic Sans MS"/>
              </a:rPr>
              <a:t>Arbol Jerárqu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635040" y="1628280"/>
            <a:ext cx="0" cy="135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96880" y="1668600"/>
            <a:ext cx="77760" cy="93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27120" y="1536840"/>
            <a:ext cx="12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mic Sans MS"/>
              </a:rPr>
              <a:t>: Her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1320" y="1836720"/>
            <a:ext cx="1046160" cy="30168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357440" y="1879560"/>
            <a:ext cx="11638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Objeto de 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455920" y="2360520"/>
            <a:ext cx="509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873680" y="2138400"/>
            <a:ext cx="1440" cy="100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21960" y="2233440"/>
            <a:ext cx="4896000" cy="3154320"/>
            <a:chOff x="21960" y="2233440"/>
            <a:chExt cx="4896000" cy="3154320"/>
          </a:xfrm>
        </p:grpSpPr>
        <p:sp>
          <p:nvSpPr>
            <p:cNvPr id="250" name=""/>
            <p:cNvSpPr/>
            <p:nvPr/>
          </p:nvSpPr>
          <p:spPr>
            <a:xfrm>
              <a:off x="1957320" y="2489040"/>
              <a:ext cx="1046160" cy="301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957320" y="2481120"/>
              <a:ext cx="974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Comic Sans MS"/>
                </a:rPr>
                <a:t>Objeto de Merca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2470320" y="2352600"/>
              <a:ext cx="0" cy="139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36960" y="2233440"/>
              <a:ext cx="81000" cy="9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35120" y="3079800"/>
              <a:ext cx="936360" cy="3506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600" y="3710160"/>
              <a:ext cx="736560" cy="3110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09720" y="3710160"/>
              <a:ext cx="1152720" cy="3110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411360" y="4281480"/>
              <a:ext cx="684360" cy="3747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49600" y="4280040"/>
              <a:ext cx="655560" cy="3762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332160" y="4021200"/>
              <a:ext cx="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2982960" y="4160520"/>
              <a:ext cx="1440" cy="12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3726000" y="4157640"/>
              <a:ext cx="1440" cy="12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975040" y="4162320"/>
              <a:ext cx="757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3357720" y="4025520"/>
              <a:ext cx="0" cy="1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228600" y="3565440"/>
              <a:ext cx="0" cy="14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3920" y="3575160"/>
              <a:ext cx="18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1251000" y="3439800"/>
              <a:ext cx="0" cy="1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316320" y="4062240"/>
              <a:ext cx="81000" cy="9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12840" y="3479760"/>
              <a:ext cx="77760" cy="93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246320" y="2948040"/>
              <a:ext cx="262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1254240" y="2947680"/>
              <a:ext cx="0" cy="1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3862440" y="2947680"/>
              <a:ext cx="0" cy="1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79680" y="3079800"/>
              <a:ext cx="936720" cy="3506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2471760" y="2781000"/>
              <a:ext cx="0" cy="16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430360" y="2843280"/>
              <a:ext cx="82800" cy="95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17560" y="3079800"/>
              <a:ext cx="81324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Comic Sans MS"/>
                </a:rPr>
                <a:t>Part. d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Comic Sans MS"/>
                </a:rPr>
                <a:t>Merca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1960" y="3773520"/>
              <a:ext cx="7902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Comic Sans MS"/>
                </a:rPr>
                <a:t>Sumini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778120" y="3693960"/>
              <a:ext cx="10177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Comic Sans MS"/>
                </a:rPr>
                <a:t>Contr. de Serv. Peaj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413520" y="4311720"/>
              <a:ext cx="7354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Comic Sans MS"/>
                </a:rPr>
                <a:t>Servic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Comic Sans MS"/>
                </a:rPr>
                <a:t>Auxili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585880" y="4294080"/>
              <a:ext cx="7812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Comic Sans MS"/>
                </a:rPr>
                <a:t>Uso de Infra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62120" y="3144960"/>
              <a:ext cx="81468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Comic Sans MS"/>
                </a:rPr>
                <a:t>Contr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2467080" y="2947680"/>
              <a:ext cx="0" cy="1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968480" y="3079800"/>
              <a:ext cx="1073160" cy="3506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968480" y="3079800"/>
              <a:ext cx="114156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Comic Sans MS"/>
                </a:rPr>
                <a:t>Operador independien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79480" y="3710160"/>
              <a:ext cx="736560" cy="3110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1247760" y="3574800"/>
              <a:ext cx="0" cy="1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46000" y="3773520"/>
              <a:ext cx="8161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Comic Sans MS"/>
                </a:rPr>
                <a:t>Consum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92360" y="3710160"/>
              <a:ext cx="736560" cy="3110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2038320" y="3565440"/>
              <a:ext cx="0" cy="14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738800" y="3773520"/>
              <a:ext cx="77508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Comic Sans MS"/>
                </a:rPr>
                <a:t>Comer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3354480" y="3565440"/>
              <a:ext cx="1440" cy="14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349800" y="3575160"/>
              <a:ext cx="107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3889440" y="3439800"/>
              <a:ext cx="0" cy="1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851280" y="3479760"/>
              <a:ext cx="77760" cy="93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963960" y="3710160"/>
              <a:ext cx="905040" cy="3110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309920" y="4021200"/>
              <a:ext cx="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073400" y="3708360"/>
              <a:ext cx="776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mic Sans MS"/>
                </a:rPr>
                <a:t>Contrato bilater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4411800" y="3574800"/>
              <a:ext cx="0" cy="1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0040" y="492804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 u="sng">
                  <a:solidFill>
                    <a:srgbClr val="000090"/>
                  </a:solidFill>
                  <a:uFillTx/>
                  <a:latin typeface="Comic Sans MS"/>
                </a:rPr>
                <a:t>BDM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4898880" y="2573280"/>
            <a:ext cx="0" cy="332748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4898880" y="2364840"/>
            <a:ext cx="5115600" cy="3064320"/>
            <a:chOff x="4898880" y="2364840"/>
            <a:chExt cx="5115600" cy="3064320"/>
          </a:xfrm>
        </p:grpSpPr>
        <p:sp>
          <p:nvSpPr>
            <p:cNvPr id="301" name=""/>
            <p:cNvSpPr/>
            <p:nvPr/>
          </p:nvSpPr>
          <p:spPr>
            <a:xfrm>
              <a:off x="5543640" y="3678120"/>
              <a:ext cx="669960" cy="3682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227640" y="3071880"/>
              <a:ext cx="736560" cy="3394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696160" y="3071880"/>
              <a:ext cx="700200" cy="3394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397720" y="3683160"/>
              <a:ext cx="684360" cy="3744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911840" y="3678120"/>
              <a:ext cx="565200" cy="3682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99280" y="3678120"/>
              <a:ext cx="530280" cy="3682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919920" y="3678120"/>
              <a:ext cx="525600" cy="3682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526160" y="3678120"/>
              <a:ext cx="752760" cy="3682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75360" y="4403880"/>
              <a:ext cx="657000" cy="361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16680" y="4402080"/>
              <a:ext cx="631800" cy="3636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858000" y="4403880"/>
              <a:ext cx="612720" cy="361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9188280" y="3679920"/>
              <a:ext cx="655920" cy="3762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854920" y="4422600"/>
              <a:ext cx="700200" cy="354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975440" y="4419720"/>
              <a:ext cx="790560" cy="3571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983200" y="40464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726400" y="40575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9042480" y="3411360"/>
              <a:ext cx="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5186520" y="3551400"/>
              <a:ext cx="0" cy="12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75360" y="3551400"/>
              <a:ext cx="273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7910640" y="3541320"/>
              <a:ext cx="0" cy="1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7174080" y="3547800"/>
              <a:ext cx="0" cy="1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 flipV="1">
              <a:off x="5899320" y="3551040"/>
              <a:ext cx="1440" cy="12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6595920" y="3413160"/>
              <a:ext cx="0" cy="27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9534600" y="3560760"/>
              <a:ext cx="0" cy="12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8713800" y="3552480"/>
              <a:ext cx="0" cy="1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705880" y="3551400"/>
              <a:ext cx="839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9067680" y="3416040"/>
              <a:ext cx="0" cy="1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6595920" y="2962080"/>
              <a:ext cx="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9047160" y="2965320"/>
              <a:ext cx="0" cy="10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5438880" y="2966760"/>
              <a:ext cx="361620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5500800" y="4265280"/>
              <a:ext cx="0" cy="13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5491080" y="4269960"/>
              <a:ext cx="8413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6323040" y="4269960"/>
              <a:ext cx="0" cy="13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907240" y="4046040"/>
              <a:ext cx="0" cy="220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7170840" y="4046040"/>
              <a:ext cx="0" cy="36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344080" y="4281480"/>
              <a:ext cx="842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8353440" y="4282920"/>
              <a:ext cx="0" cy="136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9174240" y="4281120"/>
              <a:ext cx="0" cy="13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759880" y="4057560"/>
              <a:ext cx="0" cy="223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867280" y="4175280"/>
              <a:ext cx="79560" cy="93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130880" y="4181400"/>
              <a:ext cx="81000" cy="93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723160" y="4183200"/>
              <a:ext cx="81000" cy="93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9031320" y="3448080"/>
              <a:ext cx="81000" cy="93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045040" y="3070080"/>
              <a:ext cx="822240" cy="3510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7553160" y="2797200"/>
              <a:ext cx="0" cy="17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307920" y="3125880"/>
              <a:ext cx="6350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Comic Sans MS"/>
                </a:rPr>
                <a:t>1-Po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742240" y="3130560"/>
              <a:ext cx="7081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Comic Sans MS"/>
                </a:rPr>
                <a:t>2-Pol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898880" y="3763800"/>
              <a:ext cx="64296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Comic Sans MS"/>
                </a:rPr>
                <a:t>No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468760" y="3760920"/>
              <a:ext cx="8636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Comic Sans MS"/>
                </a:rPr>
                <a:t>Inyec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523280" y="3699000"/>
              <a:ext cx="80964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Comic Sans MS"/>
                </a:rPr>
                <a:t>Compen-s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864480" y="3754440"/>
              <a:ext cx="6044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Comic Sans MS"/>
                </a:rPr>
                <a:t>Carg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319080" y="3754440"/>
              <a:ext cx="6012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Comic Sans MS"/>
                </a:rPr>
                <a:t>Tier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21360" y="4408560"/>
              <a:ext cx="78876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Comic Sans MS"/>
                </a:rPr>
                <a:t>Iny. de R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873840" y="4413240"/>
              <a:ext cx="6228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Comic Sans MS"/>
                </a:rPr>
                <a:t>Mo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442000" y="3765600"/>
              <a:ext cx="5893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Comic Sans MS"/>
                </a:rPr>
                <a:t>Ra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9192240" y="3763800"/>
              <a:ext cx="822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Comic Sans MS"/>
                </a:rPr>
                <a:t>Interrup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903880" y="4500720"/>
              <a:ext cx="7308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Comic Sans MS"/>
                </a:rPr>
                <a:t>Línea 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967160" y="4429080"/>
              <a:ext cx="86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Comic Sans MS"/>
                </a:rPr>
                <a:t>Trans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Comic Sans MS"/>
                </a:rPr>
                <a:t>form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024240" y="4413240"/>
              <a:ext cx="60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Comic Sans MS"/>
                </a:rPr>
                <a:t>Gene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Comic Sans MS"/>
                </a:rPr>
                <a:t>r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515360" y="2871720"/>
              <a:ext cx="81000" cy="93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553080" y="3452760"/>
              <a:ext cx="81000" cy="93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5443560" y="2958840"/>
              <a:ext cx="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006880" y="3071880"/>
              <a:ext cx="96876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Comic Sans MS"/>
                </a:rPr>
                <a:t>Ob. planifi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Comic Sans MS"/>
                </a:rPr>
                <a:t>c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0000" y="2511360"/>
              <a:ext cx="1046160" cy="301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990480" y="2573280"/>
              <a:ext cx="1200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Comic Sans MS"/>
                </a:rPr>
                <a:t>Objeto de R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7547040" y="2364840"/>
              <a:ext cx="0" cy="140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055280" y="4969440"/>
              <a:ext cx="89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 u="sng">
                  <a:solidFill>
                    <a:srgbClr val="000090"/>
                  </a:solidFill>
                  <a:uFillTx/>
                  <a:latin typeface="Comic Sans MS"/>
                </a:rPr>
                <a:t>BD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608040" y="240480"/>
            <a:ext cx="67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7.2 Modelamiento de un mercado competitivo (V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84240" y="6402960"/>
            <a:ext cx="5700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7. Herramientas de Aná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657360" y="739800"/>
            <a:ext cx="3382920" cy="531000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63480" y="739800"/>
            <a:ext cx="3376800" cy="372960"/>
          </a:xfrm>
          <a:prstGeom prst="rect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84360" y="762120"/>
            <a:ext cx="330012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4800" rIns="154800" tIns="77400" bIns="774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Suminist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669960" y="4655880"/>
            <a:ext cx="336384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31800" y="4697280"/>
            <a:ext cx="3772080" cy="13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4800" rIns="154800" tIns="77400" bIns="774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- set/get far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- ask o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- ask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- grapic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- Load/Save</a:t>
            </a: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06600" y="1136520"/>
            <a:ext cx="3416040" cy="30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4800" rIns="154800" tIns="77400" bIns="77400" anchor="t">
            <a:spAutoFit/>
          </a:bodyPr>
          <a:p>
            <a:pPr marL="177840" indent="-17784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Entryperiod i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Exitperiod from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Cost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M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Container Inj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25000"/>
              </a:lnSpc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5000"/>
              </a:lnSpc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Graphic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Coordin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Contr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627440" y="933480"/>
            <a:ext cx="4291200" cy="4324320"/>
          </a:xfrm>
          <a:custGeom>
            <a:avLst/>
            <a:gdLst>
              <a:gd name="textAreaLeft" fmla="*/ 173880 w 4291200"/>
              <a:gd name="textAreaRight" fmla="*/ 4117320 w 4291200"/>
              <a:gd name="textAreaTop" fmla="*/ 173880 h 4324320"/>
              <a:gd name="textAreaBottom" fmla="*/ 4150440 h 4324320"/>
            </a:gdLst>
            <a:ahLst/>
            <a:rect l="textAreaLeft" t="textAreaTop" r="textAreaRight" b="textAreaBottom"/>
            <a:pathLst>
              <a:path w="21600" h="21767">
                <a:moveTo>
                  <a:pt x="2990" y="0"/>
                </a:moveTo>
                <a:arcTo wR="2990" hR="2990" stAng="16200000" swAng="-5400000"/>
                <a:lnTo>
                  <a:pt x="0" y="18777"/>
                </a:lnTo>
                <a:arcTo wR="2990" hR="2990" stAng="10800000" swAng="-5400000"/>
                <a:lnTo>
                  <a:pt x="18610" y="21767"/>
                </a:lnTo>
                <a:arcTo wR="2990" hR="2990" stAng="5400000" swAng="-5400000"/>
                <a:lnTo>
                  <a:pt x="21600" y="2990"/>
                </a:lnTo>
                <a:arcTo wR="2990" hR="299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54800" rIns="154800" tIns="77400" bIns="77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930640" y="927000"/>
            <a:ext cx="21042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0" rIns="154800" tIns="77400" bIns="77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(Suministrad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597560" y="1339920"/>
            <a:ext cx="452736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4800" rIns="154800" tIns="77400" bIns="77400" anchor="t">
            <a:sp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2257560"/>
                <a:tab algn="l" pos="354636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Name = „EVUn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2257560"/>
                <a:tab algn="l" pos="354636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Entry Period =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2257560"/>
                <a:tab algn="l" pos="354636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Exit Period = 20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2257560"/>
                <a:tab algn="l" pos="354636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Costs:   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=10000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E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66960">
              <a:lnSpc>
                <a:spcPct val="95000"/>
              </a:lnSpc>
              <a:tabLst>
                <a:tab algn="l" pos="0"/>
                <a:tab algn="l" pos="2257560"/>
                <a:tab algn="l" pos="354636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=10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EUR/MW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66960">
              <a:lnSpc>
                <a:spcPct val="95000"/>
              </a:lnSpc>
              <a:tabLst>
                <a:tab algn="l" pos="0"/>
                <a:tab algn="l" pos="2257560"/>
                <a:tab algn="l" pos="354636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= 0.0 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EUR/MWh</a:t>
            </a:r>
            <a:r>
              <a:rPr b="0" lang="de-DE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2257560"/>
                <a:tab algn="l" pos="354636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Moneda = „EUR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2257560"/>
                <a:tab algn="l" pos="354636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Generators = „G1Block1“, „G5Block2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2257560"/>
                <a:tab algn="l" pos="354636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Injections = „NONE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2257560"/>
                <a:tab algn="l" pos="354636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Coordinates = (x = 30, y = 4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2257560"/>
                <a:tab algn="l" pos="354636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Color = „blau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2257560"/>
                <a:tab algn="l" pos="354636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Picture = „EVUn.gif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2257560"/>
                <a:tab algn="l" pos="354636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Contract = „Vertrag1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628160" y="5465880"/>
            <a:ext cx="535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4800" rIns="154800" tIns="77400" bIns="77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Descripción de Objeto de Clase Suministrado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4041720" y="948960"/>
            <a:ext cx="99864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041720" y="4660920"/>
            <a:ext cx="835200" cy="52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08040" y="240480"/>
            <a:ext cx="67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7.2 Modelamiento de un mercado competitivo (I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4240" y="6402960"/>
            <a:ext cx="5700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7. Herramientas de Aná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5473800" y="1901880"/>
            <a:ext cx="4386240" cy="199080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87480" y="776160"/>
            <a:ext cx="5162400" cy="121284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95400" y="1673280"/>
            <a:ext cx="2049480" cy="139068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6124680" y="4237200"/>
            <a:ext cx="3700440" cy="194760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5"/>
          <a:stretch/>
        </p:blipFill>
        <p:spPr>
          <a:xfrm>
            <a:off x="76320" y="3303720"/>
            <a:ext cx="2409840" cy="14605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5162400" y="2044800"/>
            <a:ext cx="3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887560" y="1722600"/>
            <a:ext cx="59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681280" y="1584360"/>
            <a:ext cx="0" cy="78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90640" y="1584360"/>
            <a:ext cx="804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151000" y="2360520"/>
            <a:ext cx="53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487600" y="3994200"/>
            <a:ext cx="399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881440" y="1722600"/>
            <a:ext cx="1440" cy="2282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03320" y="1395360"/>
            <a:ext cx="338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424480" y="1449360"/>
            <a:ext cx="9360" cy="3840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486240" y="1982880"/>
            <a:ext cx="174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3370320" y="2540160"/>
            <a:ext cx="1683720" cy="1519200"/>
            <a:chOff x="3370320" y="2540160"/>
            <a:chExt cx="1683720" cy="1519200"/>
          </a:xfrm>
        </p:grpSpPr>
        <p:sp>
          <p:nvSpPr>
            <p:cNvPr id="400" name=""/>
            <p:cNvSpPr/>
            <p:nvPr/>
          </p:nvSpPr>
          <p:spPr>
            <a:xfrm>
              <a:off x="3370320" y="2540160"/>
              <a:ext cx="1259640" cy="1519200"/>
            </a:xfrm>
            <a:custGeom>
              <a:avLst/>
              <a:gdLst/>
              <a:ahLst/>
              <a:rect l="l" t="t" r="r" b="b"/>
              <a:pathLst>
                <a:path w="804" h="908">
                  <a:moveTo>
                    <a:pt x="72" y="28"/>
                  </a:moveTo>
                  <a:cubicBezTo>
                    <a:pt x="174" y="15"/>
                    <a:pt x="234" y="0"/>
                    <a:pt x="330" y="16"/>
                  </a:cubicBezTo>
                  <a:cubicBezTo>
                    <a:pt x="370" y="14"/>
                    <a:pt x="410" y="9"/>
                    <a:pt x="450" y="10"/>
                  </a:cubicBezTo>
                  <a:cubicBezTo>
                    <a:pt x="470" y="11"/>
                    <a:pt x="510" y="22"/>
                    <a:pt x="510" y="22"/>
                  </a:cubicBezTo>
                  <a:cubicBezTo>
                    <a:pt x="576" y="66"/>
                    <a:pt x="475" y="1"/>
                    <a:pt x="552" y="40"/>
                  </a:cubicBezTo>
                  <a:cubicBezTo>
                    <a:pt x="635" y="81"/>
                    <a:pt x="556" y="53"/>
                    <a:pt x="606" y="70"/>
                  </a:cubicBezTo>
                  <a:cubicBezTo>
                    <a:pt x="617" y="102"/>
                    <a:pt x="638" y="111"/>
                    <a:pt x="666" y="130"/>
                  </a:cubicBezTo>
                  <a:cubicBezTo>
                    <a:pt x="677" y="137"/>
                    <a:pt x="702" y="142"/>
                    <a:pt x="702" y="142"/>
                  </a:cubicBezTo>
                  <a:cubicBezTo>
                    <a:pt x="719" y="167"/>
                    <a:pt x="744" y="168"/>
                    <a:pt x="768" y="184"/>
                  </a:cubicBezTo>
                  <a:cubicBezTo>
                    <a:pt x="776" y="229"/>
                    <a:pt x="779" y="270"/>
                    <a:pt x="786" y="316"/>
                  </a:cubicBezTo>
                  <a:cubicBezTo>
                    <a:pt x="788" y="328"/>
                    <a:pt x="798" y="352"/>
                    <a:pt x="798" y="352"/>
                  </a:cubicBezTo>
                  <a:cubicBezTo>
                    <a:pt x="784" y="393"/>
                    <a:pt x="784" y="410"/>
                    <a:pt x="792" y="460"/>
                  </a:cubicBezTo>
                  <a:cubicBezTo>
                    <a:pt x="795" y="476"/>
                    <a:pt x="804" y="508"/>
                    <a:pt x="804" y="508"/>
                  </a:cubicBezTo>
                  <a:cubicBezTo>
                    <a:pt x="796" y="626"/>
                    <a:pt x="787" y="732"/>
                    <a:pt x="750" y="844"/>
                  </a:cubicBezTo>
                  <a:cubicBezTo>
                    <a:pt x="745" y="860"/>
                    <a:pt x="695" y="866"/>
                    <a:pt x="684" y="868"/>
                  </a:cubicBezTo>
                  <a:cubicBezTo>
                    <a:pt x="658" y="908"/>
                    <a:pt x="634" y="890"/>
                    <a:pt x="582" y="886"/>
                  </a:cubicBezTo>
                  <a:cubicBezTo>
                    <a:pt x="513" y="863"/>
                    <a:pt x="437" y="880"/>
                    <a:pt x="366" y="862"/>
                  </a:cubicBezTo>
                  <a:cubicBezTo>
                    <a:pt x="358" y="860"/>
                    <a:pt x="350" y="858"/>
                    <a:pt x="342" y="856"/>
                  </a:cubicBezTo>
                  <a:cubicBezTo>
                    <a:pt x="336" y="854"/>
                    <a:pt x="330" y="852"/>
                    <a:pt x="324" y="850"/>
                  </a:cubicBezTo>
                  <a:cubicBezTo>
                    <a:pt x="300" y="844"/>
                    <a:pt x="252" y="832"/>
                    <a:pt x="252" y="832"/>
                  </a:cubicBezTo>
                  <a:cubicBezTo>
                    <a:pt x="209" y="803"/>
                    <a:pt x="226" y="818"/>
                    <a:pt x="198" y="790"/>
                  </a:cubicBezTo>
                  <a:cubicBezTo>
                    <a:pt x="190" y="767"/>
                    <a:pt x="169" y="751"/>
                    <a:pt x="150" y="736"/>
                  </a:cubicBezTo>
                  <a:cubicBezTo>
                    <a:pt x="139" y="727"/>
                    <a:pt x="114" y="712"/>
                    <a:pt x="114" y="712"/>
                  </a:cubicBezTo>
                  <a:cubicBezTo>
                    <a:pt x="103" y="679"/>
                    <a:pt x="79" y="651"/>
                    <a:pt x="60" y="622"/>
                  </a:cubicBezTo>
                  <a:cubicBezTo>
                    <a:pt x="49" y="605"/>
                    <a:pt x="30" y="568"/>
                    <a:pt x="30" y="568"/>
                  </a:cubicBezTo>
                  <a:cubicBezTo>
                    <a:pt x="22" y="522"/>
                    <a:pt x="11" y="476"/>
                    <a:pt x="0" y="430"/>
                  </a:cubicBezTo>
                  <a:cubicBezTo>
                    <a:pt x="2" y="334"/>
                    <a:pt x="2" y="238"/>
                    <a:pt x="6" y="142"/>
                  </a:cubicBezTo>
                  <a:cubicBezTo>
                    <a:pt x="7" y="106"/>
                    <a:pt x="55" y="62"/>
                    <a:pt x="72" y="28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  <a:effectLst>
              <a:outerShdw dist="190512" dir="3183908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30120" y="2735640"/>
              <a:ext cx="1123920" cy="54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5760" rIns="365760" tIns="182880" bIns="182880" anchor="t">
              <a:spAutoFit/>
            </a:bodyPr>
            <a:p>
              <a:pPr>
                <a:tabLst>
                  <a:tab algn="l" pos="0"/>
                  <a:tab algn="l" pos="3657600"/>
                  <a:tab algn="l" pos="73152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10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95680" y="3291480"/>
              <a:ext cx="731520" cy="29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706920" y="3273120"/>
              <a:ext cx="79920" cy="84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913920" y="3273120"/>
              <a:ext cx="79920" cy="84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30280" y="3273120"/>
              <a:ext cx="79560" cy="84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3956400" y="3066840"/>
              <a:ext cx="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26080" y="2799360"/>
              <a:ext cx="270720" cy="277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4163040" y="3066840"/>
              <a:ext cx="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3746160" y="3066840"/>
              <a:ext cx="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750480" y="2936880"/>
              <a:ext cx="851040" cy="54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5760" rIns="365760" tIns="182880" bIns="182880" anchor="t">
              <a:spAutoFit/>
            </a:bodyPr>
            <a:p>
              <a:pPr>
                <a:tabLst>
                  <a:tab algn="l" pos="0"/>
                  <a:tab algn="l" pos="3657600"/>
                  <a:tab algn="l" pos="7315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385440" y="2862000"/>
              <a:ext cx="360720" cy="21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67720" y="306864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956400" y="3338280"/>
              <a:ext cx="0" cy="21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895200" y="3548160"/>
              <a:ext cx="129960" cy="968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4164840" y="3338280"/>
              <a:ext cx="0" cy="21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167720" y="3548880"/>
              <a:ext cx="437040" cy="20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3744720" y="3338280"/>
              <a:ext cx="0" cy="21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3436200" y="3550320"/>
              <a:ext cx="3096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5219640" y="145080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451480" y="5253120"/>
            <a:ext cx="623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298680" y="433080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p. Gráf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01120" y="2365200"/>
            <a:ext cx="50148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10.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797520" y="1962000"/>
            <a:ext cx="1959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conomic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47760" y="3368520"/>
            <a:ext cx="178092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urrent Operation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767640" y="4305240"/>
            <a:ext cx="233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Operation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60200" y="1700280"/>
            <a:ext cx="1932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ocation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9183600" y="2363760"/>
            <a:ext cx="47808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353280" y="2362320"/>
            <a:ext cx="64908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375240" y="2790720"/>
            <a:ext cx="422280" cy="21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30.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375240" y="2997360"/>
            <a:ext cx="444600" cy="21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20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364440" y="3228840"/>
            <a:ext cx="564840" cy="21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2E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8340840" y="2789280"/>
            <a:ext cx="517320" cy="21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086600" y="4697280"/>
            <a:ext cx="26028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804160" y="4695840"/>
            <a:ext cx="576360" cy="21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520.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8802720" y="4890960"/>
            <a:ext cx="577800" cy="21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790120" y="5073480"/>
            <a:ext cx="576000" cy="21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123.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812080" y="5241960"/>
            <a:ext cx="576360" cy="21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104240" y="5070600"/>
            <a:ext cx="576000" cy="21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077240" y="4884840"/>
            <a:ext cx="576000" cy="21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102440" y="5240160"/>
            <a:ext cx="577800" cy="21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73.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089840" y="5411880"/>
            <a:ext cx="576360" cy="21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-5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8796240" y="5410080"/>
            <a:ext cx="576360" cy="21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086600" y="5800680"/>
            <a:ext cx="577800" cy="21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1.0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487680" y="1395360"/>
            <a:ext cx="0" cy="58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525840" y="1405080"/>
            <a:ext cx="16527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Operation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Location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Current Operation In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Econom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08040" y="240480"/>
            <a:ext cx="67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7.2 Modelamiento de un mercado competitivo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4240" y="6402960"/>
            <a:ext cx="5700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7. Herramientas de Aná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0" y="900720"/>
            <a:ext cx="67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8a"/>
                </a:solidFill>
                <a:latin typeface="Comic Sans MS"/>
              </a:rPr>
              <a:t>Estructura General Ambiente de desarrollo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73200" y="2395440"/>
            <a:ext cx="2252520" cy="952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79320" y="2490840"/>
            <a:ext cx="24336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01520" indent="-101520"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Editor de Te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0000"/>
              </a:lnSpc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(emacs</a:t>
            </a: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, JCreator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340160" y="4697280"/>
            <a:ext cx="2092320" cy="881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395960" y="4830840"/>
            <a:ext cx="2301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01520" indent="-101520"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Compilador JDK (1.1.8</a:t>
            </a: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- 1.4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873760" y="3537000"/>
            <a:ext cx="2021040" cy="952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900760" y="3623760"/>
            <a:ext cx="206532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01520" indent="-101520"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Documentos y Ayuda (JDK-Doc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0000"/>
              </a:lnSpc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075360" y="2511360"/>
            <a:ext cx="2021040" cy="79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102360" y="2562840"/>
            <a:ext cx="20653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01520" indent="-101520"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Ejemplos en W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0000"/>
              </a:lnSpc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389320" y="1338120"/>
            <a:ext cx="2457360" cy="79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454120" y="1446840"/>
            <a:ext cx="23115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01520" indent="-101520"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Compilador G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Plat. Desar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0000"/>
              </a:lnSpc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154160" y="3670200"/>
            <a:ext cx="1819080" cy="881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224000" y="3803760"/>
            <a:ext cx="16192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01520" indent="-101520"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Librerías de apo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650400" y="2788920"/>
            <a:ext cx="229464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0"/>
                </a:solidFill>
                <a:latin typeface="Comic Sans MS"/>
              </a:rPr>
              <a:t>Desarrollo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0"/>
                </a:solidFill>
                <a:latin typeface="Comic Sans MS"/>
              </a:rPr>
              <a:t>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20760" y="4722840"/>
            <a:ext cx="1819440" cy="880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190600" y="4856040"/>
            <a:ext cx="16192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01520" indent="-101520"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Manej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270400" y="1335240"/>
            <a:ext cx="2021040" cy="79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297400" y="1386360"/>
            <a:ext cx="20653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01520" indent="-101520"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Optimizadores: CPLEX, Mi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90000"/>
              </a:lnSpc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08040" y="240480"/>
            <a:ext cx="67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7.2 Modelamiento de un mercado competitivo (X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4240" y="6402960"/>
            <a:ext cx="5700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7. Herramientas de Aná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5520" y="923400"/>
            <a:ext cx="4432320" cy="2506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3680" indent="-193680">
              <a:lnSpc>
                <a:spcPct val="11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400" spc="-1" strike="noStrike">
                <a:solidFill>
                  <a:srgbClr val="a50021"/>
                </a:solidFill>
                <a:latin typeface="Comic Sans MS"/>
              </a:rPr>
              <a:t>- </a:t>
            </a:r>
            <a:r>
              <a:rPr b="0" lang="es-CL" sz="2400" spc="-1" strike="noStrike">
                <a:solidFill>
                  <a:srgbClr val="a50021"/>
                </a:solidFill>
                <a:latin typeface="Comic Sans MS"/>
              </a:rPr>
              <a:t>Operación rea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1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CL" sz="2400" spc="-1" strike="noStrike">
                <a:solidFill>
                  <a:srgbClr val="a50021"/>
                </a:solidFill>
                <a:latin typeface="Comic Sans MS"/>
              </a:rPr>
              <a:t>- Planificación de la oper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1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CL" sz="2400" spc="-1" strike="noStrike">
                <a:solidFill>
                  <a:srgbClr val="a50021"/>
                </a:solidFill>
                <a:latin typeface="Comic Sans MS"/>
              </a:rPr>
              <a:t>- Planificación de la expa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1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CL" sz="2400" spc="-1" strike="noStrike">
                <a:solidFill>
                  <a:srgbClr val="a50021"/>
                </a:solidFill>
                <a:latin typeface="Comic Sans MS"/>
              </a:rPr>
              <a:t>- Marco Regula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5760" y="965160"/>
            <a:ext cx="299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Ambitos de Apl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4800" y="186120"/>
            <a:ext cx="8704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7.1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Evolución de modelos y herramientas de análisis 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72040" y="2224440"/>
            <a:ext cx="4548240" cy="3713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3680" indent="-193680">
              <a:lnSpc>
                <a:spcPct val="110000"/>
              </a:lnSpc>
              <a:buClr>
                <a:srgbClr val="00008a"/>
              </a:buClr>
              <a:buFont typeface="Comic Sans MS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400" spc="-1" strike="noStrike">
                <a:solidFill>
                  <a:srgbClr val="00008a"/>
                </a:solidFill>
                <a:latin typeface="Comic Sans MS"/>
              </a:rPr>
              <a:t>flujo de potenci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10000"/>
              </a:lnSpc>
              <a:buClr>
                <a:srgbClr val="00008a"/>
              </a:buClr>
              <a:buFont typeface="Comic Sans MS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400" spc="-1" strike="noStrike">
                <a:solidFill>
                  <a:srgbClr val="00008a"/>
                </a:solidFill>
                <a:latin typeface="Comic Sans MS"/>
              </a:rPr>
              <a:t>cálculo de cortocircuit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10000"/>
              </a:lnSpc>
              <a:buClr>
                <a:srgbClr val="00008a"/>
              </a:buClr>
              <a:buFont typeface="Comic Sans MS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400" spc="-1" strike="noStrike">
                <a:solidFill>
                  <a:srgbClr val="00008a"/>
                </a:solidFill>
                <a:latin typeface="Comic Sans MS"/>
              </a:rPr>
              <a:t>despacho económic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10000"/>
              </a:lnSpc>
              <a:buClr>
                <a:srgbClr val="00008a"/>
              </a:buClr>
              <a:buFont typeface="Comic Sans MS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400" spc="-1" strike="noStrike">
                <a:solidFill>
                  <a:srgbClr val="00008a"/>
                </a:solidFill>
                <a:latin typeface="Comic Sans MS"/>
              </a:rPr>
              <a:t>flujo de potencia óptim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10000"/>
              </a:lnSpc>
              <a:buClr>
                <a:srgbClr val="00008a"/>
              </a:buClr>
              <a:buFont typeface="Comic Sans MS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400" spc="-1" strike="noStrike">
                <a:solidFill>
                  <a:srgbClr val="00008a"/>
                </a:solidFill>
                <a:latin typeface="Comic Sans MS"/>
              </a:rPr>
              <a:t>estimadores de estad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10000"/>
              </a:lnSpc>
              <a:buClr>
                <a:srgbClr val="00008a"/>
              </a:buClr>
              <a:buFont typeface="Comic Sans MS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400" spc="-1" strike="noStrike">
                <a:solidFill>
                  <a:srgbClr val="00008a"/>
                </a:solidFill>
                <a:latin typeface="Comic Sans MS"/>
              </a:rPr>
              <a:t>estimación de consum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10000"/>
              </a:lnSpc>
              <a:buClr>
                <a:srgbClr val="00008a"/>
              </a:buClr>
              <a:buFont typeface="Comic Sans MS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400" spc="-1" strike="noStrike">
                <a:solidFill>
                  <a:srgbClr val="00008a"/>
                </a:solidFill>
                <a:latin typeface="Comic Sans MS"/>
              </a:rPr>
              <a:t>predespa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10000"/>
              </a:lnSpc>
              <a:buClr>
                <a:srgbClr val="00008a"/>
              </a:buClr>
              <a:buFont typeface="Comic Sans MS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400" spc="-1" strike="noStrike">
                <a:solidFill>
                  <a:srgbClr val="00008a"/>
                </a:solidFill>
                <a:latin typeface="Comic Sans MS"/>
              </a:rPr>
              <a:t>Estabilidad permanente y transi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65840" y="1836720"/>
            <a:ext cx="299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Herramientas clás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170520"/>
            <a:ext cx="3622680" cy="2760840"/>
          </a:xfrm>
          <a:prstGeom prst="cloudCallout">
            <a:avLst>
              <a:gd name="adj1" fmla="val 74967"/>
              <a:gd name="adj2" fmla="val 47726"/>
            </a:avLst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a"/>
                </a:solidFill>
                <a:latin typeface="Comic Sans MS"/>
              </a:rPr>
              <a:t>Necesidad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a"/>
                </a:solidFill>
                <a:latin typeface="Comic Sans MS"/>
              </a:rPr>
              <a:t>Redefinició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a"/>
                </a:solidFill>
                <a:latin typeface="Comic Sans MS"/>
              </a:rPr>
              <a:t>Herrami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4240" y="6402960"/>
            <a:ext cx="5700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7. Herramientas de Aná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66720" y="1500120"/>
            <a:ext cx="7758000" cy="1057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1120" y="2657520"/>
            <a:ext cx="7738920" cy="105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1120" y="3817800"/>
            <a:ext cx="7737480" cy="1057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3720" y="4973760"/>
            <a:ext cx="7745400" cy="1301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095960" y="4963320"/>
            <a:ext cx="12610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c0128"/>
                </a:solidFill>
                <a:latin typeface="Comic Sans MS"/>
              </a:rPr>
              <a:t>Algorit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c0128"/>
                </a:solidFill>
                <a:latin typeface="Comic Sans MS"/>
              </a:rPr>
              <a:t>Evolucio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17920" y="3812400"/>
            <a:ext cx="1136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Simul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annea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25240" y="1508760"/>
            <a:ext cx="10051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Branch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B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23160" y="1499400"/>
            <a:ext cx="15310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Program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Line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27320" y="2662920"/>
            <a:ext cx="1364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Métodos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Grad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42600" y="3178080"/>
            <a:ext cx="13647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nte-Car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3480" y="4367880"/>
            <a:ext cx="17794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Criteri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Mínimo Esfuerz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53040" y="3820320"/>
            <a:ext cx="1325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Análisis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Sensi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91400" y="4302720"/>
            <a:ext cx="17946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Descomposi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de Ben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97040" y="5618880"/>
            <a:ext cx="12459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c0128"/>
                </a:solidFill>
                <a:latin typeface="Comic Sans MS"/>
              </a:rPr>
              <a:t>Análisis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c0128"/>
                </a:solidFill>
                <a:latin typeface="Comic Sans MS"/>
              </a:rPr>
              <a:t>Ries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94640" y="3817080"/>
            <a:ext cx="15310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Program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Dinám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23760" y="1465200"/>
            <a:ext cx="644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19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23760" y="2624040"/>
            <a:ext cx="644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19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28440" y="3768840"/>
            <a:ext cx="644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19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28440" y="4927680"/>
            <a:ext cx="644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87520" y="1398600"/>
            <a:ext cx="7773840" cy="6480"/>
          </a:xfrm>
          <a:prstGeom prst="line">
            <a:avLst/>
          </a:prstGeom>
          <a:ln w="28440">
            <a:solidFill>
              <a:srgbClr val="009999"/>
            </a:solidFill>
            <a:miter/>
            <a:headEnd len="med" type="oval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3120" y="1393920"/>
            <a:ext cx="0" cy="4632120"/>
          </a:xfrm>
          <a:prstGeom prst="line">
            <a:avLst/>
          </a:prstGeom>
          <a:ln w="28440">
            <a:solidFill>
              <a:srgbClr val="009999"/>
            </a:solidFill>
            <a:miter/>
            <a:headEnd len="med" type="oval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3120" y="1098720"/>
            <a:ext cx="12931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Comic Sans MS"/>
              </a:rPr>
              <a:t>interac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88520" y="1125360"/>
            <a:ext cx="15951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Comic Sans MS"/>
              </a:rPr>
              <a:t>automatiz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23440" y="2685240"/>
            <a:ext cx="10051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Branch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B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0800" y="1502640"/>
            <a:ext cx="1920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Estudios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Flujos/Confia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Production Cost 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836680" y="4302000"/>
            <a:ext cx="13647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nte-Car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32160" y="5020560"/>
            <a:ext cx="13114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Análisis de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sensi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33440" y="4978440"/>
            <a:ext cx="13647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0"/>
                </a:solidFill>
                <a:latin typeface="Comic Sans MS"/>
              </a:rPr>
              <a:t>Monte-Car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10360" y="5477760"/>
            <a:ext cx="12826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Re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Neur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66360" y="5506200"/>
            <a:ext cx="10296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Siste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Difu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6960" y="1464480"/>
            <a:ext cx="2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19191"/>
                </a:solidFill>
                <a:latin typeface="Symbol"/>
                <a:ea typeface="Symbol"/>
              </a:rPr>
              <a:t>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32440" y="1453320"/>
            <a:ext cx="2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19191"/>
                </a:solidFill>
                <a:latin typeface="Symbol"/>
                <a:ea typeface="Symbol"/>
              </a:rPr>
              <a:t>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026600" y="1453320"/>
            <a:ext cx="2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19191"/>
                </a:solidFill>
                <a:latin typeface="Symbol"/>
                <a:ea typeface="Symbol"/>
              </a:rPr>
              <a:t>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29280" y="2634480"/>
            <a:ext cx="2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19191"/>
                </a:solidFill>
                <a:latin typeface="Symbol"/>
                <a:ea typeface="Symbol"/>
              </a:rPr>
              <a:t>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38920" y="2623320"/>
            <a:ext cx="2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19191"/>
                </a:solidFill>
                <a:latin typeface="Symbol"/>
                <a:ea typeface="Symbol"/>
              </a:rPr>
              <a:t>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32720" y="2623320"/>
            <a:ext cx="2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19191"/>
                </a:solidFill>
                <a:latin typeface="Symbol"/>
                <a:ea typeface="Symbol"/>
              </a:rPr>
              <a:t>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26520" y="2615400"/>
            <a:ext cx="2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19191"/>
                </a:solidFill>
                <a:latin typeface="Symbol"/>
                <a:ea typeface="Symbol"/>
              </a:rPr>
              <a:t>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5400" y="3774240"/>
            <a:ext cx="2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19191"/>
                </a:solidFill>
                <a:latin typeface="Symbol"/>
                <a:ea typeface="Symbol"/>
              </a:rPr>
              <a:t>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29560" y="3763080"/>
            <a:ext cx="2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19191"/>
                </a:solidFill>
                <a:latin typeface="Symbol"/>
                <a:ea typeface="Symbol"/>
              </a:rPr>
              <a:t>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23360" y="3763080"/>
            <a:ext cx="2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19191"/>
                </a:solidFill>
                <a:latin typeface="Symbol"/>
                <a:ea typeface="Symbol"/>
              </a:rPr>
              <a:t>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717160" y="3755160"/>
            <a:ext cx="2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19191"/>
                </a:solidFill>
                <a:latin typeface="Symbol"/>
                <a:ea typeface="Symbol"/>
              </a:rPr>
              <a:t>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5400" y="4304520"/>
            <a:ext cx="2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19191"/>
                </a:solidFill>
                <a:latin typeface="Symbol"/>
                <a:ea typeface="Symbol"/>
              </a:rPr>
              <a:t>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29560" y="4255200"/>
            <a:ext cx="2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19191"/>
                </a:solidFill>
                <a:latin typeface="Symbol"/>
                <a:ea typeface="Symbol"/>
              </a:rPr>
              <a:t>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23360" y="4255200"/>
            <a:ext cx="2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19191"/>
                </a:solidFill>
                <a:latin typeface="Symbol"/>
                <a:ea typeface="Symbol"/>
              </a:rPr>
              <a:t>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7160" y="4247280"/>
            <a:ext cx="2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19191"/>
                </a:solidFill>
                <a:latin typeface="Symbol"/>
                <a:ea typeface="Symbol"/>
              </a:rPr>
              <a:t>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0440" y="4949280"/>
            <a:ext cx="2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19191"/>
                </a:solidFill>
                <a:latin typeface="Symbol"/>
                <a:ea typeface="Symbol"/>
              </a:rPr>
              <a:t>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34240" y="4938120"/>
            <a:ext cx="2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19191"/>
                </a:solidFill>
                <a:latin typeface="Symbol"/>
                <a:ea typeface="Symbol"/>
              </a:rPr>
              <a:t>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28040" y="4938120"/>
            <a:ext cx="2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19191"/>
                </a:solidFill>
                <a:latin typeface="Symbol"/>
                <a:ea typeface="Symbol"/>
              </a:rPr>
              <a:t>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21840" y="4930200"/>
            <a:ext cx="2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19191"/>
                </a:solidFill>
                <a:latin typeface="Symbol"/>
                <a:ea typeface="Symbol"/>
              </a:rPr>
              <a:t>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0440" y="5593680"/>
            <a:ext cx="2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19191"/>
                </a:solidFill>
                <a:latin typeface="Symbol"/>
                <a:ea typeface="Symbol"/>
              </a:rPr>
              <a:t>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34240" y="5430240"/>
            <a:ext cx="2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19191"/>
                </a:solidFill>
                <a:latin typeface="Symbol"/>
                <a:ea typeface="Symbol"/>
              </a:rPr>
              <a:t>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28040" y="5430240"/>
            <a:ext cx="2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19191"/>
                </a:solidFill>
                <a:latin typeface="Symbol"/>
                <a:ea typeface="Symbol"/>
              </a:rPr>
              <a:t>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18920" y="4931640"/>
            <a:ext cx="2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19191"/>
                </a:solidFill>
                <a:latin typeface="Symbol"/>
                <a:ea typeface="Symbol"/>
              </a:rPr>
              <a:t>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14240" y="5425200"/>
            <a:ext cx="2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19191"/>
                </a:solidFill>
                <a:latin typeface="Symbol"/>
                <a:ea typeface="Symbol"/>
              </a:rPr>
              <a:t>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33320" y="3766320"/>
            <a:ext cx="2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19191"/>
                </a:solidFill>
                <a:latin typeface="Symbol"/>
                <a:ea typeface="Symbol"/>
              </a:rPr>
              <a:t>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346840" y="3112200"/>
            <a:ext cx="2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19191"/>
                </a:solidFill>
                <a:latin typeface="Symbol"/>
                <a:ea typeface="Symbol"/>
              </a:rPr>
              <a:t>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531280" y="1504800"/>
            <a:ext cx="1349280" cy="1057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534520" y="2662200"/>
            <a:ext cx="1344600" cy="105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534520" y="3822840"/>
            <a:ext cx="1344600" cy="1056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535960" y="4978440"/>
            <a:ext cx="1357200" cy="1301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501760" y="1505520"/>
            <a:ext cx="13204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buClr>
                <a:srgbClr val="91919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0"/>
                </a:solidFill>
                <a:latin typeface="Comic Sans MS"/>
              </a:rPr>
              <a:t> </a:t>
            </a:r>
            <a:r>
              <a:rPr b="0" lang="de-DE" sz="1600" spc="-1" strike="noStrike">
                <a:solidFill>
                  <a:srgbClr val="000090"/>
                </a:solidFill>
                <a:latin typeface="Comic Sans MS"/>
              </a:rPr>
              <a:t>JC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91919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0"/>
                </a:solidFill>
                <a:latin typeface="Comic Sans MS"/>
              </a:rPr>
              <a:t> </a:t>
            </a:r>
            <a:r>
              <a:rPr b="0" lang="de-DE" sz="1600" spc="-1" strike="noStrike">
                <a:solidFill>
                  <a:srgbClr val="000090"/>
                </a:solidFill>
                <a:latin typeface="Comic Sans MS"/>
              </a:rPr>
              <a:t>Fortr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91919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0"/>
                </a:solidFill>
                <a:latin typeface="Comic Sans MS"/>
              </a:rPr>
              <a:t> </a:t>
            </a:r>
            <a:r>
              <a:rPr b="0" lang="de-DE" sz="1600" spc="-1" strike="noStrike">
                <a:solidFill>
                  <a:srgbClr val="000090"/>
                </a:solidFill>
                <a:latin typeface="Comic Sans MS"/>
              </a:rPr>
              <a:t>Assemb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91919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0"/>
                </a:solidFill>
                <a:latin typeface="Comic Sans MS"/>
              </a:rPr>
              <a:t> </a:t>
            </a:r>
            <a:r>
              <a:rPr b="0" lang="de-DE" sz="1600" spc="-1" strike="noStrike">
                <a:solidFill>
                  <a:srgbClr val="000090"/>
                </a:solidFill>
                <a:latin typeface="Comic Sans MS"/>
              </a:rPr>
              <a:t>Cob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509680" y="2647080"/>
            <a:ext cx="13204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buClr>
                <a:srgbClr val="91919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0"/>
                </a:solidFill>
                <a:latin typeface="Comic Sans MS"/>
              </a:rPr>
              <a:t> </a:t>
            </a:r>
            <a:r>
              <a:rPr b="0" lang="de-DE" sz="1600" spc="-1" strike="noStrike">
                <a:solidFill>
                  <a:srgbClr val="000090"/>
                </a:solidFill>
                <a:latin typeface="Comic Sans MS"/>
              </a:rPr>
              <a:t>Assemb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91919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0"/>
                </a:solidFill>
                <a:latin typeface="Comic Sans MS"/>
              </a:rPr>
              <a:t> </a:t>
            </a:r>
            <a:r>
              <a:rPr b="0" lang="de-DE" sz="1600" spc="-1" strike="noStrike">
                <a:solidFill>
                  <a:srgbClr val="000090"/>
                </a:solidFill>
                <a:latin typeface="Comic Sans MS"/>
              </a:rPr>
              <a:t>Cob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91919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0"/>
                </a:solidFill>
                <a:latin typeface="Comic Sans MS"/>
              </a:rPr>
              <a:t> </a:t>
            </a:r>
            <a:r>
              <a:rPr b="0" lang="de-DE" sz="1600" spc="-1" strike="noStrike">
                <a:solidFill>
                  <a:srgbClr val="000090"/>
                </a:solidFill>
                <a:latin typeface="Comic Sans MS"/>
              </a:rPr>
              <a:t>Fortran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91919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0"/>
                </a:solidFill>
                <a:latin typeface="Comic Sans MS"/>
              </a:rPr>
              <a:t> </a:t>
            </a:r>
            <a:r>
              <a:rPr b="0" lang="de-DE" sz="1600" spc="-1" strike="noStrike">
                <a:solidFill>
                  <a:srgbClr val="000090"/>
                </a:solidFill>
                <a:latin typeface="Comic Sans MS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521200" y="3816000"/>
            <a:ext cx="125640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buClr>
                <a:srgbClr val="91919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0"/>
                </a:solidFill>
                <a:latin typeface="Comic Sans MS"/>
              </a:rPr>
              <a:t> </a:t>
            </a:r>
            <a:r>
              <a:rPr b="0" lang="de-DE" sz="1600" spc="-1" strike="noStrike">
                <a:solidFill>
                  <a:srgbClr val="000090"/>
                </a:solidFill>
                <a:latin typeface="Comic Sans MS"/>
              </a:rPr>
              <a:t>Fortran7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91919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0"/>
                </a:solidFill>
                <a:latin typeface="Comic Sans MS"/>
              </a:rPr>
              <a:t> </a:t>
            </a:r>
            <a:r>
              <a:rPr b="0" lang="de-DE" sz="1600" spc="-1" strike="noStrike">
                <a:solidFill>
                  <a:srgbClr val="000090"/>
                </a:solidFill>
                <a:latin typeface="Comic Sans MS"/>
              </a:rPr>
              <a:t>Pas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91919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0"/>
                </a:solidFill>
                <a:latin typeface="Comic Sans MS"/>
              </a:rPr>
              <a:t> </a:t>
            </a:r>
            <a:r>
              <a:rPr b="0" lang="de-DE" sz="1600" spc="-1" strike="noStrike">
                <a:solidFill>
                  <a:srgbClr val="000090"/>
                </a:solidFill>
                <a:latin typeface="Comic Sans MS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91919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0"/>
                </a:solidFill>
                <a:latin typeface="Comic Sans MS"/>
              </a:rPr>
              <a:t> </a:t>
            </a:r>
            <a:r>
              <a:rPr b="0" lang="de-DE" sz="1600" spc="-1" strike="noStrike">
                <a:solidFill>
                  <a:srgbClr val="000090"/>
                </a:solidFill>
                <a:latin typeface="Comic Sans MS"/>
              </a:rPr>
              <a:t>Cob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91919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0"/>
                </a:solidFill>
                <a:latin typeface="Comic Sans MS"/>
              </a:rPr>
              <a:t> </a:t>
            </a:r>
            <a:r>
              <a:rPr b="0" lang="de-DE" sz="1600" spc="-1" strike="noStrike">
                <a:solidFill>
                  <a:srgbClr val="000090"/>
                </a:solidFill>
                <a:latin typeface="Comic Sans MS"/>
              </a:rPr>
              <a:t>C+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513280" y="4987440"/>
            <a:ext cx="125640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buClr>
                <a:srgbClr val="91919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0"/>
                </a:solidFill>
                <a:latin typeface="Comic Sans MS"/>
              </a:rPr>
              <a:t> </a:t>
            </a:r>
            <a:r>
              <a:rPr b="0" lang="de-DE" sz="1600" spc="-1" strike="noStrike">
                <a:solidFill>
                  <a:srgbClr val="000090"/>
                </a:solidFill>
                <a:latin typeface="Comic Sans MS"/>
              </a:rPr>
              <a:t>Fortran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91919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0"/>
                </a:solidFill>
                <a:latin typeface="Comic Sans MS"/>
              </a:rPr>
              <a:t> </a:t>
            </a:r>
            <a:r>
              <a:rPr b="0" lang="de-DE" sz="1600" spc="-1" strike="noStrike">
                <a:solidFill>
                  <a:srgbClr val="000090"/>
                </a:solidFill>
                <a:latin typeface="Comic Sans MS"/>
              </a:rPr>
              <a:t>C, C+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91919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0"/>
                </a:solidFill>
                <a:latin typeface="Comic Sans MS"/>
              </a:rPr>
              <a:t> </a:t>
            </a:r>
            <a:r>
              <a:rPr b="0" lang="de-DE" sz="1600" spc="-1" strike="noStrike">
                <a:solidFill>
                  <a:srgbClr val="000090"/>
                </a:solidFill>
                <a:latin typeface="Comic Sans MS"/>
              </a:rPr>
              <a:t>Li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91919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0"/>
                </a:solidFill>
                <a:latin typeface="Comic Sans MS"/>
              </a:rPr>
              <a:t> </a:t>
            </a:r>
            <a:r>
              <a:rPr b="0" lang="de-DE" sz="1600" spc="-1" strike="noStrike">
                <a:solidFill>
                  <a:srgbClr val="000090"/>
                </a:solidFill>
                <a:latin typeface="Comic Sans MS"/>
              </a:rPr>
              <a:t>Smalltal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91919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0"/>
                </a:solidFill>
                <a:latin typeface="Comic Sans MS"/>
              </a:rPr>
              <a:t> </a:t>
            </a:r>
            <a:r>
              <a:rPr b="0" lang="de-DE" sz="1600" spc="-1" strike="noStrike">
                <a:solidFill>
                  <a:srgbClr val="000090"/>
                </a:solidFill>
                <a:latin typeface="Comic Sans MS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15720" y="5438160"/>
            <a:ext cx="2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19191"/>
                </a:solidFill>
                <a:latin typeface="Symbol"/>
                <a:ea typeface="Symbol"/>
              </a:rPr>
              <a:t>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12000" y="2655000"/>
            <a:ext cx="15310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Program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Line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24600" y="4309200"/>
            <a:ext cx="15310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Program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Line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48200" y="3807720"/>
            <a:ext cx="10828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Sistem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Exper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04000" y="5469480"/>
            <a:ext cx="17946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0"/>
                </a:solidFill>
                <a:latin typeface="Comic Sans MS"/>
              </a:rPr>
              <a:t>Descomposi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0"/>
                </a:solidFill>
                <a:latin typeface="Comic Sans MS"/>
              </a:rPr>
              <a:t>de Ben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09040" y="4971240"/>
            <a:ext cx="15310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0"/>
                </a:solidFill>
                <a:latin typeface="Comic Sans MS"/>
              </a:rPr>
              <a:t>Program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0"/>
                </a:solidFill>
                <a:latin typeface="Comic Sans MS"/>
              </a:rPr>
              <a:t>Dinám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84560" y="5466600"/>
            <a:ext cx="10828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Sistem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Exper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14000" y="5219640"/>
            <a:ext cx="1303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Sim. Anne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21840" y="5158800"/>
            <a:ext cx="2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19191"/>
                </a:solidFill>
                <a:latin typeface="Symbol"/>
                <a:ea typeface="Symbol"/>
              </a:rPr>
              <a:t>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6200" y="2631240"/>
            <a:ext cx="1683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Estudios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Flujos/Confia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Production C. 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0600" y="3764520"/>
            <a:ext cx="1683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Estudios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Flujos/Confia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Production C. 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49160" y="4999680"/>
            <a:ext cx="1683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Estudios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Flujos/Confia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0"/>
                </a:solidFill>
                <a:latin typeface="Comic Sans MS"/>
              </a:rPr>
              <a:t>Production C. 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183560" y="5985000"/>
            <a:ext cx="1764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c0128"/>
                </a:solidFill>
                <a:latin typeface="Comic Sans MS"/>
              </a:rPr>
              <a:t>Teoría de Jueg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53600" y="5912640"/>
            <a:ext cx="2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19191"/>
                </a:solidFill>
                <a:latin typeface="Symbol"/>
                <a:ea typeface="Symbol"/>
              </a:rPr>
              <a:t>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-12600" y="705240"/>
            <a:ext cx="853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jemplo 1: Formas de Enfrentar el Problema de Plan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4800" y="186120"/>
            <a:ext cx="8704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7.1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Evolución de modelos y herramientas de análisis 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4240" y="6402960"/>
            <a:ext cx="5700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7. Herramientas de Aná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33280" y="132228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0"/>
                </a:solidFill>
                <a:latin typeface="Comic Sans MS"/>
              </a:rPr>
              <a:t>Función de Utilidad </a:t>
            </a:r>
            <a:r>
              <a:rPr b="1" lang="de-DE" sz="2400" spc="-1" strike="noStrike">
                <a:solidFill>
                  <a:srgbClr val="ff0000"/>
                </a:solidFill>
                <a:latin typeface="Comic Sans MS"/>
              </a:rPr>
              <a:t>U </a:t>
            </a:r>
            <a:r>
              <a:rPr b="1" lang="de-DE" sz="2400" spc="-1" strike="noStrike">
                <a:solidFill>
                  <a:srgbClr val="000090"/>
                </a:solidFill>
                <a:latin typeface="Comic Sans MS"/>
              </a:rPr>
              <a:t>del mercado Di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60440" y="1693800"/>
                <a:ext cx="87264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LP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enta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lsa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mpra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ls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enta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serv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548640" y="4102200"/>
            <a:ext cx="148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a50021"/>
                </a:solidFill>
                <a:latin typeface="Comic Sans MS"/>
              </a:rPr>
              <a:t>Ofertas de Compra/Ven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a50021"/>
                </a:solidFill>
                <a:latin typeface="Comic Sans MS"/>
              </a:rPr>
              <a:t>(para 24 horas, por hora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2425800">
            <a:off x="1426680" y="4824000"/>
            <a:ext cx="258840" cy="160560"/>
          </a:xfrm>
          <a:custGeom>
            <a:avLst/>
            <a:gdLst>
              <a:gd name="textAreaLeft" fmla="*/ 40320 w 258840"/>
              <a:gd name="textAreaRight" fmla="*/ 226800 w 258840"/>
              <a:gd name="textAreaTop" fmla="*/ 39960 h 160560"/>
              <a:gd name="textAreaBottom" fmla="*/ 120600 h 160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00000" y="4416480"/>
            <a:ext cx="557280" cy="411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838600" y="5430960"/>
            <a:ext cx="1417320" cy="841320"/>
          </a:xfrm>
          <a:custGeom>
            <a:avLst/>
            <a:gdLst/>
            <a:ahLst/>
            <a:rect l="l" t="t" r="r" b="b"/>
            <a:pathLst>
              <a:path w="1599" h="1240">
                <a:moveTo>
                  <a:pt x="284" y="717"/>
                </a:moveTo>
                <a:cubicBezTo>
                  <a:pt x="277" y="677"/>
                  <a:pt x="11" y="504"/>
                  <a:pt x="3" y="465"/>
                </a:cubicBezTo>
                <a:cubicBezTo>
                  <a:pt x="0" y="450"/>
                  <a:pt x="360" y="408"/>
                  <a:pt x="360" y="408"/>
                </a:cubicBezTo>
                <a:lnTo>
                  <a:pt x="304" y="131"/>
                </a:lnTo>
                <a:lnTo>
                  <a:pt x="583" y="220"/>
                </a:lnTo>
                <a:lnTo>
                  <a:pt x="863" y="0"/>
                </a:lnTo>
                <a:lnTo>
                  <a:pt x="1097" y="320"/>
                </a:lnTo>
                <a:lnTo>
                  <a:pt x="1599" y="467"/>
                </a:lnTo>
                <a:lnTo>
                  <a:pt x="1376" y="628"/>
                </a:lnTo>
                <a:lnTo>
                  <a:pt x="1309" y="1181"/>
                </a:lnTo>
                <a:lnTo>
                  <a:pt x="985" y="963"/>
                </a:lnTo>
                <a:lnTo>
                  <a:pt x="650" y="1240"/>
                </a:lnTo>
                <a:lnTo>
                  <a:pt x="517" y="904"/>
                </a:lnTo>
                <a:lnTo>
                  <a:pt x="3" y="978"/>
                </a:lnTo>
                <a:lnTo>
                  <a:pt x="284" y="7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8467200">
            <a:off x="2854080" y="4745880"/>
            <a:ext cx="258480" cy="160200"/>
          </a:xfrm>
          <a:custGeom>
            <a:avLst/>
            <a:gdLst>
              <a:gd name="textAreaLeft" fmla="*/ 40320 w 258480"/>
              <a:gd name="textAreaRight" fmla="*/ 226440 w 258480"/>
              <a:gd name="textAreaTop" fmla="*/ 39960 h 160200"/>
              <a:gd name="textAreaBottom" fmla="*/ 120240 h 160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143160" y="4295880"/>
            <a:ext cx="557280" cy="4111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924200" y="4952880"/>
            <a:ext cx="72648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a50021"/>
                </a:solidFill>
                <a:latin typeface="Comic Sans MS"/>
              </a:rPr>
              <a:t>.   .    .  .  ..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93400" y="5745240"/>
            <a:ext cx="1017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ff0000"/>
                </a:solidFill>
                <a:latin typeface="Comic Sans MS"/>
              </a:rPr>
              <a:t>Bolsa de Energí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43800">
            <a:off x="2577960" y="6003720"/>
            <a:ext cx="258840" cy="158760"/>
          </a:xfrm>
          <a:custGeom>
            <a:avLst/>
            <a:gdLst>
              <a:gd name="textAreaLeft" fmla="*/ 40320 w 258840"/>
              <a:gd name="textAreaRight" fmla="*/ 226800 w 258840"/>
              <a:gd name="textAreaTop" fmla="*/ 39600 h 158760"/>
              <a:gd name="textAreaBottom" fmla="*/ 119160 h 158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1981080" y="5851440"/>
            <a:ext cx="557280" cy="4111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727280" y="4681440"/>
            <a:ext cx="1117440" cy="905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43800">
            <a:off x="1427040" y="5341680"/>
            <a:ext cx="258840" cy="160200"/>
          </a:xfrm>
          <a:custGeom>
            <a:avLst/>
            <a:gdLst>
              <a:gd name="textAreaLeft" fmla="*/ 40320 w 258840"/>
              <a:gd name="textAreaRight" fmla="*/ 226800 w 258840"/>
              <a:gd name="textAreaTop" fmla="*/ 39960 h 160200"/>
              <a:gd name="textAreaBottom" fmla="*/ 120240 h 160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4040" y="5214960"/>
            <a:ext cx="80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90"/>
                </a:solidFill>
                <a:latin typeface="Comic Sans MS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90"/>
                </a:solidFill>
                <a:latin typeface="Comic Sans MS"/>
              </a:rPr>
              <a:t>Adici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90"/>
                </a:solidFill>
                <a:latin typeface="Comic Sans MS"/>
              </a:rPr>
              <a:t>Relevant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4720" y="4662360"/>
            <a:ext cx="107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90"/>
                </a:solidFill>
                <a:latin typeface="Comic Sans MS"/>
              </a:rPr>
              <a:t>Oferta Optima 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90"/>
                </a:solidFill>
                <a:latin typeface="Comic Sans MS"/>
              </a:rPr>
              <a:t>Compra/Venta 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90"/>
                </a:solidFill>
                <a:latin typeface="Comic Sans MS"/>
              </a:rPr>
              <a:t>Colbú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60400" y="4917960"/>
            <a:ext cx="111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8240" indent="-138240"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Comic Sans MS"/>
              </a:rPr>
              <a:t>Proceso de Simulació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8240" indent="-138240"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Comic Sans MS"/>
              </a:rPr>
              <a:t>Optimización Función de Utilidad </a:t>
            </a:r>
            <a:r>
              <a:rPr b="1" lang="de-DE" sz="800" spc="-1" strike="noStrike">
                <a:solidFill>
                  <a:srgbClr val="ff0000"/>
                </a:solidFill>
                <a:latin typeface="Comic Sans MS"/>
              </a:rPr>
              <a:t>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5443800">
            <a:off x="2147040" y="5633280"/>
            <a:ext cx="214200" cy="164880"/>
          </a:xfrm>
          <a:custGeom>
            <a:avLst/>
            <a:gdLst>
              <a:gd name="textAreaLeft" fmla="*/ 33480 w 214200"/>
              <a:gd name="textAreaRight" fmla="*/ 187560 w 214200"/>
              <a:gd name="textAreaTop" fmla="*/ 41040 h 164880"/>
              <a:gd name="textAreaBottom" fmla="*/ 123840 h 164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21587400">
            <a:off x="5140440" y="5226120"/>
            <a:ext cx="552240" cy="411120"/>
          </a:xfrm>
          <a:custGeom>
            <a:avLst/>
            <a:gdLst>
              <a:gd name="textAreaLeft" fmla="*/ 86040 w 552240"/>
              <a:gd name="textAreaRight" fmla="*/ 483480 w 552240"/>
              <a:gd name="textAreaTop" fmla="*/ 102600 h 411120"/>
              <a:gd name="textAreaBottom" fmla="*/ 308520 h 411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375240" y="5111640"/>
            <a:ext cx="0" cy="95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0960" y="3032280"/>
            <a:ext cx="65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Restricciones estratégicas de uso de emb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Límites técnicos y Costos Asoci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19040" y="2244600"/>
                <a:ext cx="887904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LP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Ve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lsa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LP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enta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serv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6378480" y="4017960"/>
            <a:ext cx="3105360" cy="2228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</p:pic>
      <p:sp>
        <p:nvSpPr>
          <p:cNvPr id="155" name=""/>
          <p:cNvSpPr/>
          <p:nvPr/>
        </p:nvSpPr>
        <p:spPr>
          <a:xfrm>
            <a:off x="-304920" y="835560"/>
            <a:ext cx="73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jemplo 2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blema de la Bolsa de Ener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4800" y="186120"/>
            <a:ext cx="9301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7.1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Evolución de modelos y herramientas de análisis (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4240" y="6402960"/>
            <a:ext cx="5700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7. Herramientas de Aná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08040" y="240480"/>
            <a:ext cx="67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7.2 Modelamiento de un mercado competitivo (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6880" y="804960"/>
            <a:ext cx="935064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90"/>
                </a:solidFill>
                <a:latin typeface="Comic Sans MS"/>
              </a:rPr>
              <a:t>Definición POO (196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rategia de desarrollo de Software o programas computacionales que organiza un programa como una colección de objetos, los que poseen una estructura de datos y un comporta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 esta forma, objetos independientes con datos y funciones propias interactúan de forma de realizar las operaciones requeridas en un progra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5040" y="4356000"/>
            <a:ext cx="93506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90"/>
                </a:solidFill>
                <a:latin typeface="Comic Sans MS"/>
              </a:rPr>
              <a:t>Programación en Base a Procedimien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unciones y datos son tratados en forma independ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peraciones se entienden y estructuran en forma secuen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240" y="6402960"/>
            <a:ext cx="5700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7. Herramientas de Aná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49120" y="2755800"/>
            <a:ext cx="93506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66640" indent="-56664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90"/>
                </a:solidFill>
                <a:latin typeface="Comic Sans MS"/>
              </a:rPr>
              <a:t>Mode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just">
              <a:lnSpc>
                <a:spcPct val="100000"/>
              </a:lnSpc>
              <a:buClr>
                <a:srgbClr val="fc0128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c0128"/>
                </a:solidFill>
                <a:latin typeface="Comic Sans MS"/>
              </a:rPr>
              <a:t>OM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just">
              <a:lnSpc>
                <a:spcPct val="100000"/>
              </a:lnSpc>
              <a:buClr>
                <a:srgbClr val="fc0128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c0128"/>
                </a:solidFill>
                <a:latin typeface="Comic Sans MS"/>
              </a:rPr>
              <a:t>U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9600" y="4594320"/>
            <a:ext cx="93502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66640" indent="-56664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90"/>
                </a:solidFill>
                <a:latin typeface="Comic Sans MS"/>
              </a:rPr>
              <a:t>Lenguaj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just">
              <a:lnSpc>
                <a:spcPct val="100000"/>
              </a:lnSpc>
              <a:buClr>
                <a:srgbClr val="fc0128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c0128"/>
                </a:solidFill>
                <a:latin typeface="Comic Sans MS"/>
              </a:rPr>
              <a:t>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just">
              <a:lnSpc>
                <a:spcPct val="100000"/>
              </a:lnSpc>
              <a:buClr>
                <a:srgbClr val="fc0128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c0128"/>
                </a:solidFill>
                <a:latin typeface="Comic Sans MS"/>
              </a:rPr>
              <a:t>Smallt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just">
              <a:lnSpc>
                <a:spcPct val="100000"/>
              </a:lnSpc>
              <a:buClr>
                <a:srgbClr val="fc0128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c0128"/>
                </a:solidFill>
                <a:latin typeface="Comic Sans MS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5080" y="965160"/>
            <a:ext cx="93502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90"/>
                </a:solidFill>
                <a:latin typeface="Comic Sans MS"/>
              </a:rPr>
              <a:t>C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Descripción de un grupo de objetos con características similares, comportamiento y relaciones análog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00880" y="3411360"/>
            <a:ext cx="32018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66640" indent="-56664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90"/>
                </a:solidFill>
                <a:latin typeface="Comic Sans MS"/>
              </a:rPr>
              <a:t>Etapas de la P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just">
              <a:lnSpc>
                <a:spcPct val="100000"/>
              </a:lnSpc>
              <a:buClr>
                <a:srgbClr val="fc0128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c0128"/>
                </a:solidFill>
                <a:latin typeface="Comic Sans MS"/>
              </a:rPr>
              <a:t>Aná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just">
              <a:lnSpc>
                <a:spcPct val="100000"/>
              </a:lnSpc>
              <a:buClr>
                <a:srgbClr val="fc0128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c0128"/>
                </a:solidFill>
                <a:latin typeface="Comic Sans MS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just">
              <a:lnSpc>
                <a:spcPct val="100000"/>
              </a:lnSpc>
              <a:buClr>
                <a:srgbClr val="fc0128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c0128"/>
                </a:solidFill>
                <a:latin typeface="Comic Sans MS"/>
              </a:rPr>
              <a:t>Progra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8040" y="240480"/>
            <a:ext cx="67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7.2 Modelamiento de un mercado competitivo (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4240" y="6402960"/>
            <a:ext cx="5700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7. Herramientas de Aná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071800" y="1251000"/>
            <a:ext cx="7753320" cy="49910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62000" y="2590560"/>
            <a:ext cx="20383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0"/>
                </a:solidFill>
                <a:latin typeface="Comic Sans MS"/>
              </a:rPr>
              <a:t>Plata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0"/>
                </a:solidFill>
                <a:latin typeface="Comic Sans MS"/>
              </a:rPr>
              <a:t>Para toma de deci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2920" y="782640"/>
            <a:ext cx="9259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8a"/>
                </a:solidFill>
                <a:latin typeface="Comic Sans MS"/>
              </a:rPr>
              <a:t>Concepto Deep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8040" y="240480"/>
            <a:ext cx="67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7.2 Modelamiento de un mercado competitivo (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4240" y="6402960"/>
            <a:ext cx="5700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7. Herramientas de Aná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0" y="1106640"/>
          <a:ext cx="5178600" cy="35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06640"/>
                    <a:ext cx="5178600" cy="3514680"/>
                  </a:xfrm>
                  <a:prstGeom prst="rect">
                    <a:avLst/>
                  </a:prstGeom>
                  <a:ln w="3240">
                    <a:solidFill>
                      <a:srgbClr val="ccff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2346480" y="2511360"/>
          <a:ext cx="5814720" cy="287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6480" y="2511360"/>
                    <a:ext cx="5814720" cy="2873520"/>
                  </a:xfrm>
                  <a:prstGeom prst="rect">
                    <a:avLst/>
                  </a:prstGeom>
                  <a:ln w="3240">
                    <a:solidFill>
                      <a:srgbClr val="ffff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5202360" y="3238560"/>
          <a:ext cx="4703760" cy="313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02360" y="3238560"/>
                    <a:ext cx="4703760" cy="3132000"/>
                  </a:xfrm>
                  <a:prstGeom prst="rect">
                    <a:avLst/>
                  </a:prstGeom>
                  <a:ln w="32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1643040" y="776160"/>
            <a:ext cx="1898640" cy="312840"/>
          </a:xfrm>
          <a:prstGeom prst="rect">
            <a:avLst/>
          </a:prstGeom>
          <a:solidFill>
            <a:srgbClr val="919191">
              <a:alpha val="50000"/>
            </a:srgbClr>
          </a:solidFill>
          <a:ln w="324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8a"/>
                </a:solidFill>
                <a:latin typeface="Comic Sans MS"/>
              </a:rPr>
              <a:t>Editor Eléctr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86520" y="1311120"/>
            <a:ext cx="2060280" cy="312840"/>
          </a:xfrm>
          <a:prstGeom prst="rect">
            <a:avLst/>
          </a:prstGeom>
          <a:solidFill>
            <a:srgbClr val="919191">
              <a:alpha val="50000"/>
            </a:srgbClr>
          </a:solidFill>
          <a:ln w="3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8a"/>
                </a:solidFill>
                <a:latin typeface="Comic Sans MS"/>
              </a:rPr>
              <a:t>Editor de Merc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843680" y="1706400"/>
            <a:ext cx="2062440" cy="312840"/>
          </a:xfrm>
          <a:prstGeom prst="rect">
            <a:avLst/>
          </a:prstGeom>
          <a:solidFill>
            <a:srgbClr val="919191">
              <a:alpha val="50000"/>
            </a:srgbClr>
          </a:solidFill>
          <a:ln w="32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8a"/>
                </a:solidFill>
                <a:latin typeface="Comic Sans MS"/>
              </a:rPr>
              <a:t>Editor Hidrául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"/>
          <p:cNvCxnSpPr>
            <a:stCxn id="180" idx="2"/>
          </p:cNvCxnSpPr>
          <p:nvPr/>
        </p:nvCxnSpPr>
        <p:spPr>
          <a:xfrm flipH="1">
            <a:off x="5254200" y="1627200"/>
            <a:ext cx="962640" cy="884880"/>
          </a:xfrm>
          <a:prstGeom prst="straightConnector1">
            <a:avLst/>
          </a:prstGeom>
          <a:ln w="25560">
            <a:solidFill>
              <a:srgbClr val="ffff99"/>
            </a:solidFill>
            <a:miter/>
          </a:ln>
        </p:spPr>
      </p:cxnSp>
      <p:cxnSp>
        <p:nvCxnSpPr>
          <p:cNvPr id="183" name=""/>
          <p:cNvCxnSpPr>
            <a:stCxn id="181" idx="2"/>
          </p:cNvCxnSpPr>
          <p:nvPr/>
        </p:nvCxnSpPr>
        <p:spPr>
          <a:xfrm flipH="1">
            <a:off x="7554600" y="2022480"/>
            <a:ext cx="1321200" cy="1216800"/>
          </a:xfrm>
          <a:prstGeom prst="straightConnector1">
            <a:avLst/>
          </a:prstGeom>
          <a:ln w="25560">
            <a:solidFill>
              <a:srgbClr val="99ccff"/>
            </a:solidFill>
            <a:miter/>
          </a:ln>
        </p:spPr>
      </p:cxnSp>
      <p:sp>
        <p:nvSpPr>
          <p:cNvPr id="184" name=""/>
          <p:cNvSpPr/>
          <p:nvPr/>
        </p:nvSpPr>
        <p:spPr>
          <a:xfrm>
            <a:off x="162000" y="4780080"/>
            <a:ext cx="1238040" cy="312840"/>
          </a:xfrm>
          <a:prstGeom prst="rect">
            <a:avLst/>
          </a:prstGeom>
          <a:solidFill>
            <a:srgbClr val="919191"/>
          </a:solidFill>
          <a:ln w="324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cffcc"/>
                </a:solidFill>
                <a:latin typeface="Comic Sans MS"/>
              </a:rPr>
              <a:t>ndb_co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49600" y="5527800"/>
            <a:ext cx="1238040" cy="531720"/>
          </a:xfrm>
          <a:prstGeom prst="rect">
            <a:avLst/>
          </a:prstGeom>
          <a:solidFill>
            <a:srgbClr val="919191"/>
          </a:solidFill>
          <a:ln w="3240">
            <a:solidFill>
              <a:srgbClr val="ffff99"/>
            </a:solidFill>
            <a:miter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Comic Sans MS"/>
              </a:rPr>
              <a:t>mdb_co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70360" y="5905440"/>
            <a:ext cx="1238040" cy="312840"/>
          </a:xfrm>
          <a:prstGeom prst="rect">
            <a:avLst/>
          </a:prstGeom>
          <a:solidFill>
            <a:srgbClr val="919191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99ccff"/>
                </a:solidFill>
                <a:latin typeface="Comic Sans MS"/>
              </a:rPr>
              <a:t>hdb_co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82920" y="5460840"/>
            <a:ext cx="1538280" cy="430200"/>
          </a:xfrm>
          <a:custGeom>
            <a:avLst/>
            <a:gdLst>
              <a:gd name="textAreaLeft" fmla="*/ 0 w 1538280"/>
              <a:gd name="textAreaRight" fmla="*/ 1538640 w 1538280"/>
              <a:gd name="textAreaTop" fmla="*/ 0 h 430200"/>
              <a:gd name="textAreaBottom" fmla="*/ 430560 h 430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919191">
              <a:alpha val="50000"/>
            </a:srgbClr>
          </a:solidFill>
          <a:ln w="32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01760" y="5025960"/>
            <a:ext cx="959040" cy="509760"/>
          </a:xfrm>
          <a:custGeom>
            <a:avLst/>
            <a:gdLst>
              <a:gd name="textAreaLeft" fmla="*/ 0 w 959040"/>
              <a:gd name="textAreaRight" fmla="*/ 959400 w 959040"/>
              <a:gd name="textAreaTop" fmla="*/ 0 h 509760"/>
              <a:gd name="textAreaBottom" fmla="*/ 510120 h 509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919191">
              <a:alpha val="50000"/>
            </a:srgbClr>
          </a:solidFill>
          <a:ln w="3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0360" y="4273560"/>
            <a:ext cx="958680" cy="509400"/>
          </a:xfrm>
          <a:custGeom>
            <a:avLst/>
            <a:gdLst>
              <a:gd name="textAreaLeft" fmla="*/ 0 w 958680"/>
              <a:gd name="textAreaRight" fmla="*/ 959040 w 958680"/>
              <a:gd name="textAreaTop" fmla="*/ 0 h 509400"/>
              <a:gd name="textAreaBottom" fmla="*/ 509760 h 509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919191">
              <a:alpha val="50000"/>
            </a:srgbClr>
          </a:solidFill>
          <a:ln w="324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8040" y="240480"/>
            <a:ext cx="67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7.2 Modelamiento de un mercado competitivo (I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4240" y="6402960"/>
            <a:ext cx="5700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7. Herramientas de Aná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735120" y="884160"/>
          <a:ext cx="3584520" cy="52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5120" y="884160"/>
                    <a:ext cx="3584520" cy="52563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6005520" y="1284120"/>
          <a:ext cx="2573280" cy="438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05520" y="1284120"/>
                    <a:ext cx="2573280" cy="43801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4689360" y="813240"/>
            <a:ext cx="5007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bol resumen de cl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3159000" y="1459080"/>
            <a:ext cx="2837160" cy="1203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8040" y="240480"/>
            <a:ext cx="67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7.2 Modelamiento de un mercado competitivo (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4240" y="6402960"/>
            <a:ext cx="5700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7. Herramientas de Aná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30T15:09:26Z</dcterms:created>
  <dc:creator>LS elektr. Energieversorgung</dc:creator>
  <dc:description/>
  <cp:keywords/>
  <dc:language>en-US</dc:language>
  <cp:lastModifiedBy>Rodrigo Palma</cp:lastModifiedBy>
  <cp:lastPrinted>2001-08-07T19:36:21Z</cp:lastPrinted>
  <dcterms:modified xsi:type="dcterms:W3CDTF">2007-11-05T01:16:52Z</dcterms:modified>
  <cp:revision>715</cp:revision>
  <dc:subject/>
  <dc:title>Titel der Folie</dc:title>
</cp:coreProperties>
</file>