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CA68-C056-4120-8772-6DE660D8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81A3-84B2-40D0-AB3F-924D29EE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905E-8B61-45BD-9A30-73F533E0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9698-9067-489D-AFFB-18589D4B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EF05-1E13-40C6-9899-627CD492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4196-AFA9-43CD-8C5A-4591F61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DDB3-FA37-42AB-99BE-A149D8FB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FAFD-E9E6-405D-BCED-029DC273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1DE8-691F-40EE-A708-A7E826C3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9DAC-2E37-4C12-8FDA-0A5D58D7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916C-34E7-4CFA-83F6-3F289C8A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242F-4B0E-45DA-9CA4-55524831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9498-38F6-4C7F-A06A-509657BF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A74A-4DC4-4E4C-BF30-2FFAD9C8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1CE6-9B9B-40ED-A7D3-E904A7D5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F21F-93C8-476C-9AA8-1F622EF1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47EC-7A76-4A9E-BBA5-97BE34F8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028F-5C68-429C-8152-6619ABBB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2623-842F-4B4B-8EFD-BAB281A6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2BB0-F83B-435C-A10D-DB4BD923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8AB0-1335-4D27-ADB4-8845A65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5FA1-7B1F-4A19-904A-B01EC757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726F-8314-4273-A40C-8E6341C1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2B85-F1E1-4749-B97F-00A41378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FD13-1247-4FA7-AAB2-6335A9DF797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01C3-D05C-4775-8575-C00D91463BF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271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rso de Formación General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007</a:t>
            </a:r>
            <a:br>
              <a:rPr sz="28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CEPTOS Y PROBLEMAS FUNDAMENTALES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E ÉTICA Y BIOÉTIC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f. Raúl Villarroel y Equip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Escudo U"/>
          <p:cNvPicPr/>
          <p:nvPr/>
        </p:nvPicPr>
        <p:blipFill>
          <a:blip r:embed="rId1"/>
          <a:stretch/>
        </p:blipFill>
        <p:spPr>
          <a:xfrm>
            <a:off x="826920" y="333360"/>
            <a:ext cx="628920" cy="11048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476360" y="836640"/>
            <a:ext cx="4608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dad de Formación Gen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valu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1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as teorías éticas revi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2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os conceptos generales de Bio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Análisis de cas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Informe escrito de seguimiento y análisis de caso que involucre conflictos morales, principalmente bio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Nota por asistenci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Examen de recup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Bibliografía fundament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istótele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a Nicóma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. Kant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Fundamentación de la Metafísica de las Costumb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S. Mil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Utilitar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Cortina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Mín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Haberm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Conciencia moral y Acción comunic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K. O. Ap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eoría de la verdad y ética del discu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. Jon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principio de respons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. Singer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Escríbar, M. Pérez, R. Villarro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Bioética: Fundamentos y Dimensión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adémic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RAÚL VILLARRO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Coordinador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rvillar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fesor de Filosofía (UCh) – Magíster en Filosofía (UCh) – Magíster en Bioética (UCh – U. Complutense de Madrid) – Doctor en Filosofía (UCh) – Postdoctorado en Filosofía (U. de Valenc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NUEL PÉREZ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perez@clinicalascondes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Medicina (UCh) – Médico neurólogo (UCh) – Magíster en Bioética (UCh – U. Complutense de Madr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RCELA FERRER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ferre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a en Sociología (UCh) – Socióloga (UCh) – Master of Health Sciences (U. de Toron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PAMELA CHÁVEZ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chavez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Licenciada en Filosofía (UC) – Magíster en Filosofía (UCh) – Magíster en Bioética (UCh – U. Complutense de Madrid) – Máster en Educación en Valores (U. de Barcelon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CARLOS RIQUELM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Ayudante)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lfonso6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Filosofía (UCh) – Magíster en Filosofía (U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Descripción gener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28760" y="18568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El curso aborda reflexivamente la revisión de los elementos centrales de la tradición ético-filosófica occidental, dando cuenta de los conceptos y problemas principales manejados por algunas de las más importantes corrientes, escuelas o teorías en la historia del pensamient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Se pretende con ello ofrecer una perspectiva de fundamentación para la posterior revisión y examen crítico de algunas de las problemáticas más relevantes y características del ámbito de la Bioétic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71468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COGNI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abstracción, análisis y sín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comunicación oral y escr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investigación teó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, plantear y resolver probl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plicar conocimientos teóricos a la prá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mar decisiones fundadas racional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ACTITUD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ilidad social y compromiso ciudad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é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aloración de la divers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oración de la multicultur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el 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los Derechos Hum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rograma de Curs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los distintos elementos teóricos constitutivos de la tradición ético-filosófica occidental, mediante la revisión crítica de sus conceptos, teorías y perspectiva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y distinguir los diferentes elementos teóricos y los problemas principales constitutivos del ámbito de la ética aplic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plicar procedimientos de análisis y deliberación racional en relación con casos y dilemas característicos del mundo ac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ética filosó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orías é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tele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ont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utilitar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procedi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 la respons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incipios y Métodos de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inicio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final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Problema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Derech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Medio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tividades relevan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500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lases teóricas presen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s de disc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32:54Z</dcterms:created>
  <dc:creator>Raúl Villarroel</dc:creator>
  <dc:description/>
  <dc:language>en-US</dc:language>
  <cp:lastModifiedBy> Raúl Villarroel</cp:lastModifiedBy>
  <dcterms:modified xsi:type="dcterms:W3CDTF">2007-08-22T16:33:44Z</dcterms:modified>
  <cp:revision>61</cp:revision>
  <dc:subject/>
  <dc:title>PROGRAMA ACADÉMICO DE  MAGÍSTER EN BIOÉTICA Ciclo de Bioética fundamental</dc:title>
</cp:coreProperties>
</file>