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30.wmf" ContentType="image/x-wmf"/>
  <Override PartName="/ppt/media/image11.jpeg" ContentType="image/jpeg"/>
  <Override PartName="/ppt/media/image23.wmf" ContentType="image/x-wmf"/>
  <Override PartName="/ppt/media/image22.jpeg" ContentType="image/jpeg"/>
  <Override PartName="/ppt/media/image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media/image31.wmf" ContentType="image/x-wmf"/>
  <Override PartName="/ppt/media/image19.jpeg" ContentType="image/jpeg"/>
  <Override PartName="/ppt/media/image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jpeg" ContentType="image/jpeg"/>
  <Override PartName="/ppt/media/image20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588-E4D0-41C2-8865-E658FD6F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8DC-2FB6-4EDC-9C02-08D65EB3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A8B-B2EE-4D98-8184-7D4CC635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A6B3-8A12-4AEE-B977-9F8956AF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C51B-630C-4139-B583-DD0A623A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896E-B780-4757-9506-C1F71416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36A3-6E3B-4C74-B048-2FE456C3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D8E0-0F73-47F3-ABA7-122391C0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7315-3DAE-410D-A387-3AEC66AA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A963-B2F3-4BDC-9EA0-2F8835A8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54F0-81AB-4514-801B-4E8C9E83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3F1-37C7-44EB-9784-4ED682BA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4C59-FE91-40C6-9F65-D5C12BDE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42B8-5943-418B-B5C4-EDE8ADAC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39E6-AD2B-4449-8EC7-2102C111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4F94-98F2-4581-94F7-BDCDD4F3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7BCC-1CED-432A-BCB1-8584BA9B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0E5-DE54-4A89-84D7-468E5BE7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B996-8391-4593-9EF0-F020BA1A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D65-FC50-4E56-8871-5C2C45B8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8A2-5533-46AC-8C43-FCB5913C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639-6292-400F-A65A-A13A758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F0D-569D-48B7-B612-0EAEBE46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E3D-F731-4614-A761-2E28D026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DD48-19A4-4B9E-8162-0020EC794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DFF4-90E9-47F7-8A57-EDF1A9D6F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F40A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smología 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e auxiliar #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estre Primavera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xiliar: Cindy Mora St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Con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689720" cy="4191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106600" y="601992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Lay &amp; Wal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1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708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492280"/>
            <a:ext cx="289080" cy="576360"/>
          </a:xfrm>
          <a:prstGeom prst="ellipse">
            <a:avLst/>
          </a:prstGeom>
          <a:solidFill>
            <a:srgbClr val="ffffcc">
              <a:alpha val="30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3141720"/>
            <a:ext cx="358920" cy="718920"/>
          </a:xfrm>
          <a:prstGeom prst="ellipse">
            <a:avLst/>
          </a:prstGeom>
          <a:solidFill>
            <a:srgbClr val="ffffcc">
              <a:alpha val="30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2492280"/>
            <a:ext cx="863640" cy="2890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3141720"/>
            <a:ext cx="1152720" cy="5032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500360" y="2205000"/>
            <a:ext cx="2663640" cy="503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27640" y="2852640"/>
            <a:ext cx="2736720" cy="936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28000" y="2421000"/>
            <a:ext cx="201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Planos nod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(plano de falla y plano  auxilia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1689120"/>
            <a:ext cx="1297080" cy="2100240"/>
          </a:xfrm>
          <a:custGeom>
            <a:avLst/>
            <a:gdLst/>
            <a:ahLst/>
            <a:rect l="l" t="t" r="r" b="b"/>
            <a:pathLst>
              <a:path w="817" h="1323">
                <a:moveTo>
                  <a:pt x="0" y="7"/>
                </a:moveTo>
                <a:cubicBezTo>
                  <a:pt x="22" y="7"/>
                  <a:pt x="89" y="0"/>
                  <a:pt x="134" y="8"/>
                </a:cubicBezTo>
                <a:cubicBezTo>
                  <a:pt x="179" y="16"/>
                  <a:pt x="234" y="38"/>
                  <a:pt x="272" y="53"/>
                </a:cubicBezTo>
                <a:cubicBezTo>
                  <a:pt x="310" y="68"/>
                  <a:pt x="323" y="75"/>
                  <a:pt x="362" y="98"/>
                </a:cubicBezTo>
                <a:cubicBezTo>
                  <a:pt x="401" y="121"/>
                  <a:pt x="460" y="155"/>
                  <a:pt x="505" y="193"/>
                </a:cubicBezTo>
                <a:cubicBezTo>
                  <a:pt x="550" y="231"/>
                  <a:pt x="604" y="292"/>
                  <a:pt x="635" y="325"/>
                </a:cubicBezTo>
                <a:cubicBezTo>
                  <a:pt x="666" y="358"/>
                  <a:pt x="667" y="356"/>
                  <a:pt x="690" y="394"/>
                </a:cubicBezTo>
                <a:cubicBezTo>
                  <a:pt x="713" y="432"/>
                  <a:pt x="752" y="504"/>
                  <a:pt x="771" y="552"/>
                </a:cubicBezTo>
                <a:cubicBezTo>
                  <a:pt x="790" y="600"/>
                  <a:pt x="798" y="639"/>
                  <a:pt x="805" y="684"/>
                </a:cubicBezTo>
                <a:cubicBezTo>
                  <a:pt x="812" y="729"/>
                  <a:pt x="817" y="777"/>
                  <a:pt x="816" y="824"/>
                </a:cubicBezTo>
                <a:cubicBezTo>
                  <a:pt x="815" y="871"/>
                  <a:pt x="809" y="916"/>
                  <a:pt x="800" y="965"/>
                </a:cubicBezTo>
                <a:cubicBezTo>
                  <a:pt x="791" y="1014"/>
                  <a:pt x="779" y="1078"/>
                  <a:pt x="765" y="1120"/>
                </a:cubicBezTo>
                <a:cubicBezTo>
                  <a:pt x="751" y="1162"/>
                  <a:pt x="737" y="1186"/>
                  <a:pt x="715" y="1220"/>
                </a:cubicBezTo>
                <a:cubicBezTo>
                  <a:pt x="693" y="1254"/>
                  <a:pt x="652" y="1302"/>
                  <a:pt x="635" y="1323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43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Azimut (130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2060640"/>
            <a:ext cx="2519280" cy="208908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203640" y="2924280"/>
            <a:ext cx="216000" cy="217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44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Manteo (dip) 70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195280" y="1989000"/>
            <a:ext cx="2592360" cy="1944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203640" y="2565000"/>
            <a:ext cx="288720" cy="3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6320" y="1727280"/>
            <a:ext cx="2382840" cy="2541600"/>
          </a:xfrm>
          <a:custGeom>
            <a:avLst/>
            <a:gdLst/>
            <a:ahLst/>
            <a:rect l="l" t="t" r="r" b="b"/>
            <a:pathLst>
              <a:path w="1501" h="1601">
                <a:moveTo>
                  <a:pt x="653" y="30"/>
                </a:moveTo>
                <a:cubicBezTo>
                  <a:pt x="676" y="28"/>
                  <a:pt x="739" y="15"/>
                  <a:pt x="791" y="21"/>
                </a:cubicBezTo>
                <a:cubicBezTo>
                  <a:pt x="843" y="27"/>
                  <a:pt x="869" y="0"/>
                  <a:pt x="963" y="64"/>
                </a:cubicBezTo>
                <a:cubicBezTo>
                  <a:pt x="1057" y="128"/>
                  <a:pt x="1274" y="270"/>
                  <a:pt x="1358" y="408"/>
                </a:cubicBezTo>
                <a:cubicBezTo>
                  <a:pt x="1442" y="546"/>
                  <a:pt x="1501" y="720"/>
                  <a:pt x="1470" y="889"/>
                </a:cubicBezTo>
                <a:cubicBezTo>
                  <a:pt x="1439" y="1058"/>
                  <a:pt x="1281" y="1307"/>
                  <a:pt x="1169" y="1422"/>
                </a:cubicBezTo>
                <a:cubicBezTo>
                  <a:pt x="1057" y="1537"/>
                  <a:pt x="909" y="1553"/>
                  <a:pt x="799" y="1577"/>
                </a:cubicBezTo>
                <a:cubicBezTo>
                  <a:pt x="689" y="1601"/>
                  <a:pt x="603" y="1590"/>
                  <a:pt x="507" y="1568"/>
                </a:cubicBezTo>
                <a:cubicBezTo>
                  <a:pt x="411" y="1546"/>
                  <a:pt x="307" y="1498"/>
                  <a:pt x="223" y="1448"/>
                </a:cubicBezTo>
                <a:cubicBezTo>
                  <a:pt x="139" y="1398"/>
                  <a:pt x="47" y="1306"/>
                  <a:pt x="0" y="1268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501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Azimut (235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01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Manteo (dip) ~50º - 60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Planos en la red de Schmid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5016600" cy="5195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517440" y="63086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Con las primeras llegadas y formas de ond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887640" cy="3154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124000" y="4508640"/>
            <a:ext cx="2824200" cy="1158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0" t="0" r="0" b="6337"/>
          <a:stretch/>
        </p:blipFill>
        <p:spPr>
          <a:xfrm>
            <a:off x="5940360" y="1628640"/>
            <a:ext cx="3219480" cy="5257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984000" y="65214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4e74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7080" y="37893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e5884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407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3280" y="5661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2349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Inver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0" y="5710320"/>
            <a:ext cx="2689200" cy="1147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71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Con comp. oblíc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6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jes P y 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856120" y="836640"/>
            <a:ext cx="3287880" cy="5187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553800" y="61722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rcRect l="6968" t="4448" r="2492" b="0"/>
          <a:stretch/>
        </p:blipFill>
        <p:spPr>
          <a:xfrm>
            <a:off x="395280" y="1285920"/>
            <a:ext cx="4211640" cy="557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27280" y="342900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áximo eje compresivo (eje de Pres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141300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ínimo eje compresivo (eje de Tens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716360" y="4220640"/>
            <a:ext cx="2735280" cy="2601000"/>
            <a:chOff x="4716360" y="4220640"/>
            <a:chExt cx="2735280" cy="2601000"/>
          </a:xfrm>
        </p:grpSpPr>
        <p:sp>
          <p:nvSpPr>
            <p:cNvPr id="189" name=""/>
            <p:cNvSpPr/>
            <p:nvPr/>
          </p:nvSpPr>
          <p:spPr>
            <a:xfrm>
              <a:off x="4716360" y="645336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sí se ve de arrib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219640" y="4220640"/>
              <a:ext cx="936720" cy="20876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72360" y="4508640"/>
            <a:ext cx="2735280" cy="2384280"/>
            <a:chOff x="6372360" y="4508640"/>
            <a:chExt cx="2735280" cy="2384280"/>
          </a:xfrm>
        </p:grpSpPr>
        <p:sp>
          <p:nvSpPr>
            <p:cNvPr id="192" name=""/>
            <p:cNvSpPr/>
            <p:nvPr/>
          </p:nvSpPr>
          <p:spPr>
            <a:xfrm>
              <a:off x="6372360" y="65246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sí se ve de cost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8748360" y="4508640"/>
              <a:ext cx="144360" cy="201600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4920" y="-27000"/>
            <a:ext cx="6581880" cy="49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987640" y="2421000"/>
            <a:ext cx="6153120" cy="44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3363840" cy="19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4920" y="4221000"/>
            <a:ext cx="3859200" cy="27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4920" y="260280"/>
            <a:ext cx="3768840" cy="27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564000" y="260280"/>
            <a:ext cx="6243480" cy="406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3708360" y="645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3141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404640"/>
            <a:ext cx="1655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000" y="2602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Fabricando mecanismos foc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1916280"/>
            <a:ext cx="7704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azimut de la primera llegada (Az -180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Llevar el azimut al Este u Oes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el ángulo de salida (ain – 90º) en la línea de mant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la llegada según Compresión ó 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Volver el Norte al No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Ídem con todas las es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Buscar plano nodal que mejor separe compresiones de dila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Buscar a 90º del mismo, su plano auxiliar (ortog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Una vez ubicado el plano de falla, marcar a 45º los eje P y T donde correspo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264440" y="3500280"/>
            <a:ext cx="18795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0" t="8275" r="0" b="0"/>
          <a:stretch/>
        </p:blipFill>
        <p:spPr>
          <a:xfrm>
            <a:off x="1828800" y="1889280"/>
            <a:ext cx="5791320" cy="336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152280"/>
            <a:ext cx="8153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ahoma"/>
                <a:ea typeface="ＭＳ Ｐゴシック"/>
              </a:rPr>
              <a:t>Representación plana de una falla mediante parámetros</a:t>
            </a:r>
            <a:r>
              <a:rPr b="1" lang="en-US" sz="1800" spc="-1" strike="noStrike">
                <a:solidFill>
                  <a:srgbClr val="ffff99"/>
                </a:solidFill>
                <a:latin typeface="Tahoma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res ángulos: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trike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f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, dip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, slip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,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os vectores unitarios ortogonales: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ormal 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y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lip vector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286240"/>
            <a:ext cx="8001000" cy="16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ordinate axes chosen with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vertical and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riented along the fault in the plane of the earth's surface, such that the fault dip angle,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asured from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-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xis, is &lt; 90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p angle </a:t>
            </a:r>
            <a:r>
              <a:rPr b="1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measured between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xis and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the fault pla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the strike of the fault measured clockwise from nor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72360" y="640080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in &amp; Wy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472428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namori and Cipar, 1974  S&amp;W 4.2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43280" y="3212640"/>
            <a:ext cx="936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48000" y="3212640"/>
            <a:ext cx="432000" cy="792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51280" y="2421000"/>
            <a:ext cx="324180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213000"/>
            <a:ext cx="180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4149720"/>
            <a:ext cx="180000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76720" y="3645000"/>
            <a:ext cx="158256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De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3733920" cy="33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4279680" cy="245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36520" y="525780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7200" y="46483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1916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9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De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1665" t="9007" r="8333" b="1716"/>
          <a:stretch/>
        </p:blipFill>
        <p:spPr>
          <a:xfrm>
            <a:off x="533520" y="1828800"/>
            <a:ext cx="8110440" cy="392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4360" y="3095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45240" y="2514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0"/>
            <a:ext cx="8229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Tiene relación con el patrón de radiación de ondas 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5689800" cy="4268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80000" y="3213000"/>
            <a:ext cx="3048120" cy="1327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164360" y="5084640"/>
            <a:ext cx="1473120" cy="11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7164360" y="1700280"/>
            <a:ext cx="1473120" cy="1057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885080" y="335772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235640" y="393372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3789360"/>
            <a:ext cx="43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156000" y="4005360"/>
            <a:ext cx="4316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516720" y="3715920"/>
            <a:ext cx="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3715560"/>
            <a:ext cx="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n la esfera foc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2276640" cy="22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08360" y="2479680"/>
            <a:ext cx="524520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40960" y="48769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5400" y="480060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Lay &amp; Wal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989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Esfera f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551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Semi Esfera inferi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042920" y="4149720"/>
            <a:ext cx="360360" cy="151128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64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Azimu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Ángulo de sal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3141720"/>
            <a:ext cx="576360" cy="792000"/>
          </a:xfrm>
          <a:prstGeom prst="ellipse">
            <a:avLst/>
          </a:prstGeom>
          <a:solidFill>
            <a:srgbClr val="ffffcc">
              <a:alpha val="15000"/>
            </a:srgbClr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4189800">
            <a:off x="4858920" y="2852640"/>
            <a:ext cx="576360" cy="792360"/>
          </a:xfrm>
          <a:prstGeom prst="ellipse">
            <a:avLst/>
          </a:prstGeom>
          <a:solidFill>
            <a:srgbClr val="ffffcc">
              <a:alpha val="15000"/>
            </a:srgbClr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Angulo de sali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7950" r="0" b="0"/>
          <a:stretch/>
        </p:blipFill>
        <p:spPr>
          <a:xfrm>
            <a:off x="380880" y="1905120"/>
            <a:ext cx="8305920" cy="481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334120" y="4616280"/>
            <a:ext cx="3124080" cy="1403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867280" y="43275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arámetro del ray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57150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stante en el ray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3429000"/>
            <a:ext cx="723960" cy="763560"/>
          </a:xfrm>
          <a:custGeom>
            <a:avLst/>
            <a:gdLst/>
            <a:ahLst/>
            <a:rect l="l" t="t" r="r" b="b"/>
            <a:pathLst>
              <a:path w="456" h="481">
                <a:moveTo>
                  <a:pt x="363" y="0"/>
                </a:moveTo>
                <a:cubicBezTo>
                  <a:pt x="372" y="16"/>
                  <a:pt x="402" y="56"/>
                  <a:pt x="417" y="94"/>
                </a:cubicBezTo>
                <a:cubicBezTo>
                  <a:pt x="432" y="132"/>
                  <a:pt x="452" y="188"/>
                  <a:pt x="454" y="227"/>
                </a:cubicBezTo>
                <a:cubicBezTo>
                  <a:pt x="456" y="266"/>
                  <a:pt x="443" y="304"/>
                  <a:pt x="432" y="329"/>
                </a:cubicBezTo>
                <a:cubicBezTo>
                  <a:pt x="421" y="354"/>
                  <a:pt x="406" y="358"/>
                  <a:pt x="387" y="379"/>
                </a:cubicBezTo>
                <a:cubicBezTo>
                  <a:pt x="368" y="400"/>
                  <a:pt x="357" y="437"/>
                  <a:pt x="318" y="454"/>
                </a:cubicBezTo>
                <a:cubicBezTo>
                  <a:pt x="279" y="471"/>
                  <a:pt x="204" y="481"/>
                  <a:pt x="156" y="480"/>
                </a:cubicBezTo>
                <a:cubicBezTo>
                  <a:pt x="108" y="479"/>
                  <a:pt x="57" y="462"/>
                  <a:pt x="31" y="450"/>
                </a:cubicBezTo>
                <a:cubicBezTo>
                  <a:pt x="5" y="438"/>
                  <a:pt x="6" y="417"/>
                  <a:pt x="0" y="408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35" repeatCount="5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rcRect l="0" t="5582" r="0" b="2441"/>
          <a:stretch/>
        </p:blipFill>
        <p:spPr>
          <a:xfrm>
            <a:off x="1447920" y="784080"/>
            <a:ext cx="6553080" cy="5845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Red de Schmid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89932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in &amp; Wysession,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6308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nserva ár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780000" y="1989000"/>
            <a:ext cx="493848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755640" y="26028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Orientación plano de fal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4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r convención, el manteo del plano de falla se mide hacia la derecha del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724360" y="5877000"/>
            <a:ext cx="2959200" cy="70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50920" y="4869000"/>
            <a:ext cx="5478480" cy="9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22:32:44Z</dcterms:created>
  <dc:creator>Cindy</dc:creator>
  <dc:description/>
  <dc:language>en-US</dc:language>
  <cp:lastModifiedBy>Cindy</cp:lastModifiedBy>
  <dcterms:modified xsi:type="dcterms:W3CDTF">2007-10-18T01:57:13Z</dcterms:modified>
  <cp:revision>8</cp:revision>
  <dc:subject/>
  <dc:title>GF40A  Sismología I</dc:title>
</cp:coreProperties>
</file>