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png" ContentType="image/png"/>
  <Override PartName="/ppt/media/image8.gif" ContentType="image/gif"/>
  <Override PartName="/ppt/media/image18.jpeg" ContentType="image/jpeg"/>
  <Override PartName="/ppt/media/image7.gif" ContentType="image/gif"/>
  <Override PartName="/ppt/media/image5.jpeg" ContentType="image/jpeg"/>
  <Override PartName="/ppt/media/image12.jpeg" ContentType="image/jpeg"/>
  <Override PartName="/ppt/media/image6.png" ContentType="image/png"/>
  <Override PartName="/ppt/media/image13.jpeg" ContentType="image/jpeg"/>
  <Override PartName="/ppt/media/image4.png" ContentType="image/png"/>
  <Override PartName="/ppt/media/image22.wmf" ContentType="image/x-wmf"/>
  <Override PartName="/ppt/media/image21.jpeg" ContentType="image/jpeg"/>
  <Override PartName="/ppt/media/image16.png" ContentType="image/png"/>
  <Override PartName="/ppt/media/image20.jpeg" ContentType="image/jpeg"/>
  <Override PartName="/ppt/media/image19.jpeg" ContentType="image/jpeg"/>
  <Override PartName="/ppt/media/image1.jpeg" ContentType="image/jpeg"/>
  <Override PartName="/ppt/media/image10.png" ContentType="image/png"/>
  <Override PartName="/ppt/media/image17.jpeg" ContentType="image/jpeg"/>
  <Override PartName="/ppt/media/image14.png" ContentType="image/png"/>
  <Override PartName="/ppt/media/image23.jpeg" ContentType="image/jpeg"/>
  <Override PartName="/ppt/media/image2.jpeg" ContentType="image/jpeg"/>
  <Override PartName="/ppt/media/image3.jpeg" ContentType="image/jpeg"/>
  <Override PartName="/ppt/media/image24.jpeg" ContentType="image/jpeg"/>
  <Override PartName="/ppt/media/image15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D2696-4BC4-4446-9F45-9FF79A50C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9A0D5-2B7F-42CF-B402-2D7E0F034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B3D4D-70D7-4839-886F-2BF64E342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54453-FF82-4EEA-BE4F-AE330C718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9A2FC2-1558-4295-BC52-43BB4A22C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E4D9CB-28A2-4C6F-BFD6-29B049EAB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B2612D-E11B-49FF-91E8-679F99E1E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4300AC-184B-474B-8ACA-DD0CE8AE8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902F92-DC78-4E44-BE04-4CE510423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D33B79-2359-4AB2-8410-41BB6167D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C3D9CE-6B98-4F0B-B7BA-CEB3611C4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65A80-0B93-4AF5-A90C-29784CBB9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3C9CF8-A8BE-4D47-8BDD-FE36D1B59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6839F3-D5DD-436B-A460-03E440F65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32B0B8-18F9-41E4-BD2F-BB2C81C25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6F6EA4-D79C-4783-BA14-4A816A82A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CA63EC-224E-4B59-93EE-9574A413D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82040-9705-4F99-953C-0C05DC7DA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2955C-5C90-4A54-ACD2-997ED5863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6DCF1-D5E4-45E7-8B2A-2DF6C4037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DA8C2-AF8B-4F12-9936-5D8F85F70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A9D66-3CC7-4B68-A42B-FB1C9A377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04AB5-D05B-4A49-B1AF-481EF07D4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ED4E6-EB9A-4F7E-B8C6-239C257B6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100000">
              <a:srgbClr val="004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a7a491"/>
                </a:gs>
                <a:gs pos="100000">
                  <a:srgbClr val="004e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c4b42"/>
                </a:gs>
                <a:gs pos="100000">
                  <a:srgbClr val="a7a49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477781"/>
              </a:gs>
              <a:gs pos="100000">
                <a:srgbClr val="a7a491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7f867d"/>
                </a:gs>
                <a:gs pos="100000">
                  <a:srgbClr val="404b3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04b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04b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04b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04b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04b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6e766b"/>
                </a:gs>
                <a:gs pos="100000">
                  <a:srgbClr val="404b3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04b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04b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04b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04b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04b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04b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d0c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77EA4-C0B7-49E7-AF86-368F91E9278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100000">
              <a:srgbClr val="004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a7a491"/>
                </a:gs>
                <a:gs pos="100000">
                  <a:srgbClr val="004e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c4b42"/>
                </a:gs>
                <a:gs pos="100000">
                  <a:srgbClr val="a7a49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477781"/>
              </a:gs>
              <a:gs pos="100000">
                <a:srgbClr val="a7a491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7f867d"/>
                </a:gs>
                <a:gs pos="100000">
                  <a:srgbClr val="404b3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04b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04b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04b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04b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04b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6e766b"/>
                </a:gs>
                <a:gs pos="100000">
                  <a:srgbClr val="404b3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04b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04b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04b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04b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04b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04b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d0ca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5A5A1-6D0A-442E-A3A0-5D83A66A51E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d0ca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d0ca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00"/>
            </a:gs>
            <a:gs pos="100000">
              <a:srgbClr val="004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184464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400" spc="-1" strike="noStrike">
                <a:solidFill>
                  <a:srgbClr val="fae410"/>
                </a:solidFill>
                <a:latin typeface="Arial"/>
              </a:rPr>
              <a:t>Estereometría</a:t>
            </a:r>
            <a:br>
              <a:rPr sz="5400"/>
            </a:br>
            <a:r>
              <a:rPr b="0" lang="es-ES_tradnl" sz="4000" spc="-1" strike="noStrike">
                <a:solidFill>
                  <a:srgbClr val="fae410"/>
                </a:solidFill>
                <a:latin typeface="Arial"/>
              </a:rPr>
              <a:t>Geología Estructural</a:t>
            </a:r>
            <a:endParaRPr b="0" lang="en-US" sz="40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51640" y="4508640"/>
            <a:ext cx="28080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Clase auxiliar GL41B/Primaver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200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00"/>
            </a:gs>
            <a:gs pos="100000">
              <a:srgbClr val="004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ae410"/>
                </a:solidFill>
                <a:latin typeface="Arial"/>
              </a:rPr>
              <a:t>Estereometría: La Recta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41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2 rect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ueden ser paralelas, cortarse o no intersectar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i se cortan tienen un punto que está en la misma línea de referenc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1"/>
          <a:stretch/>
        </p:blipFill>
        <p:spPr>
          <a:xfrm>
            <a:off x="4356000" y="1600200"/>
            <a:ext cx="4608720" cy="4462560"/>
          </a:xfrm>
          <a:prstGeom prst="rect">
            <a:avLst/>
          </a:prstGeom>
          <a:ln w="0">
            <a:noFill/>
          </a:ln>
        </p:spPr>
      </p:pic>
      <p:grpSp>
        <p:nvGrpSpPr>
          <p:cNvPr id="327" name=""/>
          <p:cNvGrpSpPr/>
          <p:nvPr/>
        </p:nvGrpSpPr>
        <p:grpSpPr>
          <a:xfrm>
            <a:off x="6174720" y="2430360"/>
            <a:ext cx="1930680" cy="1720800"/>
            <a:chOff x="6174720" y="2430360"/>
            <a:chExt cx="1930680" cy="1720800"/>
          </a:xfrm>
        </p:grpSpPr>
        <p:grpSp>
          <p:nvGrpSpPr>
            <p:cNvPr id="328" name=""/>
            <p:cNvGrpSpPr/>
            <p:nvPr/>
          </p:nvGrpSpPr>
          <p:grpSpPr>
            <a:xfrm>
              <a:off x="6248160" y="2774880"/>
              <a:ext cx="1584360" cy="1297080"/>
              <a:chOff x="6248160" y="2774880"/>
              <a:chExt cx="1584360" cy="1297080"/>
            </a:xfrm>
          </p:grpSpPr>
          <p:sp>
            <p:nvSpPr>
              <p:cNvPr id="329" name=""/>
              <p:cNvSpPr/>
              <p:nvPr/>
            </p:nvSpPr>
            <p:spPr>
              <a:xfrm flipV="1">
                <a:off x="6537240" y="2774880"/>
                <a:ext cx="0" cy="100800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 flipV="1">
                <a:off x="6392880" y="3495240"/>
                <a:ext cx="0" cy="43164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6248160" y="4071960"/>
                <a:ext cx="136872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6680160" y="3639960"/>
                <a:ext cx="115236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33" name=""/>
            <p:cNvGrpSpPr/>
            <p:nvPr/>
          </p:nvGrpSpPr>
          <p:grpSpPr>
            <a:xfrm>
              <a:off x="6174720" y="2430360"/>
              <a:ext cx="1930680" cy="1720800"/>
              <a:chOff x="6174720" y="2430360"/>
              <a:chExt cx="1930680" cy="1720800"/>
            </a:xfrm>
          </p:grpSpPr>
          <p:sp>
            <p:nvSpPr>
              <p:cNvPr id="334" name=""/>
              <p:cNvSpPr/>
              <p:nvPr/>
            </p:nvSpPr>
            <p:spPr>
              <a:xfrm>
                <a:off x="6537240" y="2774880"/>
                <a:ext cx="1079640" cy="1297080"/>
              </a:xfrm>
              <a:prstGeom prst="line">
                <a:avLst/>
              </a:prstGeom>
              <a:ln w="93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6392880" y="3495600"/>
                <a:ext cx="1439640" cy="1443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6389640" y="2430360"/>
                <a:ext cx="326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Tahoma"/>
                  </a:rPr>
                  <a:t>A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7611480" y="3782880"/>
                <a:ext cx="330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Tahoma"/>
                  </a:rPr>
                  <a:t>B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6174720" y="3135240"/>
                <a:ext cx="325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Tahoma"/>
                  </a:rPr>
                  <a:t>C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7756920" y="3416400"/>
                <a:ext cx="348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Tahoma"/>
                  </a:rPr>
                  <a:t>D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pic>
        <p:nvPicPr>
          <p:cNvPr id="340" name="" descr=""/>
          <p:cNvPicPr/>
          <p:nvPr/>
        </p:nvPicPr>
        <p:blipFill>
          <a:blip r:embed="rId2"/>
          <a:stretch/>
        </p:blipFill>
        <p:spPr>
          <a:xfrm>
            <a:off x="4356000" y="1557360"/>
            <a:ext cx="4581720" cy="5111640"/>
          </a:xfrm>
          <a:prstGeom prst="rect">
            <a:avLst/>
          </a:prstGeom>
          <a:ln w="0">
            <a:noFill/>
          </a:ln>
        </p:spPr>
      </p:pic>
      <p:grpSp>
        <p:nvGrpSpPr>
          <p:cNvPr id="341" name=""/>
          <p:cNvGrpSpPr/>
          <p:nvPr/>
        </p:nvGrpSpPr>
        <p:grpSpPr>
          <a:xfrm>
            <a:off x="5219640" y="2205000"/>
            <a:ext cx="3097440" cy="3095640"/>
            <a:chOff x="5219640" y="2205000"/>
            <a:chExt cx="3097440" cy="3095640"/>
          </a:xfrm>
        </p:grpSpPr>
        <p:sp>
          <p:nvSpPr>
            <p:cNvPr id="342" name=""/>
            <p:cNvSpPr/>
            <p:nvPr/>
          </p:nvSpPr>
          <p:spPr>
            <a:xfrm>
              <a:off x="5580000" y="2852640"/>
              <a:ext cx="2521080" cy="12970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580000" y="4149720"/>
              <a:ext cx="2521080" cy="11509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219640" y="2205000"/>
              <a:ext cx="3097440" cy="1944720"/>
            </a:xfrm>
            <a:prstGeom prst="line">
              <a:avLst/>
            </a:prstGeom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 flipV="1">
              <a:off x="5219640" y="4149720"/>
              <a:ext cx="3097440" cy="719280"/>
            </a:xfrm>
            <a:prstGeom prst="line">
              <a:avLst/>
            </a:prstGeom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516720" y="3357720"/>
              <a:ext cx="0" cy="12236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 flipV="1">
              <a:off x="5580000" y="2852280"/>
              <a:ext cx="0" cy="1297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8317080" y="2205000"/>
              <a:ext cx="0" cy="19447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8101080" y="4149720"/>
              <a:ext cx="0" cy="11509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5219640" y="4149720"/>
              <a:ext cx="0" cy="719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00"/>
            </a:gs>
            <a:gs pos="100000">
              <a:srgbClr val="004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ae410"/>
                </a:solidFill>
                <a:latin typeface="Arial"/>
              </a:rPr>
              <a:t>Estereometría: El Plano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¿Cómo definimos un plano? (en genera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3 punt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Y en el depurado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Con 3 punt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Con dos rectas, las que pueden cortarse o ser paralel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Con una recta y un punto fuera de ell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00"/>
            </a:gs>
            <a:gs pos="100000">
              <a:srgbClr val="004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ae410"/>
                </a:solidFill>
                <a:latin typeface="Arial"/>
              </a:rPr>
              <a:t>Estereometría: El Plano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7648920" y="1484280"/>
            <a:ext cx="102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2 rect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539640" y="1916280"/>
            <a:ext cx="8136000" cy="3960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1403280" y="1916280"/>
            <a:ext cx="0" cy="396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7812000" y="1916280"/>
            <a:ext cx="0" cy="396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1403280" y="4076640"/>
            <a:ext cx="640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050920" y="2708280"/>
            <a:ext cx="4826160" cy="136836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 flipH="1" flipV="1">
            <a:off x="2050560" y="4076280"/>
            <a:ext cx="4753080" cy="151308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4140360" y="3500280"/>
            <a:ext cx="1726920" cy="5763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4140360" y="3500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4140360" y="4076640"/>
            <a:ext cx="1726920" cy="1224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 flipV="1">
            <a:off x="5867280" y="4076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 flipV="1">
            <a:off x="3851280" y="2852640"/>
            <a:ext cx="2521080" cy="12240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6372360" y="2852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3850920" y="4076640"/>
            <a:ext cx="2521080" cy="57636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 flipV="1">
            <a:off x="3851280" y="4076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643280" y="364500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6659640" y="270828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P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6659640" y="52293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1042920" y="392580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812000" y="3925800"/>
            <a:ext cx="57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00"/>
            </a:gs>
            <a:gs pos="100000">
              <a:srgbClr val="004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ae410"/>
                </a:solidFill>
                <a:latin typeface="Arial"/>
              </a:rPr>
              <a:t>Estereometría: El Plano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4865760" y="1752480"/>
            <a:ext cx="3655800" cy="4230720"/>
          </a:xfrm>
          <a:prstGeom prst="rect">
            <a:avLst/>
          </a:prstGeom>
          <a:ln w="0">
            <a:noFill/>
          </a:ln>
        </p:spPr>
      </p:pic>
      <p:sp>
        <p:nvSpPr>
          <p:cNvPr id="376" name=""/>
          <p:cNvSpPr/>
          <p:nvPr/>
        </p:nvSpPr>
        <p:spPr>
          <a:xfrm>
            <a:off x="685800" y="1752480"/>
            <a:ext cx="3429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Rumbo: Ángulo que forma la proyección horizontal y una línea de tierra 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721480" y="3887640"/>
            <a:ext cx="2279520" cy="912960"/>
          </a:xfrm>
          <a:custGeom>
            <a:avLst/>
            <a:gdLst/>
            <a:ahLst/>
            <a:rect l="l" t="t" r="r" b="b"/>
            <a:pathLst>
              <a:path w="1292" h="479">
                <a:moveTo>
                  <a:pt x="0" y="0"/>
                </a:moveTo>
                <a:lnTo>
                  <a:pt x="1292" y="479"/>
                </a:ln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721480" y="3124080"/>
            <a:ext cx="2298600" cy="763560"/>
          </a:xfrm>
          <a:custGeom>
            <a:avLst/>
            <a:gdLst/>
            <a:ahLst/>
            <a:rect l="l" t="t" r="r" b="b"/>
            <a:pathLst>
              <a:path w="1448" h="481">
                <a:moveTo>
                  <a:pt x="0" y="481"/>
                </a:moveTo>
                <a:lnTo>
                  <a:pt x="1448" y="0"/>
                </a:ln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7543800" y="28954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P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7391520" y="46483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6324480" y="3809880"/>
            <a:ext cx="435240" cy="425520"/>
            <a:chOff x="6324480" y="3809880"/>
            <a:chExt cx="435240" cy="425520"/>
          </a:xfrm>
        </p:grpSpPr>
        <p:sp>
          <p:nvSpPr>
            <p:cNvPr id="382" name=""/>
            <p:cNvSpPr/>
            <p:nvPr/>
          </p:nvSpPr>
          <p:spPr>
            <a:xfrm>
              <a:off x="6613560" y="3886200"/>
              <a:ext cx="146160" cy="349200"/>
            </a:xfrm>
            <a:custGeom>
              <a:avLst/>
              <a:gdLst/>
              <a:ahLst/>
              <a:rect l="l" t="t" r="r" b="b"/>
              <a:pathLst>
                <a:path w="92" h="220">
                  <a:moveTo>
                    <a:pt x="0" y="220"/>
                  </a:moveTo>
                  <a:cubicBezTo>
                    <a:pt x="8" y="213"/>
                    <a:pt x="37" y="188"/>
                    <a:pt x="49" y="171"/>
                  </a:cubicBezTo>
                  <a:cubicBezTo>
                    <a:pt x="61" y="154"/>
                    <a:pt x="67" y="134"/>
                    <a:pt x="73" y="115"/>
                  </a:cubicBezTo>
                  <a:cubicBezTo>
                    <a:pt x="79" y="96"/>
                    <a:pt x="81" y="76"/>
                    <a:pt x="84" y="57"/>
                  </a:cubicBezTo>
                  <a:cubicBezTo>
                    <a:pt x="87" y="38"/>
                    <a:pt x="90" y="12"/>
                    <a:pt x="92" y="0"/>
                  </a:cubicBezTo>
                </a:path>
              </a:pathLst>
            </a:custGeom>
            <a:noFill/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6324480" y="3809880"/>
              <a:ext cx="38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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685800" y="3532320"/>
            <a:ext cx="3429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Manteo Aparente: Ángulo que forma la proyección vertical con la línea de tierr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5" name=""/>
          <p:cNvGrpSpPr/>
          <p:nvPr/>
        </p:nvGrpSpPr>
        <p:grpSpPr>
          <a:xfrm>
            <a:off x="6477120" y="3500280"/>
            <a:ext cx="549000" cy="410760"/>
            <a:chOff x="6477120" y="3500280"/>
            <a:chExt cx="549000" cy="410760"/>
          </a:xfrm>
        </p:grpSpPr>
        <p:sp>
          <p:nvSpPr>
            <p:cNvPr id="386" name=""/>
            <p:cNvSpPr/>
            <p:nvPr/>
          </p:nvSpPr>
          <p:spPr>
            <a:xfrm>
              <a:off x="6910560" y="3500280"/>
              <a:ext cx="115560" cy="373320"/>
            </a:xfrm>
            <a:custGeom>
              <a:avLst/>
              <a:gdLst/>
              <a:ahLst/>
              <a:rect l="l" t="t" r="r" b="b"/>
              <a:pathLst>
                <a:path w="73" h="235">
                  <a:moveTo>
                    <a:pt x="0" y="0"/>
                  </a:moveTo>
                  <a:cubicBezTo>
                    <a:pt x="5" y="8"/>
                    <a:pt x="30" y="25"/>
                    <a:pt x="41" y="48"/>
                  </a:cubicBezTo>
                  <a:cubicBezTo>
                    <a:pt x="52" y="71"/>
                    <a:pt x="60" y="107"/>
                    <a:pt x="65" y="138"/>
                  </a:cubicBezTo>
                  <a:cubicBezTo>
                    <a:pt x="70" y="169"/>
                    <a:pt x="71" y="215"/>
                    <a:pt x="73" y="235"/>
                  </a:cubicBezTo>
                </a:path>
              </a:pathLst>
            </a:custGeom>
            <a:noFill/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6477120" y="3505320"/>
              <a:ext cx="4572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s-CL" sz="1800" spc="-1" strike="noStrike" baseline="-25000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00"/>
            </a:gs>
            <a:gs pos="100000">
              <a:srgbClr val="004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ae410"/>
                </a:solidFill>
                <a:latin typeface="Arial"/>
              </a:rPr>
              <a:t>Estereometría: El Plano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pic>
        <p:nvPicPr>
          <p:cNvPr id="389" name="" descr=""/>
          <p:cNvPicPr/>
          <p:nvPr/>
        </p:nvPicPr>
        <p:blipFill>
          <a:blip r:embed="rId1"/>
          <a:stretch/>
        </p:blipFill>
        <p:spPr>
          <a:xfrm>
            <a:off x="4865760" y="1752480"/>
            <a:ext cx="3655800" cy="4230720"/>
          </a:xfrm>
          <a:prstGeom prst="rect">
            <a:avLst/>
          </a:prstGeom>
          <a:ln w="0">
            <a:noFill/>
          </a:ln>
        </p:spPr>
      </p:pic>
      <p:sp>
        <p:nvSpPr>
          <p:cNvPr id="390" name=""/>
          <p:cNvSpPr/>
          <p:nvPr/>
        </p:nvSpPr>
        <p:spPr>
          <a:xfrm>
            <a:off x="685800" y="175248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Manteo Real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5486400" y="3124080"/>
            <a:ext cx="2533320" cy="1676520"/>
            <a:chOff x="5486400" y="3124080"/>
            <a:chExt cx="2533320" cy="1676520"/>
          </a:xfrm>
        </p:grpSpPr>
        <p:sp>
          <p:nvSpPr>
            <p:cNvPr id="392" name=""/>
            <p:cNvSpPr/>
            <p:nvPr/>
          </p:nvSpPr>
          <p:spPr>
            <a:xfrm>
              <a:off x="5486400" y="3887640"/>
              <a:ext cx="2512440" cy="912960"/>
            </a:xfrm>
            <a:custGeom>
              <a:avLst/>
              <a:gdLst/>
              <a:ahLst/>
              <a:rect l="l" t="t" r="r" b="b"/>
              <a:pathLst>
                <a:path w="1292" h="479">
                  <a:moveTo>
                    <a:pt x="0" y="0"/>
                  </a:moveTo>
                  <a:lnTo>
                    <a:pt x="1292" y="479"/>
                  </a:lnTo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486400" y="3124080"/>
              <a:ext cx="2533320" cy="763560"/>
            </a:xfrm>
            <a:custGeom>
              <a:avLst/>
              <a:gdLst/>
              <a:ahLst/>
              <a:rect l="l" t="t" r="r" b="b"/>
              <a:pathLst>
                <a:path w="1448" h="481">
                  <a:moveTo>
                    <a:pt x="0" y="481"/>
                  </a:moveTo>
                  <a:lnTo>
                    <a:pt x="1448" y="0"/>
                  </a:lnTo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6400800" y="32004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P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391520" y="46483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685800" y="2438280"/>
            <a:ext cx="3962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Trazar línea de tierra perpendicular a la proyección horizonta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609480" y="3276720"/>
            <a:ext cx="396252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Medir cota del plano donde se intersecta LT con L</a:t>
            </a:r>
            <a:r>
              <a:rPr b="0" lang="es-CL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T</a:t>
            </a:r>
            <a:r>
              <a:rPr b="0" lang="es-CL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8" name=""/>
          <p:cNvGrpSpPr/>
          <p:nvPr/>
        </p:nvGrpSpPr>
        <p:grpSpPr>
          <a:xfrm>
            <a:off x="6629400" y="2286000"/>
            <a:ext cx="1828800" cy="3453840"/>
            <a:chOff x="6629400" y="2286000"/>
            <a:chExt cx="1828800" cy="3453840"/>
          </a:xfrm>
        </p:grpSpPr>
        <p:sp>
          <p:nvSpPr>
            <p:cNvPr id="399" name=""/>
            <p:cNvSpPr/>
            <p:nvPr/>
          </p:nvSpPr>
          <p:spPr>
            <a:xfrm flipV="1">
              <a:off x="6934320" y="2590560"/>
              <a:ext cx="1143000" cy="289548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629400" y="5334120"/>
              <a:ext cx="5335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ff"/>
                  </a:solidFill>
                  <a:latin typeface="Tahoma"/>
                </a:rPr>
                <a:t>L</a:t>
              </a:r>
              <a:r>
                <a:rPr b="0" lang="es-CL" sz="1800" spc="-1" strike="noStrike" baseline="-25000">
                  <a:solidFill>
                    <a:srgbClr val="0000ff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924680" y="2286000"/>
              <a:ext cx="5335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ff"/>
                  </a:solidFill>
                  <a:latin typeface="Tahoma"/>
                </a:rPr>
                <a:t>T</a:t>
              </a:r>
              <a:r>
                <a:rPr b="0" lang="es-CL" sz="1800" spc="-1" strike="noStrike" baseline="-25000">
                  <a:solidFill>
                    <a:srgbClr val="0000ff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2" name=""/>
          <p:cNvSpPr/>
          <p:nvPr/>
        </p:nvSpPr>
        <p:spPr>
          <a:xfrm>
            <a:off x="7556400" y="3279600"/>
            <a:ext cx="1800" cy="608040"/>
          </a:xfrm>
          <a:custGeom>
            <a:avLst/>
            <a:gdLst/>
            <a:ahLst/>
            <a:rect l="l" t="t" r="r" b="b"/>
            <a:pathLst>
              <a:path w="1" h="383">
                <a:moveTo>
                  <a:pt x="0" y="383"/>
                </a:moveTo>
                <a:lnTo>
                  <a:pt x="0" y="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 flipH="1">
            <a:off x="7010640" y="3276720"/>
            <a:ext cx="1064520" cy="121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4284525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4284525"/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  <a:headEnd len="med" type="oval" w="med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609480" y="4114800"/>
            <a:ext cx="396252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Rotar esa altura hasta una posición perpendicular a L</a:t>
            </a:r>
            <a:r>
              <a:rPr b="0" lang="es-CL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T</a:t>
            </a:r>
            <a:r>
              <a:rPr b="0" lang="es-CL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053120" y="3679920"/>
            <a:ext cx="516240" cy="207720"/>
          </a:xfrm>
          <a:custGeom>
            <a:avLst/>
            <a:gdLst/>
            <a:ahLst/>
            <a:rect l="l" t="t" r="r" b="b"/>
            <a:pathLst>
              <a:path w="325" h="131">
                <a:moveTo>
                  <a:pt x="325" y="131"/>
                </a:moveTo>
                <a:lnTo>
                  <a:pt x="0" y="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609480" y="4876920"/>
            <a:ext cx="396252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Trazar recta que una la intersección de P y L</a:t>
            </a:r>
            <a:r>
              <a:rPr b="0" lang="es-CL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T</a:t>
            </a:r>
            <a:r>
              <a:rPr b="0" lang="es-CL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 con el extremo de la altura rotad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7039080" y="3693960"/>
            <a:ext cx="276120" cy="878040"/>
          </a:xfrm>
          <a:custGeom>
            <a:avLst/>
            <a:gdLst/>
            <a:ahLst/>
            <a:rect l="l" t="t" r="r" b="b"/>
            <a:pathLst>
              <a:path w="174" h="553">
                <a:moveTo>
                  <a:pt x="174" y="553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609480" y="5943600"/>
            <a:ext cx="396252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El ángulo que forma esta recta con L</a:t>
            </a:r>
            <a:r>
              <a:rPr b="0" lang="es-CL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T</a:t>
            </a:r>
            <a:r>
              <a:rPr b="0" lang="es-CL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 es el manteo rea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9" name=""/>
          <p:cNvGrpSpPr/>
          <p:nvPr/>
        </p:nvGrpSpPr>
        <p:grpSpPr>
          <a:xfrm>
            <a:off x="7129440" y="3886200"/>
            <a:ext cx="490680" cy="405720"/>
            <a:chOff x="7129440" y="3886200"/>
            <a:chExt cx="490680" cy="405720"/>
          </a:xfrm>
        </p:grpSpPr>
        <p:sp>
          <p:nvSpPr>
            <p:cNvPr id="410" name=""/>
            <p:cNvSpPr/>
            <p:nvPr/>
          </p:nvSpPr>
          <p:spPr>
            <a:xfrm>
              <a:off x="7129440" y="3957480"/>
              <a:ext cx="374760" cy="84240"/>
            </a:xfrm>
            <a:custGeom>
              <a:avLst/>
              <a:gdLst/>
              <a:ahLst/>
              <a:rect l="l" t="t" r="r" b="b"/>
              <a:pathLst>
                <a:path w="236" h="53">
                  <a:moveTo>
                    <a:pt x="0" y="4"/>
                  </a:moveTo>
                  <a:cubicBezTo>
                    <a:pt x="13" y="4"/>
                    <a:pt x="45" y="0"/>
                    <a:pt x="69" y="3"/>
                  </a:cubicBezTo>
                  <a:cubicBezTo>
                    <a:pt x="93" y="6"/>
                    <a:pt x="119" y="13"/>
                    <a:pt x="147" y="21"/>
                  </a:cubicBezTo>
                  <a:cubicBezTo>
                    <a:pt x="175" y="29"/>
                    <a:pt x="218" y="46"/>
                    <a:pt x="236" y="53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7162920" y="3886200"/>
              <a:ext cx="4572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s-CL" sz="1800" spc="-1" strike="noStrike" baseline="-25000">
                  <a:solidFill>
                    <a:srgbClr val="000000"/>
                  </a:solidFill>
                  <a:latin typeface="Tahoma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00"/>
            </a:gs>
            <a:gs pos="100000">
              <a:srgbClr val="004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539640" y="2997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ae410"/>
                </a:solidFill>
                <a:latin typeface="Arial"/>
              </a:rPr>
              <a:t>Redes Estereográficas</a:t>
            </a:r>
            <a:r>
              <a:rPr b="1" lang="en-US" sz="4800" spc="-1" strike="noStrike">
                <a:solidFill>
                  <a:srgbClr val="ccd0ca"/>
                </a:solidFill>
                <a:latin typeface="Arial"/>
              </a:rPr>
              <a:t> </a:t>
            </a:r>
            <a:br>
              <a:rPr sz="4800"/>
            </a:br>
            <a:endParaRPr b="0" lang="en-US" sz="4800" spc="-1" strike="noStrike">
              <a:solidFill>
                <a:srgbClr val="ccd0c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00"/>
            </a:gs>
            <a:gs pos="100000">
              <a:srgbClr val="004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ae410"/>
                </a:solidFill>
                <a:latin typeface="Arial"/>
              </a:rPr>
              <a:t>Objetivos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Objetivo Princip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Uso de Red de estereográfica y manejo de grandes sets de dato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Representación de elementos del espacio en un plan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ff"/>
                </a:solidFill>
                <a:latin typeface="Arial"/>
              </a:rPr>
              <a:t>MOTIVAC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¿Cómo resumo/entrego los datos de muchas medidas de rumbo y manteo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00"/>
            </a:gs>
            <a:gs pos="100000">
              <a:srgbClr val="004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ae410"/>
                </a:solidFill>
                <a:latin typeface="Arial"/>
              </a:rPr>
              <a:t>Representación de Planos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ffffff"/>
                </a:solidFill>
                <a:latin typeface="Arial"/>
              </a:rPr>
              <a:t>Tipos de Notacio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Existen diversas maneras para anotar el rumbo y manteo de un plan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Cuadrante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Azimut y Cuadrante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Dip /Dip Direction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Azimut (Mano derecha)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00"/>
            </a:gs>
            <a:gs pos="100000">
              <a:srgbClr val="004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ae410"/>
                </a:solidFill>
                <a:latin typeface="Arial"/>
              </a:rPr>
              <a:t>Representación de Planos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Notación Azimutal (Mano Derecha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Similar a la anterior, solo que no se específica la dirección de mante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 flipV="1">
            <a:off x="1547640" y="3502080"/>
            <a:ext cx="1295640" cy="1295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2195640" y="4149720"/>
            <a:ext cx="144360" cy="1443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530000" y="5105520"/>
            <a:ext cx="10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045º,20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2394360" y="4024440"/>
            <a:ext cx="51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20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 flipV="1">
            <a:off x="5003640" y="3499920"/>
            <a:ext cx="1295640" cy="1295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5506920" y="4003560"/>
            <a:ext cx="144720" cy="1447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5437800" y="3643200"/>
            <a:ext cx="51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20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4862160" y="5011560"/>
            <a:ext cx="10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225º,20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3419640" y="3573360"/>
            <a:ext cx="647640" cy="649440"/>
          </a:xfrm>
          <a:custGeom>
            <a:avLst/>
            <a:gdLst>
              <a:gd name="textAreaLeft" fmla="*/ 0 w 647640"/>
              <a:gd name="textAreaRight" fmla="*/ 648000 w 647640"/>
              <a:gd name="textAreaTop" fmla="*/ 0 h 649440"/>
              <a:gd name="textAreaBottom" fmla="*/ 649800 h 64944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 rot="10800000">
            <a:off x="3492360" y="4437000"/>
            <a:ext cx="648000" cy="649440"/>
          </a:xfrm>
          <a:custGeom>
            <a:avLst/>
            <a:gdLst>
              <a:gd name="textAreaLeft" fmla="*/ 0 w 648000"/>
              <a:gd name="textAreaRight" fmla="*/ 648000 w 648000"/>
              <a:gd name="textAreaTop" fmla="*/ 0 h 649440"/>
              <a:gd name="textAreaBottom" fmla="*/ 649800 h 64944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279240" y="3933720"/>
            <a:ext cx="114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Rotació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Horar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00"/>
            </a:gs>
            <a:gs pos="100000">
              <a:srgbClr val="004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ae410"/>
                </a:solidFill>
                <a:latin typeface="Arial"/>
              </a:rPr>
              <a:t>Representación de Planos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6202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ffffff"/>
                </a:solidFill>
                <a:latin typeface="Arial"/>
              </a:rPr>
              <a:t>Dip / Dip Direction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 (Manteo, Dirección de Manteo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cccc"/>
                </a:solidFill>
                <a:latin typeface="Arial"/>
              </a:rPr>
              <a:t>En esta notación se mide la dirección de máxima pendiente (perpendicular al rumbo), y el mante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cccc"/>
                </a:solidFill>
                <a:latin typeface="Arial"/>
              </a:rPr>
              <a:t>El plano queda descrito sin necesidad de indicar hacia donde cae el mante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6157440" y="2205000"/>
            <a:ext cx="2823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Arial"/>
              </a:rPr>
              <a:t>N30W,40SW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330º,40SW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330º,40º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6156360" y="4149720"/>
            <a:ext cx="2806560" cy="820440"/>
            <a:chOff x="6156360" y="4149720"/>
            <a:chExt cx="2806560" cy="820440"/>
          </a:xfrm>
        </p:grpSpPr>
        <p:sp>
          <p:nvSpPr>
            <p:cNvPr id="434" name=""/>
            <p:cNvSpPr/>
            <p:nvPr/>
          </p:nvSpPr>
          <p:spPr>
            <a:xfrm rot="5400000">
              <a:off x="6659640" y="3646440"/>
              <a:ext cx="288720" cy="1295280"/>
            </a:xfrm>
            <a:custGeom>
              <a:avLst/>
              <a:gdLst>
                <a:gd name="textAreaLeft" fmla="*/ 0 w 288720"/>
                <a:gd name="textAreaRight" fmla="*/ 104040 w 288720"/>
                <a:gd name="textAreaTop" fmla="*/ 33480 h 1295280"/>
                <a:gd name="textAreaBottom" fmla="*/ 1261800 h 1295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 rot="5400000">
              <a:off x="8170920" y="3646440"/>
              <a:ext cx="288720" cy="1295280"/>
            </a:xfrm>
            <a:custGeom>
              <a:avLst/>
              <a:gdLst>
                <a:gd name="textAreaLeft" fmla="*/ 0 w 288720"/>
                <a:gd name="textAreaRight" fmla="*/ 104040 w 288720"/>
                <a:gd name="textAreaTop" fmla="*/ 33480 h 1295280"/>
                <a:gd name="textAreaBottom" fmla="*/ 1261800 h 1295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6303600" y="4581360"/>
              <a:ext cx="91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Arial"/>
                </a:rPr>
                <a:t>Rumb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7722720" y="4601880"/>
              <a:ext cx="941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Arial"/>
                </a:rPr>
                <a:t>Mante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38" name=""/>
          <p:cNvSpPr/>
          <p:nvPr/>
        </p:nvSpPr>
        <p:spPr>
          <a:xfrm>
            <a:off x="6548400" y="4797360"/>
            <a:ext cx="2041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40º, 240º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9" name=""/>
          <p:cNvGrpSpPr/>
          <p:nvPr/>
        </p:nvGrpSpPr>
        <p:grpSpPr>
          <a:xfrm>
            <a:off x="6084720" y="5445000"/>
            <a:ext cx="2862720" cy="1095120"/>
            <a:chOff x="6084720" y="5445000"/>
            <a:chExt cx="2862720" cy="1095120"/>
          </a:xfrm>
        </p:grpSpPr>
        <p:sp>
          <p:nvSpPr>
            <p:cNvPr id="440" name=""/>
            <p:cNvSpPr/>
            <p:nvPr/>
          </p:nvSpPr>
          <p:spPr>
            <a:xfrm rot="5400000">
              <a:off x="6587640" y="4941720"/>
              <a:ext cx="289080" cy="1295280"/>
            </a:xfrm>
            <a:custGeom>
              <a:avLst/>
              <a:gdLst>
                <a:gd name="textAreaLeft" fmla="*/ 0 w 289080"/>
                <a:gd name="textAreaRight" fmla="*/ 104400 w 289080"/>
                <a:gd name="textAreaTop" fmla="*/ 33480 h 1295280"/>
                <a:gd name="textAreaBottom" fmla="*/ 1261800 h 1295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 rot="5400000">
              <a:off x="8098920" y="4941720"/>
              <a:ext cx="289080" cy="1295280"/>
            </a:xfrm>
            <a:custGeom>
              <a:avLst/>
              <a:gdLst>
                <a:gd name="textAreaLeft" fmla="*/ 0 w 289080"/>
                <a:gd name="textAreaRight" fmla="*/ 104400 w 289080"/>
                <a:gd name="textAreaTop" fmla="*/ 33480 h 1295280"/>
                <a:gd name="textAreaBottom" fmla="*/ 1261800 h 1295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231600" y="5877000"/>
              <a:ext cx="941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Arial"/>
                </a:rPr>
                <a:t>Mante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7651080" y="5897520"/>
              <a:ext cx="1296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Arial"/>
                </a:rPr>
                <a:t>Direcció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Arial"/>
                </a:rPr>
                <a:t>De Mante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00"/>
            </a:gs>
            <a:gs pos="100000">
              <a:srgbClr val="004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e410"/>
                </a:solidFill>
                <a:latin typeface="Arial"/>
              </a:rPr>
              <a:t>Estereometría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ae410"/>
                </a:solidFill>
                <a:latin typeface="Arial"/>
              </a:rPr>
              <a:t>Geometrías Descriptiv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ae41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ae410"/>
                </a:solidFill>
                <a:latin typeface="Arial"/>
              </a:rPr>
              <a:t>Representar en un solo plano objetos del espaci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ae41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ae410"/>
                </a:solidFill>
                <a:latin typeface="Arial"/>
              </a:rPr>
              <a:t>Existen varios sistem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d0c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ae410"/>
                </a:solidFill>
                <a:latin typeface="Arial"/>
              </a:rPr>
              <a:t>Sistema Diédrico =&gt; 2 planos H y V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d0c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ae410"/>
                </a:solidFill>
                <a:latin typeface="Arial"/>
              </a:rPr>
              <a:t>Sistema Acotado =&gt; Mapas de Cot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d0c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ae410"/>
                </a:solidFill>
                <a:latin typeface="Arial"/>
              </a:rPr>
              <a:t>Sistema Axonométrico =&gt; 3 plan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d0c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ae410"/>
                </a:solidFill>
                <a:latin typeface="Arial"/>
              </a:rPr>
              <a:t>Sistema Cónic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00"/>
            </a:gs>
            <a:gs pos="100000">
              <a:srgbClr val="004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ae410"/>
                </a:solidFill>
                <a:latin typeface="Arial"/>
              </a:rPr>
              <a:t>Descripción de líneas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914400" y="1628280"/>
            <a:ext cx="8229600" cy="21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Azimut de una líne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Dirección c/r al nor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</a:rPr>
              <a:t>Equivale al rumb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Buzamiento de una líne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Angulo c/r a un plano horizont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</a:rPr>
              <a:t>Equivale al mante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6" name="" descr=""/>
          <p:cNvPicPr/>
          <p:nvPr/>
        </p:nvPicPr>
        <p:blipFill>
          <a:blip r:embed="rId1"/>
          <a:stretch/>
        </p:blipFill>
        <p:spPr>
          <a:xfrm>
            <a:off x="611280" y="4210200"/>
            <a:ext cx="8064360" cy="202716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00"/>
            </a:gs>
            <a:gs pos="100000">
              <a:srgbClr val="004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ae410"/>
                </a:solidFill>
                <a:latin typeface="Arial"/>
              </a:rPr>
              <a:t>¿Qué es una red estereográfica?</a:t>
            </a:r>
            <a:endParaRPr b="0" lang="en-US" sz="40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Una red estereográfica es una representación en 2 dimensiones de una esfera en la que es posible ubicar estructuras planares como fallas, fracturas, diaclasas, etc. Para esto basta con tener una buena medición del rumbo y manteo de la estructur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00"/>
            </a:gs>
            <a:gs pos="100000">
              <a:srgbClr val="004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e410"/>
                </a:solidFill>
                <a:latin typeface="Arial"/>
              </a:rPr>
              <a:t>Proyecciones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Proyecciones estereográfic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Equiangular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: Ángulos correctos, distancias falsas = Red de WULF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Equidistancial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: Distancias correctas, ángulos falsos = Red de SCHMID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En geología estructural se usa la red de Schmidt, proyectando en el hemisferio inferior. S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e evita una concentración muy grande de puntos en el centro de la red, como ocurriría con una red de Wulff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00"/>
            </a:gs>
            <a:gs pos="100000">
              <a:srgbClr val="004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1" name="" descr=""/>
          <p:cNvPicPr/>
          <p:nvPr/>
        </p:nvPicPr>
        <p:blipFill>
          <a:blip r:embed="rId1"/>
          <a:stretch/>
        </p:blipFill>
        <p:spPr>
          <a:xfrm>
            <a:off x="0" y="981000"/>
            <a:ext cx="4402080" cy="4751640"/>
          </a:xfrm>
          <a:prstGeom prst="rect">
            <a:avLst/>
          </a:prstGeom>
          <a:ln w="0">
            <a:noFill/>
          </a:ln>
        </p:spPr>
      </p:pic>
      <p:pic>
        <p:nvPicPr>
          <p:cNvPr id="452" name="" descr=""/>
          <p:cNvPicPr/>
          <p:nvPr/>
        </p:nvPicPr>
        <p:blipFill>
          <a:blip r:embed="rId2"/>
          <a:stretch/>
        </p:blipFill>
        <p:spPr>
          <a:xfrm>
            <a:off x="4427640" y="1341360"/>
            <a:ext cx="4495680" cy="436716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1042920" y="5734080"/>
            <a:ext cx="78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Red de Wulff                                             Red de Schmid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00"/>
            </a:gs>
            <a:gs pos="100000">
              <a:srgbClr val="004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e410"/>
                </a:solidFill>
                <a:latin typeface="Arial"/>
              </a:rPr>
              <a:t>Proyecciones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pic>
        <p:nvPicPr>
          <p:cNvPr id="455" name="" descr=""/>
          <p:cNvPicPr/>
          <p:nvPr/>
        </p:nvPicPr>
        <p:blipFill>
          <a:blip r:embed="rId1"/>
          <a:stretch/>
        </p:blipFill>
        <p:spPr>
          <a:xfrm>
            <a:off x="614520" y="1844640"/>
            <a:ext cx="3309840" cy="3889440"/>
          </a:xfrm>
          <a:prstGeom prst="rect">
            <a:avLst/>
          </a:prstGeom>
          <a:ln w="0">
            <a:noFill/>
          </a:ln>
        </p:spPr>
      </p:pic>
      <p:pic>
        <p:nvPicPr>
          <p:cNvPr id="456" name="" descr=""/>
          <p:cNvPicPr/>
          <p:nvPr/>
        </p:nvPicPr>
        <p:blipFill>
          <a:blip r:embed="rId2"/>
          <a:stretch/>
        </p:blipFill>
        <p:spPr>
          <a:xfrm>
            <a:off x="5316480" y="1844640"/>
            <a:ext cx="30006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00"/>
            </a:gs>
            <a:gs pos="100000">
              <a:srgbClr val="004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9" name="" descr=""/>
          <p:cNvPicPr/>
          <p:nvPr/>
        </p:nvPicPr>
        <p:blipFill>
          <a:blip r:embed="rId1"/>
          <a:srcRect l="30001" t="11334" r="38004" b="11334"/>
          <a:stretch/>
        </p:blipFill>
        <p:spPr>
          <a:xfrm>
            <a:off x="380880" y="0"/>
            <a:ext cx="3784680" cy="6858000"/>
          </a:xfrm>
          <a:prstGeom prst="rect">
            <a:avLst/>
          </a:prstGeom>
          <a:ln w="0">
            <a:noFill/>
          </a:ln>
        </p:spPr>
      </p:pic>
      <p:pic>
        <p:nvPicPr>
          <p:cNvPr id="460" name="" descr=""/>
          <p:cNvPicPr/>
          <p:nvPr/>
        </p:nvPicPr>
        <p:blipFill>
          <a:blip r:embed="rId2"/>
          <a:srcRect l="30001" t="11334" r="33001" b="11334"/>
          <a:stretch/>
        </p:blipFill>
        <p:spPr>
          <a:xfrm>
            <a:off x="4419720" y="0"/>
            <a:ext cx="4375080" cy="6858000"/>
          </a:xfrm>
          <a:prstGeom prst="rect">
            <a:avLst/>
          </a:prstGeom>
          <a:ln w="0">
            <a:noFill/>
          </a:ln>
        </p:spPr>
      </p:pic>
      <p:sp>
        <p:nvSpPr>
          <p:cNvPr id="461" name=""/>
          <p:cNvSpPr/>
          <p:nvPr/>
        </p:nvSpPr>
        <p:spPr>
          <a:xfrm>
            <a:off x="755640" y="1773360"/>
            <a:ext cx="2808360" cy="576000"/>
          </a:xfrm>
          <a:prstGeom prst="ellipse">
            <a:avLst/>
          </a:prstGeom>
          <a:solidFill>
            <a:srgbClr val="33cccc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5292720" y="1773360"/>
            <a:ext cx="2808360" cy="576000"/>
          </a:xfrm>
          <a:prstGeom prst="ellipse">
            <a:avLst/>
          </a:prstGeom>
          <a:solidFill>
            <a:srgbClr val="33cccc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755640" y="4005360"/>
            <a:ext cx="2808360" cy="2663640"/>
          </a:xfrm>
          <a:prstGeom prst="ellipse">
            <a:avLst/>
          </a:prstGeom>
          <a:solidFill>
            <a:srgbClr val="33cccc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5292720" y="4005360"/>
            <a:ext cx="2808360" cy="2663640"/>
          </a:xfrm>
          <a:prstGeom prst="ellipse">
            <a:avLst/>
          </a:prstGeom>
          <a:solidFill>
            <a:srgbClr val="33cccc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00"/>
            </a:gs>
            <a:gs pos="100000">
              <a:srgbClr val="004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ae410"/>
                </a:solidFill>
                <a:latin typeface="Arial"/>
              </a:rPr>
              <a:t>Conceptos preliminares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ffffff"/>
                </a:solidFill>
                <a:uFillTx/>
                <a:latin typeface="Arial"/>
              </a:rPr>
              <a:t>Rumbo (strik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ffffff"/>
                </a:solidFill>
                <a:uFillTx/>
                <a:latin typeface="Arial"/>
              </a:rPr>
              <a:t>Manteo (dip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ffffff"/>
                </a:solidFill>
                <a:uFillTx/>
                <a:latin typeface="Arial"/>
              </a:rPr>
              <a:t>Dip-Direction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: Dirección del manteo (a 90º del rumbo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ffffff"/>
                </a:solidFill>
                <a:uFillTx/>
                <a:latin typeface="Arial"/>
              </a:rPr>
              <a:t>Rake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: Inclinación del movimiento de la fall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ffffff"/>
                </a:solidFill>
                <a:uFillTx/>
                <a:latin typeface="Arial"/>
              </a:rPr>
              <a:t>Slip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: Magnitud del movimiento de la fall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ffffff"/>
                </a:solidFill>
                <a:uFillTx/>
                <a:latin typeface="Arial"/>
              </a:rPr>
              <a:t>Buzamiento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: Manteo de una Líne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00"/>
            </a:gs>
            <a:gs pos="100000">
              <a:srgbClr val="004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ae410"/>
                </a:solidFill>
                <a:latin typeface="Arial"/>
              </a:rPr>
              <a:t>Rumbo – manteo - rake: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pic>
        <p:nvPicPr>
          <p:cNvPr id="468" name="" descr=""/>
          <p:cNvPicPr/>
          <p:nvPr/>
        </p:nvPicPr>
        <p:blipFill>
          <a:blip r:embed="rId1"/>
          <a:stretch/>
        </p:blipFill>
        <p:spPr>
          <a:xfrm>
            <a:off x="1155600" y="1620720"/>
            <a:ext cx="6832800" cy="445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00"/>
            </a:gs>
            <a:gs pos="100000">
              <a:srgbClr val="004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9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8459640" cy="63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00"/>
            </a:gs>
            <a:gs pos="100000">
              <a:srgbClr val="004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ae410"/>
                </a:solidFill>
                <a:latin typeface="Arial"/>
              </a:rPr>
              <a:t>Ejercicios</a:t>
            </a:r>
            <a:endParaRPr b="0" lang="en-US" sz="40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324000" y="1197000"/>
            <a:ext cx="822960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ffff"/>
                </a:solidFill>
                <a:latin typeface="Arial"/>
              </a:rPr>
              <a:t>Dibujar las siguientes rectas (Azimut/Buzamiento)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75200" indent="-1828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ffff"/>
                </a:solidFill>
                <a:latin typeface="Arial"/>
              </a:rPr>
              <a:t>145/60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75200" indent="-1828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ffff"/>
                </a:solidFill>
                <a:latin typeface="Arial"/>
              </a:rPr>
              <a:t>310/20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75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ffff"/>
                </a:solidFill>
                <a:latin typeface="Arial"/>
              </a:rPr>
              <a:t>¿ Plano que contiene a ambas rectas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75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ffff"/>
                </a:solidFill>
                <a:latin typeface="Arial"/>
              </a:rPr>
              <a:t>¿ Angulo entre las rectas 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75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19240" indent="-219240">
              <a:lnSpc>
                <a:spcPct val="80000"/>
              </a:lnSpc>
              <a:spcBef>
                <a:spcPts val="550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ffff"/>
                </a:solidFill>
                <a:latin typeface="Arial"/>
              </a:rPr>
              <a:t>Dibujar los siguientes planos (Rumbo/Manteo)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75200" indent="-1828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ffff"/>
                </a:solidFill>
                <a:latin typeface="Arial"/>
              </a:rPr>
              <a:t>N40E/50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75200" indent="-1828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ffff"/>
                </a:solidFill>
                <a:latin typeface="Arial"/>
              </a:rPr>
              <a:t>N25W/80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75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ffff"/>
                </a:solidFill>
                <a:latin typeface="Arial"/>
              </a:rPr>
              <a:t>¿ Orientación de la recta intersección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75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ffff"/>
                </a:solidFill>
                <a:latin typeface="Arial"/>
              </a:rPr>
              <a:t>¿Plano que contiene a los polos de ambos planos 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75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19240" indent="-219240">
              <a:lnSpc>
                <a:spcPct val="80000"/>
              </a:lnSpc>
              <a:spcBef>
                <a:spcPts val="550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ffff"/>
                </a:solidFill>
                <a:latin typeface="Arial"/>
              </a:rPr>
              <a:t>Dibujar el siguiente plano (Rumbo/Manteo a la Izquierda)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75200" indent="-1828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ffff"/>
                </a:solidFill>
                <a:latin typeface="Arial"/>
              </a:rPr>
              <a:t>265/47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75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75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ffff"/>
                </a:solidFill>
                <a:latin typeface="Arial"/>
              </a:rPr>
              <a:t>**Ahora dibujar los Polos de todos los planos anteriores.**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00"/>
            </a:gs>
            <a:gs pos="100000">
              <a:srgbClr val="004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08000" y="1197000"/>
            <a:ext cx="4846680" cy="4691160"/>
          </a:xfrm>
          <a:prstGeom prst="rect">
            <a:avLst/>
          </a:prstGeom>
          <a:ln w="38160">
            <a:solidFill>
              <a:srgbClr val="a7a491"/>
            </a:solidFill>
            <a:miter/>
          </a:ln>
        </p:spPr>
      </p:pic>
      <p:pic>
        <p:nvPicPr>
          <p:cNvPr id="127" name="" descr=""/>
          <p:cNvPicPr/>
          <p:nvPr/>
        </p:nvPicPr>
        <p:blipFill>
          <a:blip r:embed="rId2"/>
          <a:srcRect l="3795" t="0" r="0" b="0"/>
          <a:stretch/>
        </p:blipFill>
        <p:spPr>
          <a:xfrm>
            <a:off x="5292720" y="1413000"/>
            <a:ext cx="3651120" cy="4233600"/>
          </a:xfrm>
          <a:prstGeom prst="rect">
            <a:avLst/>
          </a:prstGeom>
          <a:ln w="38160">
            <a:solidFill>
              <a:srgbClr val="a7a491"/>
            </a:solidFill>
            <a:miter/>
          </a:ln>
        </p:spPr>
      </p:pic>
      <p:sp>
        <p:nvSpPr>
          <p:cNvPr id="128" name=""/>
          <p:cNvSpPr/>
          <p:nvPr/>
        </p:nvSpPr>
        <p:spPr>
          <a:xfrm>
            <a:off x="519120" y="5243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ae410"/>
                </a:solidFill>
                <a:latin typeface="Arial"/>
              </a:rPr>
              <a:t>Estereometría: Geometría Diédrica</a:t>
            </a:r>
            <a:endParaRPr b="0" lang="en-US" sz="40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0240" y="5950080"/>
            <a:ext cx="627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lementos fundamentales: 2 planos de Proyección, </a:t>
            </a:r>
            <a:r>
              <a:rPr b="1" lang="en-US" sz="1800" spc="-1" strike="noStrike">
                <a:solidFill>
                  <a:srgbClr val="33cc33"/>
                </a:solidFill>
                <a:latin typeface="Tahoma"/>
              </a:rPr>
              <a:t>H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y</a:t>
            </a:r>
            <a:r>
              <a:rPr b="1" lang="en-US" sz="1800" spc="-1" strike="noStrike">
                <a:solidFill>
                  <a:srgbClr val="33cc33"/>
                </a:solidFill>
                <a:latin typeface="Tahoma"/>
              </a:rPr>
              <a:t> 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2700000" y="1413000"/>
            <a:ext cx="1584720" cy="2160000"/>
            <a:chOff x="2700000" y="1413000"/>
            <a:chExt cx="1584720" cy="2160000"/>
          </a:xfrm>
        </p:grpSpPr>
        <p:sp>
          <p:nvSpPr>
            <p:cNvPr id="132" name=""/>
            <p:cNvSpPr/>
            <p:nvPr/>
          </p:nvSpPr>
          <p:spPr>
            <a:xfrm flipH="1">
              <a:off x="2700000" y="1413000"/>
              <a:ext cx="358920" cy="1443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 flipV="1">
              <a:off x="3924360" y="3430080"/>
              <a:ext cx="360360" cy="1429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80280" y="6324480"/>
            <a:ext cx="474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Recta de intersección: Línea de Tierra </a:t>
            </a:r>
            <a:r>
              <a:rPr b="1" lang="en-US" sz="1800" spc="-1" strike="noStrike">
                <a:solidFill>
                  <a:srgbClr val="ff3300"/>
                </a:solidFill>
                <a:latin typeface="Tahoma"/>
              </a:rPr>
              <a:t>L</a:t>
            </a:r>
            <a:r>
              <a:rPr b="0" lang="en-US" sz="18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y</a:t>
            </a:r>
            <a:r>
              <a:rPr b="0" lang="en-US" sz="18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Tahoma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332000" y="2708280"/>
            <a:ext cx="1944360" cy="1657440"/>
            <a:chOff x="1332000" y="2708280"/>
            <a:chExt cx="1944360" cy="1657440"/>
          </a:xfrm>
        </p:grpSpPr>
        <p:sp>
          <p:nvSpPr>
            <p:cNvPr id="136" name=""/>
            <p:cNvSpPr/>
            <p:nvPr/>
          </p:nvSpPr>
          <p:spPr>
            <a:xfrm flipV="1">
              <a:off x="1332000" y="4149720"/>
              <a:ext cx="431640" cy="216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 flipH="1">
              <a:off x="2916000" y="2708280"/>
              <a:ext cx="360360" cy="2890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397560" y="5661000"/>
            <a:ext cx="12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Depura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00"/>
            </a:gs>
            <a:gs pos="100000">
              <a:srgbClr val="004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2" name="" descr=""/>
          <p:cNvPicPr/>
          <p:nvPr/>
        </p:nvPicPr>
        <p:blipFill>
          <a:blip r:embed="rId1"/>
          <a:srcRect l="5806" t="0" r="35832" b="0"/>
          <a:stretch/>
        </p:blipFill>
        <p:spPr>
          <a:xfrm>
            <a:off x="682560" y="1523880"/>
            <a:ext cx="7851960" cy="5334120"/>
          </a:xfrm>
          <a:prstGeom prst="rect">
            <a:avLst/>
          </a:prstGeom>
          <a:ln w="9360">
            <a:solidFill>
              <a:srgbClr val="404b3d"/>
            </a:solidFill>
            <a:miter/>
          </a:ln>
        </p:spPr>
      </p:pic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010280" y="3581280"/>
            <a:ext cx="457200" cy="1067040"/>
          </a:xfrm>
          <a:custGeom>
            <a:avLst/>
            <a:gdLst>
              <a:gd name="textAreaLeft" fmla="*/ 0 w 457200"/>
              <a:gd name="textAreaRight" fmla="*/ 164880 w 4572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404b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543800" y="1600200"/>
            <a:ext cx="99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b3d"/>
                </a:solidFill>
                <a:latin typeface="Verdana"/>
              </a:rPr>
              <a:t>Ángulo entre los pol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 flipH="1">
            <a:off x="7467480" y="2819520"/>
            <a:ext cx="457200" cy="1218960"/>
          </a:xfrm>
          <a:prstGeom prst="line">
            <a:avLst/>
          </a:prstGeom>
          <a:ln w="38160">
            <a:solidFill>
              <a:srgbClr val="404b3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 flipH="1" flipV="1">
            <a:off x="6948000" y="5157720"/>
            <a:ext cx="443160" cy="1395360"/>
          </a:xfrm>
          <a:prstGeom prst="line">
            <a:avLst/>
          </a:prstGeom>
          <a:ln w="38160">
            <a:solidFill>
              <a:srgbClr val="404b3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7315200" y="621648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b3d"/>
                </a:solidFill>
                <a:latin typeface="Verdana"/>
              </a:rPr>
              <a:t>Círculo May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556000" y="2612880"/>
            <a:ext cx="1584360" cy="960480"/>
          </a:xfrm>
          <a:custGeom>
            <a:avLst/>
            <a:gdLst/>
            <a:ahLst/>
            <a:rect l="l" t="t" r="r" b="b"/>
            <a:pathLst>
              <a:path w="998" h="605">
                <a:moveTo>
                  <a:pt x="0" y="15"/>
                </a:moveTo>
                <a:cubicBezTo>
                  <a:pt x="90" y="7"/>
                  <a:pt x="181" y="0"/>
                  <a:pt x="272" y="15"/>
                </a:cubicBezTo>
                <a:cubicBezTo>
                  <a:pt x="363" y="30"/>
                  <a:pt x="469" y="68"/>
                  <a:pt x="544" y="106"/>
                </a:cubicBezTo>
                <a:cubicBezTo>
                  <a:pt x="619" y="144"/>
                  <a:pt x="673" y="197"/>
                  <a:pt x="726" y="242"/>
                </a:cubicBezTo>
                <a:cubicBezTo>
                  <a:pt x="779" y="287"/>
                  <a:pt x="824" y="333"/>
                  <a:pt x="862" y="378"/>
                </a:cubicBezTo>
                <a:cubicBezTo>
                  <a:pt x="900" y="423"/>
                  <a:pt x="929" y="476"/>
                  <a:pt x="952" y="514"/>
                </a:cubicBezTo>
                <a:cubicBezTo>
                  <a:pt x="975" y="552"/>
                  <a:pt x="990" y="590"/>
                  <a:pt x="998" y="605"/>
                </a:cubicBezTo>
              </a:path>
            </a:pathLst>
          </a:custGeom>
          <a:noFill/>
          <a:ln w="38160">
            <a:solidFill>
              <a:srgbClr val="404b3d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 flipV="1">
            <a:off x="3995640" y="3429000"/>
            <a:ext cx="360360" cy="216000"/>
          </a:xfrm>
          <a:prstGeom prst="line">
            <a:avLst/>
          </a:prstGeom>
          <a:ln w="9360">
            <a:solidFill>
              <a:srgbClr val="404b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00"/>
            </a:gs>
            <a:gs pos="100000">
              <a:srgbClr val="004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08000" y="476280"/>
            <a:ext cx="86868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ae410"/>
                </a:solidFill>
                <a:latin typeface="Arial"/>
              </a:rPr>
              <a:t>Diagrama de circulo máximo y de polos.</a:t>
            </a:r>
            <a:endParaRPr b="0" lang="en-US" sz="3600" spc="-1" strike="noStrike">
              <a:solidFill>
                <a:srgbClr val="ccd0ca"/>
              </a:solidFill>
              <a:latin typeface="Arial"/>
            </a:endParaRPr>
          </a:p>
        </p:txBody>
      </p:sp>
      <p:pic>
        <p:nvPicPr>
          <p:cNvPr id="482" name="" descr=""/>
          <p:cNvPicPr/>
          <p:nvPr/>
        </p:nvPicPr>
        <p:blipFill>
          <a:blip r:embed="rId1"/>
          <a:stretch/>
        </p:blipFill>
        <p:spPr>
          <a:xfrm>
            <a:off x="611280" y="1771560"/>
            <a:ext cx="7993080" cy="42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00"/>
            </a:gs>
            <a:gs pos="100000">
              <a:srgbClr val="004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/>
          </p:nvPr>
        </p:nvSpPr>
        <p:spPr>
          <a:xfrm>
            <a:off x="250920" y="907560"/>
            <a:ext cx="8540640" cy="50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Red de Conteo (Kalsbeek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ccff"/>
                </a:solidFill>
                <a:latin typeface="Arial"/>
              </a:rPr>
              <a:t>Plotear todos los dato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ccff"/>
                </a:solidFill>
                <a:latin typeface="Arial"/>
              </a:rPr>
              <a:t>en la red de schmidt como pol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ccff"/>
                </a:solidFill>
                <a:latin typeface="Arial"/>
              </a:rPr>
              <a:t>Traspasar los datos a la red de Kalsbee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ccff"/>
                </a:solidFill>
                <a:latin typeface="Arial"/>
              </a:rPr>
              <a:t>Contar el numero de polos dentro de un hexágono. Anotar este número en el centro del hexágon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ccff"/>
                </a:solidFill>
                <a:latin typeface="Arial"/>
              </a:rPr>
              <a:t>Contar los puntos “al otro lado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ccff"/>
                </a:solidFill>
                <a:latin typeface="Arial"/>
              </a:rPr>
              <a:t>Calcular los porcentaj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ccd0c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ccff"/>
                </a:solidFill>
                <a:latin typeface="Arial"/>
              </a:rPr>
              <a:t>%= [(Valor del Nodo)/(Total)]*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ccff"/>
                </a:solidFill>
                <a:latin typeface="Arial"/>
              </a:rPr>
              <a:t>Crear los contorn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00"/>
            </a:gs>
            <a:gs pos="100000">
              <a:srgbClr val="004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4" name="" descr=""/>
          <p:cNvPicPr/>
          <p:nvPr/>
        </p:nvPicPr>
        <p:blipFill>
          <a:blip r:embed="rId1"/>
          <a:stretch/>
        </p:blipFill>
        <p:spPr>
          <a:xfrm>
            <a:off x="1332000" y="115920"/>
            <a:ext cx="626436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00"/>
            </a:gs>
            <a:gs pos="100000">
              <a:srgbClr val="004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ae410"/>
                </a:solidFill>
                <a:latin typeface="Arial"/>
              </a:rPr>
              <a:t>Red de Conteo (Kalsbeek)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pic>
        <p:nvPicPr>
          <p:cNvPr id="486" name="" descr=""/>
          <p:cNvPicPr/>
          <p:nvPr/>
        </p:nvPicPr>
        <p:blipFill>
          <a:blip r:embed="rId1"/>
          <a:stretch/>
        </p:blipFill>
        <p:spPr>
          <a:xfrm>
            <a:off x="1187280" y="2271600"/>
            <a:ext cx="7417080" cy="232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00"/>
            </a:gs>
            <a:gs pos="100000">
              <a:srgbClr val="004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pic>
        <p:nvPicPr>
          <p:cNvPr id="488" name="" descr=""/>
          <p:cNvPicPr/>
          <p:nvPr/>
        </p:nvPicPr>
        <p:blipFill>
          <a:blip r:embed="rId1"/>
          <a:stretch/>
        </p:blipFill>
        <p:spPr>
          <a:xfrm>
            <a:off x="-684360" y="1052640"/>
            <a:ext cx="11377800" cy="51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00"/>
            </a:gs>
            <a:gs pos="100000">
              <a:srgbClr val="004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d0ca"/>
                </a:solidFill>
                <a:latin typeface="Arial"/>
              </a:rPr>
              <a:t>Aplicaciones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Definir direcciones preferenciales cuando se tienen muchas medicion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Determinar ángulos de intersecciones de plano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Determinar manteos real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Medir ángulos entre plano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Etc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00"/>
            </a:gs>
            <a:gs pos="100000">
              <a:srgbClr val="004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95280" y="2708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d0ca"/>
                </a:solidFill>
                <a:latin typeface="Arial"/>
              </a:rPr>
              <a:t>Ejemplos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00"/>
            </a:gs>
            <a:gs pos="100000">
              <a:srgbClr val="004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d0ca"/>
                </a:solidFill>
                <a:latin typeface="Arial"/>
              </a:rPr>
              <a:t>Pliegues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pic>
        <p:nvPicPr>
          <p:cNvPr id="493" name="" descr=""/>
          <p:cNvPicPr/>
          <p:nvPr/>
        </p:nvPicPr>
        <p:blipFill>
          <a:blip r:embed="rId1"/>
          <a:stretch/>
        </p:blipFill>
        <p:spPr>
          <a:xfrm>
            <a:off x="0" y="1484280"/>
            <a:ext cx="9144000" cy="46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00"/>
            </a:gs>
            <a:gs pos="100000">
              <a:srgbClr val="004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d0ca"/>
                </a:solidFill>
                <a:latin typeface="Arial"/>
              </a:rPr>
              <a:t>Pliegues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pic>
        <p:nvPicPr>
          <p:cNvPr id="495" name="" descr=""/>
          <p:cNvPicPr/>
          <p:nvPr/>
        </p:nvPicPr>
        <p:blipFill>
          <a:blip r:embed="rId1"/>
          <a:stretch/>
        </p:blipFill>
        <p:spPr>
          <a:xfrm>
            <a:off x="1619280" y="1382760"/>
            <a:ext cx="6227640" cy="547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00"/>
            </a:gs>
            <a:gs pos="100000">
              <a:srgbClr val="004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e410"/>
                </a:solidFill>
                <a:latin typeface="Arial"/>
              </a:rPr>
              <a:t>Estereometría: El punto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5292720" y="1427040"/>
            <a:ext cx="3794040" cy="4233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179280" y="1330200"/>
            <a:ext cx="4846680" cy="469116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3276720" y="2292480"/>
            <a:ext cx="574560" cy="415800"/>
            <a:chOff x="3276720" y="2292480"/>
            <a:chExt cx="574560" cy="415800"/>
          </a:xfrm>
        </p:grpSpPr>
        <p:sp>
          <p:nvSpPr>
            <p:cNvPr id="143" name=""/>
            <p:cNvSpPr/>
            <p:nvPr/>
          </p:nvSpPr>
          <p:spPr>
            <a:xfrm>
              <a:off x="3276720" y="2565360"/>
              <a:ext cx="142920" cy="142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400560" y="2292480"/>
              <a:ext cx="45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2270160" y="2276640"/>
            <a:ext cx="1456200" cy="1591920"/>
            <a:chOff x="2270160" y="2276640"/>
            <a:chExt cx="1456200" cy="1591920"/>
          </a:xfrm>
        </p:grpSpPr>
        <p:sp>
          <p:nvSpPr>
            <p:cNvPr id="146" name=""/>
            <p:cNvSpPr/>
            <p:nvPr/>
          </p:nvSpPr>
          <p:spPr>
            <a:xfrm>
              <a:off x="2484360" y="2637000"/>
              <a:ext cx="8636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348000" y="2637000"/>
              <a:ext cx="0" cy="10080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3274920" y="3500280"/>
              <a:ext cx="451440" cy="368280"/>
              <a:chOff x="3274920" y="3500280"/>
              <a:chExt cx="451440" cy="368280"/>
            </a:xfrm>
          </p:grpSpPr>
          <p:sp>
            <p:nvSpPr>
              <p:cNvPr id="149" name=""/>
              <p:cNvSpPr/>
              <p:nvPr/>
            </p:nvSpPr>
            <p:spPr>
              <a:xfrm>
                <a:off x="3274920" y="3573360"/>
                <a:ext cx="144720" cy="142920"/>
              </a:xfrm>
              <a:prstGeom prst="ellipse">
                <a:avLst/>
              </a:prstGeom>
              <a:solidFill>
                <a:srgbClr val="33cc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3417480" y="3500280"/>
                <a:ext cx="308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a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1" name=""/>
            <p:cNvGrpSpPr/>
            <p:nvPr/>
          </p:nvGrpSpPr>
          <p:grpSpPr>
            <a:xfrm>
              <a:off x="2270160" y="2276640"/>
              <a:ext cx="348480" cy="431640"/>
              <a:chOff x="2270160" y="2276640"/>
              <a:chExt cx="348480" cy="431640"/>
            </a:xfrm>
          </p:grpSpPr>
          <p:sp>
            <p:nvSpPr>
              <p:cNvPr id="152" name=""/>
              <p:cNvSpPr/>
              <p:nvPr/>
            </p:nvSpPr>
            <p:spPr>
              <a:xfrm>
                <a:off x="2340000" y="2565360"/>
                <a:ext cx="144360" cy="142920"/>
              </a:xfrm>
              <a:prstGeom prst="ellipse">
                <a:avLst/>
              </a:prstGeom>
              <a:solidFill>
                <a:srgbClr val="33cc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2270160" y="2276640"/>
                <a:ext cx="348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a’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54" name=""/>
          <p:cNvGrpSpPr/>
          <p:nvPr/>
        </p:nvGrpSpPr>
        <p:grpSpPr>
          <a:xfrm>
            <a:off x="6878880" y="2205000"/>
            <a:ext cx="447840" cy="2455920"/>
            <a:chOff x="6878880" y="2205000"/>
            <a:chExt cx="447840" cy="2455920"/>
          </a:xfrm>
        </p:grpSpPr>
        <p:grpSp>
          <p:nvGrpSpPr>
            <p:cNvPr id="155" name=""/>
            <p:cNvGrpSpPr/>
            <p:nvPr/>
          </p:nvGrpSpPr>
          <p:grpSpPr>
            <a:xfrm>
              <a:off x="6878880" y="2205000"/>
              <a:ext cx="348480" cy="431640"/>
              <a:chOff x="6878880" y="2205000"/>
              <a:chExt cx="348480" cy="431640"/>
            </a:xfrm>
          </p:grpSpPr>
          <p:sp>
            <p:nvSpPr>
              <p:cNvPr id="156" name=""/>
              <p:cNvSpPr/>
              <p:nvPr/>
            </p:nvSpPr>
            <p:spPr>
              <a:xfrm>
                <a:off x="6948720" y="2493720"/>
                <a:ext cx="144360" cy="142920"/>
              </a:xfrm>
              <a:prstGeom prst="ellipse">
                <a:avLst/>
              </a:prstGeom>
              <a:solidFill>
                <a:srgbClr val="33cc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6878880" y="2205000"/>
                <a:ext cx="348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a’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6948360" y="4292640"/>
              <a:ext cx="378360" cy="368280"/>
              <a:chOff x="6948360" y="4292640"/>
              <a:chExt cx="378360" cy="368280"/>
            </a:xfrm>
          </p:grpSpPr>
          <p:sp>
            <p:nvSpPr>
              <p:cNvPr id="159" name=""/>
              <p:cNvSpPr/>
              <p:nvPr/>
            </p:nvSpPr>
            <p:spPr>
              <a:xfrm>
                <a:off x="6948360" y="4365720"/>
                <a:ext cx="144720" cy="142920"/>
              </a:xfrm>
              <a:prstGeom prst="ellipse">
                <a:avLst/>
              </a:prstGeom>
              <a:solidFill>
                <a:srgbClr val="33cc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7017840" y="4292640"/>
                <a:ext cx="308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a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61" name=""/>
          <p:cNvGrpSpPr/>
          <p:nvPr/>
        </p:nvGrpSpPr>
        <p:grpSpPr>
          <a:xfrm>
            <a:off x="2133720" y="2895480"/>
            <a:ext cx="921600" cy="825480"/>
            <a:chOff x="2133720" y="2895480"/>
            <a:chExt cx="921600" cy="825480"/>
          </a:xfrm>
        </p:grpSpPr>
        <p:sp>
          <p:nvSpPr>
            <p:cNvPr id="162" name=""/>
            <p:cNvSpPr/>
            <p:nvPr/>
          </p:nvSpPr>
          <p:spPr>
            <a:xfrm>
              <a:off x="2133720" y="289548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ahoma"/>
                </a:rPr>
                <a:t>h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742120" y="3352680"/>
              <a:ext cx="313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2411280" y="2637000"/>
            <a:ext cx="936720" cy="1008000"/>
            <a:chOff x="2411280" y="2637000"/>
            <a:chExt cx="936720" cy="1008000"/>
          </a:xfrm>
        </p:grpSpPr>
        <p:sp>
          <p:nvSpPr>
            <p:cNvPr id="165" name=""/>
            <p:cNvSpPr/>
            <p:nvPr/>
          </p:nvSpPr>
          <p:spPr>
            <a:xfrm>
              <a:off x="2411280" y="2637000"/>
              <a:ext cx="0" cy="10080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411280" y="3645000"/>
              <a:ext cx="9367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6947640" y="2565360"/>
            <a:ext cx="313200" cy="1871280"/>
            <a:chOff x="6947640" y="2565360"/>
            <a:chExt cx="313200" cy="1871280"/>
          </a:xfrm>
        </p:grpSpPr>
        <p:sp>
          <p:nvSpPr>
            <p:cNvPr id="168" name=""/>
            <p:cNvSpPr/>
            <p:nvPr/>
          </p:nvSpPr>
          <p:spPr>
            <a:xfrm>
              <a:off x="6947640" y="2917800"/>
              <a:ext cx="313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ahoma"/>
                </a:rPr>
                <a:t>h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947640" y="3925800"/>
              <a:ext cx="313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020000" y="2565360"/>
              <a:ext cx="0" cy="10080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7020000" y="357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611280" y="2133720"/>
            <a:ext cx="1296720" cy="1077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539320" y="5748480"/>
            <a:ext cx="183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h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= cot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d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= alejamien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895480" y="4114800"/>
            <a:ext cx="137160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1542960" y="2688840"/>
            <a:ext cx="1809360" cy="2327760"/>
            <a:chOff x="1542960" y="2688840"/>
            <a:chExt cx="1809360" cy="2327760"/>
          </a:xfrm>
        </p:grpSpPr>
        <p:sp>
          <p:nvSpPr>
            <p:cNvPr id="176" name=""/>
            <p:cNvSpPr/>
            <p:nvPr/>
          </p:nvSpPr>
          <p:spPr>
            <a:xfrm>
              <a:off x="2362320" y="4572000"/>
              <a:ext cx="144360" cy="142920"/>
            </a:xfrm>
            <a:prstGeom prst="ellipse">
              <a:avLst/>
            </a:prstGeom>
            <a:solidFill>
              <a:srgbClr val="33cccc"/>
            </a:solidFill>
            <a:ln cap="rnd" w="936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288520" y="4648320"/>
              <a:ext cx="308880" cy="368280"/>
            </a:xfrm>
            <a:prstGeom prst="rect">
              <a:avLst/>
            </a:prstGeom>
            <a:noFill/>
            <a:ln cap="rnd" w="936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flipV="1">
              <a:off x="1542960" y="2688840"/>
              <a:ext cx="1809360" cy="1959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688" y="1"/>
                  </a:moveTo>
                  <a:arcTo wR="10800" hR="10800" stAng="-5435767" swAng="547419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688" y="1"/>
                  </a:moveTo>
                  <a:arcTo wR="10800" hR="10800" stAng="-5435767" swAng="5474190"/>
                </a:path>
              </a:pathLst>
            </a:custGeom>
            <a:noFill/>
            <a:ln cap="rnd" w="12600">
              <a:solidFill>
                <a:srgbClr val="000000"/>
              </a:solidFill>
              <a:custDash>
                <a:ds d="100000" sp="1000"/>
              </a:custDash>
              <a:miter/>
              <a:headEnd len="med" type="triangle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416320" y="3641760"/>
              <a:ext cx="1440" cy="1008000"/>
            </a:xfrm>
            <a:custGeom>
              <a:avLst/>
              <a:gdLst/>
              <a:ahLst/>
              <a:rect l="l" t="t" r="r" b="b"/>
              <a:pathLst>
                <a:path w="1" h="635">
                  <a:moveTo>
                    <a:pt x="0" y="0"/>
                  </a:moveTo>
                  <a:lnTo>
                    <a:pt x="0" y="635"/>
                  </a:lnTo>
                </a:path>
              </a:pathLst>
            </a:custGeom>
            <a:noFill/>
            <a:ln cap="rnd" w="936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0" name=""/>
          <p:cNvSpPr/>
          <p:nvPr/>
        </p:nvSpPr>
        <p:spPr>
          <a:xfrm>
            <a:off x="2602080" y="3656880"/>
            <a:ext cx="1063440" cy="1220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433" y="12694"/>
                </a:moveTo>
                <a:arcTo wR="10800" hR="10800" stAng="605874" swAng="4116907"/>
                <a:lnTo>
                  <a:pt x="10800" y="10800"/>
                </a:lnTo>
                <a:close/>
              </a:path>
              <a:path fill="none" w="21600" h="21600">
                <a:moveTo>
                  <a:pt x="21433" y="12694"/>
                </a:moveTo>
                <a:arcTo wR="10800" hR="10800" stAng="605874" swAng="4116907"/>
              </a:path>
            </a:pathLst>
          </a:custGeom>
          <a:noFill/>
          <a:ln w="381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00"/>
            </a:gs>
            <a:gs pos="100000">
              <a:srgbClr val="004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d0ca"/>
                </a:solidFill>
                <a:latin typeface="Arial"/>
              </a:rPr>
              <a:t>Sets de Fallas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pic>
        <p:nvPicPr>
          <p:cNvPr id="497" name="" descr=""/>
          <p:cNvPicPr/>
          <p:nvPr/>
        </p:nvPicPr>
        <p:blipFill>
          <a:blip r:embed="rId1"/>
          <a:stretch/>
        </p:blipFill>
        <p:spPr>
          <a:xfrm>
            <a:off x="0" y="1557360"/>
            <a:ext cx="9144000" cy="46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00"/>
            </a:gs>
            <a:gs pos="100000">
              <a:srgbClr val="004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d0ca"/>
                </a:solidFill>
                <a:latin typeface="Arial"/>
              </a:rPr>
              <a:t>Sets de Fallas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pic>
        <p:nvPicPr>
          <p:cNvPr id="499" name="" descr=""/>
          <p:cNvPicPr/>
          <p:nvPr/>
        </p:nvPicPr>
        <p:blipFill>
          <a:blip r:embed="rId1"/>
          <a:stretch/>
        </p:blipFill>
        <p:spPr>
          <a:xfrm>
            <a:off x="0" y="1484280"/>
            <a:ext cx="9144000" cy="469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00"/>
            </a:gs>
            <a:gs pos="100000">
              <a:srgbClr val="004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ae410"/>
                </a:solidFill>
                <a:latin typeface="Arial"/>
              </a:rPr>
              <a:t>Diagrama de densidad de polos y Red de Kalsbeek.</a:t>
            </a:r>
            <a:endParaRPr b="0" lang="en-US" sz="40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 OTRA HOJ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bujar los polos de los siguientes plan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02" name=""/>
          <p:cNvGraphicFramePr/>
          <p:nvPr/>
        </p:nvGraphicFramePr>
        <p:xfrm>
          <a:off x="2743200" y="2971800"/>
          <a:ext cx="2976480" cy="2532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2971800"/>
                    <a:ext cx="2976480" cy="253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00"/>
            </a:gs>
            <a:gs pos="100000">
              <a:srgbClr val="004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ae410"/>
                </a:solidFill>
                <a:latin typeface="Arial"/>
              </a:rPr>
              <a:t>Rosetas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pic>
        <p:nvPicPr>
          <p:cNvPr id="505" name="" descr=""/>
          <p:cNvPicPr/>
          <p:nvPr/>
        </p:nvPicPr>
        <p:blipFill>
          <a:blip r:embed="rId1"/>
          <a:stretch/>
        </p:blipFill>
        <p:spPr>
          <a:xfrm>
            <a:off x="-1044720" y="1333440"/>
            <a:ext cx="12279600" cy="552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00"/>
            </a:gs>
            <a:gs pos="100000">
              <a:srgbClr val="004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pic>
        <p:nvPicPr>
          <p:cNvPr id="507" name="" descr=""/>
          <p:cNvPicPr/>
          <p:nvPr/>
        </p:nvPicPr>
        <p:blipFill>
          <a:blip r:embed="rId1"/>
          <a:stretch/>
        </p:blipFill>
        <p:spPr>
          <a:xfrm>
            <a:off x="-396720" y="0"/>
            <a:ext cx="15303240" cy="688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00"/>
            </a:gs>
            <a:gs pos="100000">
              <a:srgbClr val="004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900000" y="228240"/>
            <a:ext cx="7786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ae410"/>
                </a:solidFill>
                <a:latin typeface="Arial"/>
              </a:rPr>
              <a:t>DIPS (Rocscience)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179280" y="177300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cccc"/>
                </a:solidFill>
                <a:latin typeface="Arial"/>
              </a:rPr>
              <a:t>1. Crear un archivo DIP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cccc"/>
                </a:solidFill>
                <a:latin typeface="Arial"/>
              </a:rPr>
              <a:t>File&gt;Ne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cccc"/>
                </a:solidFill>
                <a:latin typeface="Arial"/>
              </a:rPr>
              <a:t>Setup&gt;Job Control&gt;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cccc"/>
                </a:solidFill>
                <a:latin typeface="Arial"/>
              </a:rPr>
              <a:t>Ingresar datos en tabla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cccc"/>
                </a:solidFill>
                <a:latin typeface="Arial"/>
              </a:rPr>
              <a:t>en el formato correspondiente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cccc"/>
                </a:solidFill>
                <a:latin typeface="Arial"/>
              </a:rPr>
              <a:t>Grabar archiv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cccc"/>
                </a:solidFill>
                <a:latin typeface="Arial"/>
              </a:rPr>
              <a:t>2. Plotear polos (abrir archivo)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cccc"/>
                </a:solidFill>
                <a:latin typeface="Arial"/>
              </a:rPr>
              <a:t>View&gt; Pole plo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cccc"/>
                </a:solidFill>
                <a:latin typeface="Arial"/>
              </a:rPr>
              <a:t>Setup&gt;Stereonet Options&gt;&gt;tipo de red, hemisferio de proyecc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cccc"/>
                </a:solidFill>
                <a:latin typeface="Arial"/>
              </a:rPr>
              <a:t>Setup&gt;Display Options&gt;&gt;selección de color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cccc"/>
                </a:solidFill>
                <a:latin typeface="Arial"/>
              </a:rPr>
              <a:t>3. Generar sets y planos de sistemas principal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cccc"/>
                </a:solidFill>
                <a:latin typeface="Arial"/>
              </a:rPr>
              <a:t>Sets&gt;Add plane windo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cccc"/>
                </a:solidFill>
                <a:latin typeface="Arial"/>
              </a:rPr>
              <a:t>Select&gt;Add pla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cccc"/>
                </a:solidFill>
                <a:latin typeface="Arial"/>
              </a:rPr>
              <a:t>Select&gt;edit planes o sets&gt;edi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00"/>
            </a:gs>
            <a:gs pos="100000">
              <a:srgbClr val="004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e410"/>
                </a:solidFill>
                <a:latin typeface="Arial"/>
              </a:rPr>
              <a:t>Estereometría: La Recta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108000" y="1484280"/>
            <a:ext cx="4846680" cy="469116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5148360" y="1700280"/>
            <a:ext cx="3794040" cy="423396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2771640" y="4292640"/>
            <a:ext cx="1224000" cy="115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773440" y="4294080"/>
            <a:ext cx="1150920" cy="1079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84360" y="2276640"/>
            <a:ext cx="1150920" cy="1079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340000" y="2428920"/>
            <a:ext cx="576360" cy="15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059280" y="4229280"/>
            <a:ext cx="576000" cy="151272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003400" y="1565280"/>
            <a:ext cx="192240" cy="50328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2195640" y="2421000"/>
            <a:ext cx="144360" cy="1512720"/>
          </a:xfrm>
          <a:prstGeom prst="line">
            <a:avLst/>
          </a:prstGeom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340000" y="3789360"/>
            <a:ext cx="576360" cy="144360"/>
          </a:xfrm>
          <a:prstGeom prst="line">
            <a:avLst/>
          </a:prstGeom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340000" y="2421000"/>
            <a:ext cx="0" cy="1368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2195640" y="3933720"/>
            <a:ext cx="72072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5653080" y="1699920"/>
            <a:ext cx="3022560" cy="3097440"/>
            <a:chOff x="5653080" y="1699920"/>
            <a:chExt cx="3022560" cy="3097440"/>
          </a:xfrm>
        </p:grpSpPr>
        <p:sp>
          <p:nvSpPr>
            <p:cNvPr id="195" name=""/>
            <p:cNvSpPr/>
            <p:nvPr/>
          </p:nvSpPr>
          <p:spPr>
            <a:xfrm flipV="1">
              <a:off x="7524720" y="1699920"/>
              <a:ext cx="863640" cy="793800"/>
            </a:xfrm>
            <a:prstGeom prst="line">
              <a:avLst/>
            </a:prstGeom>
            <a:ln w="9360">
              <a:solidFill>
                <a:srgbClr val="33cc33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flipV="1">
              <a:off x="6084720" y="3860640"/>
              <a:ext cx="1440000" cy="720720"/>
            </a:xfrm>
            <a:prstGeom prst="line">
              <a:avLst/>
            </a:prstGeom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flipV="1">
              <a:off x="5724360" y="3860280"/>
              <a:ext cx="360360" cy="360360"/>
            </a:xfrm>
            <a:prstGeom prst="line">
              <a:avLst/>
            </a:prstGeom>
            <a:ln w="9360">
              <a:solidFill>
                <a:srgbClr val="33cc33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5653080" y="4076640"/>
              <a:ext cx="1440000" cy="720720"/>
            </a:xfrm>
            <a:prstGeom prst="line">
              <a:avLst/>
            </a:prstGeom>
            <a:ln w="9360">
              <a:solidFill>
                <a:srgbClr val="33cc33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7236000" y="3284640"/>
              <a:ext cx="1439640" cy="720720"/>
            </a:xfrm>
            <a:prstGeom prst="line">
              <a:avLst/>
            </a:prstGeom>
            <a:ln w="9360">
              <a:solidFill>
                <a:srgbClr val="33cc33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0" name=""/>
          <p:cNvSpPr/>
          <p:nvPr/>
        </p:nvSpPr>
        <p:spPr>
          <a:xfrm>
            <a:off x="2265480" y="213372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910960" y="371016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6084720" y="2491920"/>
            <a:ext cx="1440000" cy="1368360"/>
          </a:xfrm>
          <a:prstGeom prst="line">
            <a:avLst/>
          </a:prstGeom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5868000" y="3494160"/>
            <a:ext cx="388440" cy="1455480"/>
            <a:chOff x="5868000" y="3494160"/>
            <a:chExt cx="388440" cy="1455480"/>
          </a:xfrm>
        </p:grpSpPr>
        <p:sp>
          <p:nvSpPr>
            <p:cNvPr id="204" name=""/>
            <p:cNvSpPr/>
            <p:nvPr/>
          </p:nvSpPr>
          <p:spPr>
            <a:xfrm>
              <a:off x="6084720" y="3860640"/>
              <a:ext cx="0" cy="72072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868000" y="3494160"/>
              <a:ext cx="36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’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935680" y="458136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7382160" y="2133720"/>
            <a:ext cx="376560" cy="2023920"/>
            <a:chOff x="7382160" y="2133720"/>
            <a:chExt cx="376560" cy="2023920"/>
          </a:xfrm>
        </p:grpSpPr>
        <p:sp>
          <p:nvSpPr>
            <p:cNvPr id="208" name=""/>
            <p:cNvSpPr/>
            <p:nvPr/>
          </p:nvSpPr>
          <p:spPr>
            <a:xfrm>
              <a:off x="7524720" y="2492280"/>
              <a:ext cx="0" cy="136836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382160" y="2133720"/>
              <a:ext cx="34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’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49840" y="3789360"/>
              <a:ext cx="30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1" name=""/>
          <p:cNvSpPr/>
          <p:nvPr/>
        </p:nvSpPr>
        <p:spPr>
          <a:xfrm flipV="1">
            <a:off x="2484360" y="3499920"/>
            <a:ext cx="503280" cy="2890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372000" y="4076640"/>
            <a:ext cx="431640" cy="214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flipH="1" rot="19480800">
            <a:off x="6935400" y="3404160"/>
            <a:ext cx="577080" cy="1123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9975" y="5102"/>
                </a:moveTo>
                <a:arcTo wR="10800" hR="10800" stAng="-1910423" swAng="1910393"/>
                <a:lnTo>
                  <a:pt x="10800" y="10800"/>
                </a:lnTo>
                <a:close/>
              </a:path>
              <a:path fill="none" w="21600" h="21600">
                <a:moveTo>
                  <a:pt x="19975" y="5102"/>
                </a:moveTo>
                <a:arcTo wR="10800" hR="10800" stAng="-1910423" swAng="1910393"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2122920" y="3428640"/>
            <a:ext cx="431280" cy="430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2547826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2547826"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5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500"/>
                            </p:stCondLst>
                            <p:childTnLst>
                              <p:par>
                                <p:cTn id="1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500"/>
                            </p:stCondLst>
                            <p:childTnLst>
                              <p:par>
                                <p:cTn id="1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00"/>
            </a:gs>
            <a:gs pos="100000">
              <a:srgbClr val="004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e410"/>
                </a:solidFill>
                <a:latin typeface="Arial"/>
              </a:rPr>
              <a:t>Estereometría: La Recta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41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ctas especia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cta Horizontal: recta contenida en un plano horizon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cta frontal: Recta contenida en un plano fron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4478760" y="2637000"/>
            <a:ext cx="3985200" cy="382320"/>
            <a:chOff x="4478760" y="2637000"/>
            <a:chExt cx="3985200" cy="382320"/>
          </a:xfrm>
        </p:grpSpPr>
        <p:sp>
          <p:nvSpPr>
            <p:cNvPr id="218" name=""/>
            <p:cNvSpPr/>
            <p:nvPr/>
          </p:nvSpPr>
          <p:spPr>
            <a:xfrm>
              <a:off x="4788000" y="2852640"/>
              <a:ext cx="33130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478760" y="265104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8156880" y="26370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1" name=""/>
          <p:cNvSpPr/>
          <p:nvPr/>
        </p:nvSpPr>
        <p:spPr>
          <a:xfrm>
            <a:off x="5076720" y="2133720"/>
            <a:ext cx="25909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076720" y="2852640"/>
            <a:ext cx="2590920" cy="7207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076720" y="2133720"/>
            <a:ext cx="0" cy="71892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7667640" y="2133360"/>
            <a:ext cx="0" cy="143964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4499280" y="4581360"/>
            <a:ext cx="3985200" cy="382320"/>
            <a:chOff x="4499280" y="4581360"/>
            <a:chExt cx="3985200" cy="382320"/>
          </a:xfrm>
        </p:grpSpPr>
        <p:sp>
          <p:nvSpPr>
            <p:cNvPr id="226" name=""/>
            <p:cNvSpPr/>
            <p:nvPr/>
          </p:nvSpPr>
          <p:spPr>
            <a:xfrm>
              <a:off x="4808520" y="4797000"/>
              <a:ext cx="33127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499280" y="459540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8177400" y="45813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9" name=""/>
          <p:cNvSpPr/>
          <p:nvPr/>
        </p:nvSpPr>
        <p:spPr>
          <a:xfrm flipH="1">
            <a:off x="5146200" y="5518080"/>
            <a:ext cx="25909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flipH="1" flipV="1">
            <a:off x="5146200" y="4078440"/>
            <a:ext cx="2590920" cy="7207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7738920" y="4797360"/>
            <a:ext cx="0" cy="71928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146560" y="4076640"/>
            <a:ext cx="0" cy="144000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913640" y="1787400"/>
            <a:ext cx="34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7574760" y="1716120"/>
            <a:ext cx="3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857480" y="285264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715160" y="344340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986720" y="3660840"/>
            <a:ext cx="34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666920" y="4437000"/>
            <a:ext cx="3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982760" y="553248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712280" y="551664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00"/>
            </a:gs>
            <a:gs pos="100000">
              <a:srgbClr val="004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e410"/>
                </a:solidFill>
                <a:latin typeface="Arial"/>
              </a:rPr>
              <a:t>Estereometría: La Recta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187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ctas Especia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 fuga o de punta: Perpendicular al PV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rtical: Perpendicular al P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alela a LT: Es una recta cuyas proyecciones horizontal y vertical son paralelas a L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3" name=""/>
          <p:cNvGrpSpPr/>
          <p:nvPr/>
        </p:nvGrpSpPr>
        <p:grpSpPr>
          <a:xfrm>
            <a:off x="4426200" y="3716280"/>
            <a:ext cx="3985200" cy="382320"/>
            <a:chOff x="4426200" y="3716280"/>
            <a:chExt cx="3985200" cy="382320"/>
          </a:xfrm>
        </p:grpSpPr>
        <p:sp>
          <p:nvSpPr>
            <p:cNvPr id="244" name=""/>
            <p:cNvSpPr/>
            <p:nvPr/>
          </p:nvSpPr>
          <p:spPr>
            <a:xfrm>
              <a:off x="4735440" y="3931920"/>
              <a:ext cx="33127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426200" y="373032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104320" y="37162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4499280" y="5711760"/>
            <a:ext cx="3985200" cy="382320"/>
            <a:chOff x="4499280" y="5711760"/>
            <a:chExt cx="3985200" cy="382320"/>
          </a:xfrm>
        </p:grpSpPr>
        <p:sp>
          <p:nvSpPr>
            <p:cNvPr id="248" name=""/>
            <p:cNvSpPr/>
            <p:nvPr/>
          </p:nvSpPr>
          <p:spPr>
            <a:xfrm>
              <a:off x="4808520" y="5927400"/>
              <a:ext cx="33127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499280" y="572580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8177400" y="57117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426200" y="2276640"/>
            <a:ext cx="3985200" cy="382320"/>
            <a:chOff x="4426200" y="2276640"/>
            <a:chExt cx="3985200" cy="382320"/>
          </a:xfrm>
        </p:grpSpPr>
        <p:sp>
          <p:nvSpPr>
            <p:cNvPr id="252" name=""/>
            <p:cNvSpPr/>
            <p:nvPr/>
          </p:nvSpPr>
          <p:spPr>
            <a:xfrm>
              <a:off x="4735440" y="2492280"/>
              <a:ext cx="33127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426200" y="229068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8104320" y="22766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5" name=""/>
          <p:cNvGrpSpPr/>
          <p:nvPr/>
        </p:nvGrpSpPr>
        <p:grpSpPr>
          <a:xfrm>
            <a:off x="5219640" y="1125360"/>
            <a:ext cx="668520" cy="2449800"/>
            <a:chOff x="5219640" y="1125360"/>
            <a:chExt cx="668520" cy="2449800"/>
          </a:xfrm>
        </p:grpSpPr>
        <p:sp>
          <p:nvSpPr>
            <p:cNvPr id="256" name=""/>
            <p:cNvSpPr/>
            <p:nvPr/>
          </p:nvSpPr>
          <p:spPr>
            <a:xfrm>
              <a:off x="5364000" y="2492280"/>
              <a:ext cx="0" cy="9367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433840" y="2637000"/>
              <a:ext cx="30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411880" y="320688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292720" y="2781360"/>
              <a:ext cx="144360" cy="144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292720" y="3357720"/>
              <a:ext cx="144360" cy="144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364000" y="1557360"/>
              <a:ext cx="0" cy="936720"/>
            </a:xfrm>
            <a:prstGeom prst="line">
              <a:avLst/>
            </a:prstGeom>
            <a:ln w="3816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292720" y="1484280"/>
              <a:ext cx="144360" cy="144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219640" y="1125360"/>
              <a:ext cx="668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a’, b’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4" name=""/>
          <p:cNvSpPr/>
          <p:nvPr/>
        </p:nvSpPr>
        <p:spPr>
          <a:xfrm>
            <a:off x="7094880" y="3429000"/>
            <a:ext cx="34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7092000" y="2852640"/>
            <a:ext cx="3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6949800" y="2995200"/>
            <a:ext cx="144360" cy="2017800"/>
            <a:chOff x="6949800" y="2995200"/>
            <a:chExt cx="144360" cy="2017800"/>
          </a:xfrm>
        </p:grpSpPr>
        <p:sp>
          <p:nvSpPr>
            <p:cNvPr id="267" name=""/>
            <p:cNvSpPr/>
            <p:nvPr/>
          </p:nvSpPr>
          <p:spPr>
            <a:xfrm flipV="1">
              <a:off x="7022880" y="3068280"/>
              <a:ext cx="0" cy="9367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rot="10800000">
              <a:off x="6949800" y="3571560"/>
              <a:ext cx="144360" cy="144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rot="10800000">
              <a:off x="6949800" y="2995200"/>
              <a:ext cx="144360" cy="144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>
              <a:off x="7022880" y="4003200"/>
              <a:ext cx="0" cy="936720"/>
            </a:xfrm>
            <a:prstGeom prst="line">
              <a:avLst/>
            </a:prstGeom>
            <a:ln w="3816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rot="10800000">
              <a:off x="6949800" y="4868640"/>
              <a:ext cx="144360" cy="144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2" name=""/>
          <p:cNvSpPr/>
          <p:nvPr/>
        </p:nvSpPr>
        <p:spPr>
          <a:xfrm>
            <a:off x="6424560" y="4718160"/>
            <a:ext cx="66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, 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148360" y="5516640"/>
            <a:ext cx="2448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148360" y="6308640"/>
            <a:ext cx="2448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148360" y="5516640"/>
            <a:ext cx="0" cy="79200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7596360" y="5516640"/>
            <a:ext cx="0" cy="79200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5005440" y="5149800"/>
            <a:ext cx="34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7450920" y="5157720"/>
            <a:ext cx="3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7453440" y="63086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001840" y="630252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00"/>
            </a:gs>
            <a:gs pos="100000">
              <a:srgbClr val="004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e410"/>
                </a:solidFill>
                <a:latin typeface="Arial"/>
              </a:rPr>
              <a:t>Estereometría: La Recta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41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ctas Especia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cta que corta a L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cta de Perfil: Recta perpendicular a L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4694760" y="2852640"/>
            <a:ext cx="3985200" cy="382320"/>
            <a:chOff x="4694760" y="2852640"/>
            <a:chExt cx="3985200" cy="382320"/>
          </a:xfrm>
        </p:grpSpPr>
        <p:sp>
          <p:nvSpPr>
            <p:cNvPr id="284" name=""/>
            <p:cNvSpPr/>
            <p:nvPr/>
          </p:nvSpPr>
          <p:spPr>
            <a:xfrm>
              <a:off x="5004000" y="3068280"/>
              <a:ext cx="33130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694760" y="286668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8372880" y="28526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7" name=""/>
          <p:cNvSpPr/>
          <p:nvPr/>
        </p:nvSpPr>
        <p:spPr>
          <a:xfrm flipV="1">
            <a:off x="5292720" y="2349360"/>
            <a:ext cx="2590920" cy="719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5292720" y="3068640"/>
            <a:ext cx="2590920" cy="7207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7883640" y="2349360"/>
            <a:ext cx="0" cy="144000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5078520" y="2637000"/>
            <a:ext cx="34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7790760" y="1932120"/>
            <a:ext cx="3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5073480" y="306864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7931160" y="365904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 flipH="1" flipV="1">
            <a:off x="4500720" y="2852640"/>
            <a:ext cx="790560" cy="216000"/>
          </a:xfrm>
          <a:prstGeom prst="line">
            <a:avLst/>
          </a:prstGeom>
          <a:ln w="3816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 flipV="1">
            <a:off x="4789440" y="2997000"/>
            <a:ext cx="790560" cy="215640"/>
          </a:xfrm>
          <a:prstGeom prst="line">
            <a:avLst/>
          </a:prstGeom>
          <a:ln w="3816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00"/>
            </a:gs>
            <a:gs pos="100000">
              <a:srgbClr val="004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e410"/>
                </a:solidFill>
                <a:latin typeface="Arial"/>
              </a:rPr>
              <a:t>Estereometría: La Recta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4535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cept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zamiento (proyección horizontal paralela a L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umbo (C/R a L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5118480" y="2565360"/>
            <a:ext cx="3985200" cy="382320"/>
            <a:chOff x="5118480" y="2565360"/>
            <a:chExt cx="3985200" cy="382320"/>
          </a:xfrm>
        </p:grpSpPr>
        <p:sp>
          <p:nvSpPr>
            <p:cNvPr id="299" name=""/>
            <p:cNvSpPr/>
            <p:nvPr/>
          </p:nvSpPr>
          <p:spPr>
            <a:xfrm>
              <a:off x="5427720" y="2781000"/>
              <a:ext cx="33130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118480" y="257940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8796600" y="25653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2" name=""/>
          <p:cNvSpPr/>
          <p:nvPr/>
        </p:nvSpPr>
        <p:spPr>
          <a:xfrm flipH="1">
            <a:off x="5765400" y="3502080"/>
            <a:ext cx="25909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 flipH="1" flipV="1">
            <a:off x="5765400" y="2062080"/>
            <a:ext cx="2590920" cy="7207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 flipV="1">
            <a:off x="8358120" y="2781000"/>
            <a:ext cx="0" cy="71892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765760" y="2059920"/>
            <a:ext cx="0" cy="143964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605560" y="1644480"/>
            <a:ext cx="34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8285760" y="2421000"/>
            <a:ext cx="3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5601960" y="351648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8331120" y="350028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flipV="1" rot="10800000">
            <a:off x="7064280" y="2491560"/>
            <a:ext cx="577440" cy="577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7189920" y="2417760"/>
            <a:ext cx="109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el-GR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5075640" y="5372280"/>
            <a:ext cx="3985200" cy="382320"/>
            <a:chOff x="5075640" y="5372280"/>
            <a:chExt cx="3985200" cy="382320"/>
          </a:xfrm>
        </p:grpSpPr>
        <p:sp>
          <p:nvSpPr>
            <p:cNvPr id="313" name=""/>
            <p:cNvSpPr/>
            <p:nvPr/>
          </p:nvSpPr>
          <p:spPr>
            <a:xfrm>
              <a:off x="5384880" y="5587920"/>
              <a:ext cx="33130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075640" y="538632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8753760" y="53722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6" name=""/>
          <p:cNvSpPr/>
          <p:nvPr/>
        </p:nvSpPr>
        <p:spPr>
          <a:xfrm>
            <a:off x="5651640" y="4508640"/>
            <a:ext cx="2592360" cy="1008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5651640" y="4508640"/>
            <a:ext cx="21960" cy="107928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H="1" flipV="1">
            <a:off x="8243640" y="5589360"/>
            <a:ext cx="20520" cy="71892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454360" y="558792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8312400" y="617868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5673600" y="5589720"/>
            <a:ext cx="2590920" cy="7207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 flipV="1">
            <a:off x="6393600" y="5300280"/>
            <a:ext cx="576720" cy="57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612120" y="5506920"/>
            <a:ext cx="30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Symbol"/>
                <a:ea typeface="Symbol"/>
              </a:rPr>
              <a:t>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8T20:25:09Z</dcterms:created>
  <dc:creator>Andrés Fock Kunstmann</dc:creator>
  <dc:description/>
  <dc:language>en-US</dc:language>
  <cp:lastModifiedBy>Rodolfo</cp:lastModifiedBy>
  <dcterms:modified xsi:type="dcterms:W3CDTF">2007-08-17T04:32:50Z</dcterms:modified>
  <cp:revision>35</cp:revision>
  <dc:subject/>
  <dc:title>Diapositiva 1</dc:title>
</cp:coreProperties>
</file>