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A43-4CA9-4048-8F14-A4B4D893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767-1058-408A-8DDA-C45CD3A0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DC9-4834-4930-99BE-E7CB4E14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197-A197-4921-8AA5-522A462F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3EBCA-6C83-4790-BE33-6A9FF1CB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EFC11-873A-41C2-8813-F67187B5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1E252-5D6C-4E14-B42B-B6D26EA5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85481-4FF8-4C37-BE4E-67BC8AE6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BCE2A-B15D-4D49-B73A-73981465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62655-F8E8-4B89-8077-AFAE8CA7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6640A-DFA8-45AC-9387-51C9A89E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3F7-D028-42D2-8530-4E22F063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CFDC7-634C-41B0-B59D-BD67029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09557-C255-4D68-BB7E-DD3FC28A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6228D-0DE4-45FB-A499-D19B9B97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10D58-B02A-4172-8440-8F97ABBF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BB198-EC89-4885-AB93-5EFF1494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A2C-8BD1-449F-9F5F-53979B2E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4C5-DAA1-4FE3-8B8D-357406BC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267-49B2-469F-8FC7-6994B901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2B4-68EC-4D8D-B0BB-0EB31CDD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8FA-18B1-410F-8DBC-04264FF4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408-747F-4697-B66E-3BC3D9D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73A-E6A8-409E-A40F-D55E1503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0302-7C87-4650-A690-FB0C1E108A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2E9B-E155-4A69-A9E2-DA0E1F0231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ae410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450864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lase auxiliar GL41B/Primav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2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34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38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38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858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39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39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41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e410"/>
                </a:solidFill>
                <a:latin typeface="Arial"/>
              </a:rPr>
              <a:t>Redes Estereográficas</a:t>
            </a:r>
            <a:r>
              <a:rPr b="1" lang="en-US" sz="4800" spc="-1" strike="noStrike">
                <a:solidFill>
                  <a:srgbClr val="ccd0ca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 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Red de estereográfica y manejo de grandes sets de da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elementos del espacio en un pl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Cómo resumo/entrego los datos de muchas medidas de rumbo y mant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Tipos de No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isten diversas maneras para anotar el rumbo y manteo de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y 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p /Dip Directio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(Mano derecha)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tación Azimutal (Mano Derec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milar a la anterior, solo que no se específica la dirección de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547640" y="3502080"/>
            <a:ext cx="129564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95640" y="4149720"/>
            <a:ext cx="14436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30000" y="5105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4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94360" y="40244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03640" y="3499920"/>
            <a:ext cx="129564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4003560"/>
            <a:ext cx="144720" cy="1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7800" y="36432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62160" y="5011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2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3573360"/>
            <a:ext cx="647640" cy="649440"/>
          </a:xfrm>
          <a:custGeom>
            <a:avLst/>
            <a:gdLst>
              <a:gd name="textAreaLeft" fmla="*/ 0 w 647640"/>
              <a:gd name="textAreaRight" fmla="*/ 648000 w 647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0800000">
            <a:off x="3492360" y="4437000"/>
            <a:ext cx="648000" cy="649440"/>
          </a:xfrm>
          <a:custGeom>
            <a:avLst/>
            <a:gdLst>
              <a:gd name="textAreaLeft" fmla="*/ 0 w 648000"/>
              <a:gd name="textAreaRight" fmla="*/ 648000 w 648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9240" y="39337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o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or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Dip / Dip 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(Manteo, Dirección de Mant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n esta notación se mide la dirección de máxima pendiente (perpendicular al rumbo), y el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l plano queda descrito sin necesidad de indicar hacia donde cae el mant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57440" y="2205000"/>
            <a:ext cx="282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N30W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156360" y="4149720"/>
            <a:ext cx="2806560" cy="820440"/>
            <a:chOff x="6156360" y="4149720"/>
            <a:chExt cx="2806560" cy="820440"/>
          </a:xfrm>
        </p:grpSpPr>
        <p:sp>
          <p:nvSpPr>
            <p:cNvPr id="434" name=""/>
            <p:cNvSpPr/>
            <p:nvPr/>
          </p:nvSpPr>
          <p:spPr>
            <a:xfrm rot="5400000">
              <a:off x="665964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817092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3600" y="45813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Rumb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22720" y="4601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548400" y="47973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0º, 2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084720" y="5445000"/>
            <a:ext cx="2862720" cy="1095120"/>
            <a:chOff x="6084720" y="5445000"/>
            <a:chExt cx="2862720" cy="1095120"/>
          </a:xfrm>
        </p:grpSpPr>
        <p:sp>
          <p:nvSpPr>
            <p:cNvPr id="440" name=""/>
            <p:cNvSpPr/>
            <p:nvPr/>
          </p:nvSpPr>
          <p:spPr>
            <a:xfrm rot="5400000">
              <a:off x="658764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809892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1600" y="587700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080" y="589752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e 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e410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Descrip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zimut de una lín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ción c/r al no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rum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uzamiento de una l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gulo c/r a un plano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mant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11280" y="4210200"/>
            <a:ext cx="8064360" cy="2027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02080" cy="4751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495680" cy="4367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rcRect l="30001" t="11334" r="38004" b="11334"/>
          <a:stretch/>
        </p:blipFill>
        <p:spPr>
          <a:xfrm>
            <a:off x="380880" y="0"/>
            <a:ext cx="37846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rcRect l="30001" t="11334" r="33001" b="11334"/>
          <a:stretch/>
        </p:blipFill>
        <p:spPr>
          <a:xfrm>
            <a:off x="4419720" y="0"/>
            <a:ext cx="437508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75564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Conceptos preliminar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umbo (str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Manteo (d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Dip-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Dirección del manteo (a 90º del rumb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ak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Inclinación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Slip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gnitud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Buzamient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nteo de una Lín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as siguientes rectas (Azimut/Buzamient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145/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310/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Plano que contiene a ambas rect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Angulo entre las recta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os siguientes planos (Rumbo/Mante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40E/5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25W/8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Orientación de la recta intersec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lano que contiene a los polos de ambos plano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el siguiente plano (Rumbo/Manteo a la Izquierda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265/4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**Ahora dibujar los Polos de todos los planos anteriores.*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e41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2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6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5806" t="0" r="35832" b="0"/>
          <a:stretch/>
        </p:blipFill>
        <p:spPr>
          <a:xfrm>
            <a:off x="682560" y="1523880"/>
            <a:ext cx="7851960" cy="5334120"/>
          </a:xfrm>
          <a:prstGeom prst="rect">
            <a:avLst/>
          </a:prstGeom>
          <a:ln w="9360">
            <a:solidFill>
              <a:srgbClr val="404b3d"/>
            </a:solidFill>
            <a:miter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10280" y="3581280"/>
            <a:ext cx="457200" cy="106704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43800" y="16002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Ángulo entre los po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467480" y="2819520"/>
            <a:ext cx="457200" cy="12189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948000" y="5157720"/>
            <a:ext cx="443160" cy="13953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Círculo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2612880"/>
            <a:ext cx="1584360" cy="960480"/>
          </a:xfrm>
          <a:custGeom>
            <a:avLst/>
            <a:gdLst/>
            <a:ahLst/>
            <a:rect l="l" t="t" r="r" b="b"/>
            <a:pathLst>
              <a:path w="998" h="605">
                <a:moveTo>
                  <a:pt x="0" y="15"/>
                </a:moveTo>
                <a:cubicBezTo>
                  <a:pt x="90" y="7"/>
                  <a:pt x="181" y="0"/>
                  <a:pt x="272" y="15"/>
                </a:cubicBezTo>
                <a:cubicBezTo>
                  <a:pt x="363" y="30"/>
                  <a:pt x="469" y="68"/>
                  <a:pt x="544" y="106"/>
                </a:cubicBezTo>
                <a:cubicBezTo>
                  <a:pt x="619" y="144"/>
                  <a:pt x="673" y="197"/>
                  <a:pt x="726" y="242"/>
                </a:cubicBezTo>
                <a:cubicBezTo>
                  <a:pt x="779" y="287"/>
                  <a:pt x="824" y="333"/>
                  <a:pt x="862" y="378"/>
                </a:cubicBezTo>
                <a:cubicBezTo>
                  <a:pt x="900" y="423"/>
                  <a:pt x="929" y="476"/>
                  <a:pt x="952" y="514"/>
                </a:cubicBezTo>
                <a:cubicBezTo>
                  <a:pt x="975" y="552"/>
                  <a:pt x="990" y="590"/>
                  <a:pt x="998" y="605"/>
                </a:cubicBezTo>
              </a:path>
            </a:pathLst>
          </a:custGeom>
          <a:noFill/>
          <a:ln w="38160">
            <a:solidFill>
              <a:srgbClr val="404b3d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995640" y="3429000"/>
            <a:ext cx="360360" cy="216000"/>
          </a:xfrm>
          <a:prstGeom prst="line">
            <a:avLst/>
          </a:prstGeom>
          <a:ln w="93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ae410"/>
                </a:solidFill>
                <a:latin typeface="Arial"/>
              </a:rPr>
              <a:t>Diagrama de circulo máximo y de polos.</a:t>
            </a:r>
            <a:endParaRPr b="0" lang="en-US" sz="36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7993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Plotear todos los da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en la red de schmidt como po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ff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74170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-684360" y="1052640"/>
            <a:ext cx="1137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finir direcciones preferenciales cuando se tienen muchas medi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ángulos de intersecciones d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manteos re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dir ángulos entr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19280" y="1382760"/>
            <a:ext cx="6227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3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6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5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2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5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68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6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Diagrama de densidad de polos y Red de Kalsbeek.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OTRA H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bujar los polos de los siguientes pl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743200" y="2971800"/>
          <a:ext cx="2976480" cy="25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29764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oset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-1044720" y="1333440"/>
            <a:ext cx="1227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5303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0000" y="22824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Ingresar datos en tab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en el formato correspondi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95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0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08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18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26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244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248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252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256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267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84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299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13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Rodolfo</cp:lastModifiedBy>
  <dcterms:modified xsi:type="dcterms:W3CDTF">2007-08-17T04:32:50Z</dcterms:modified>
  <cp:revision>35</cp:revision>
  <dc:subject/>
  <dc:title>Diapositiva 1</dc:title>
</cp:coreProperties>
</file>