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994-1F6C-4A1F-B890-A923499B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3CE-B97B-49B7-8C4C-C2012D90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B33-B60F-4579-A098-2A9F326F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6D7-70A8-4F03-97B8-A70EBB72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AE8-5E5D-4B61-A40C-7B5D5D95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9D11-6F70-4168-8C4D-3F510B28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0B26-BB66-4380-91AC-614D9D4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F6DA-3866-4213-8B22-54FBC056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455A-8607-49A0-9A1C-B786A05B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3D82-6C03-473B-9CF4-F7EA72CB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B310-B1A4-4CCB-BD72-025688A9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9DF-2506-4A33-B107-DF11A079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0529-32D8-4019-BCE0-A9D7A99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810D-48A2-4E92-8AF1-965ED6D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48E5-4F46-46AA-B7BA-A92ABE2F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A376-D970-4804-BBC9-022A60B6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F174-88A4-41D9-AF50-34AFEF7D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989-E3EC-4C31-A116-2588F4A7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E96-AE24-4C84-A118-5D67B57D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64B-2BD4-474E-ACFB-15A189B9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C09-9976-4C4D-B1F2-C2B81A9B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807-0B84-452D-93BE-14B2C01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045-2D96-48D3-A8A2-6877DF4C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7B1-A9DF-49E6-8C2A-42B5243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0ECF-B054-4A34-A1C2-EAA982296C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D1C2-6974-4685-93D6-FA49985AD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330033"/>
                </a:solidFill>
                <a:latin typeface="Times New Roman"/>
              </a:rPr>
              <a:t>Auxiliar Fundamentos de Petrología GL41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4653000"/>
            <a:ext cx="251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anuel Muñoz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. Carolina Soto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Paula Castillo G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ulari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blanco, verde, amarillo, pardo, canela, rojo pá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743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din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Rojo oscu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76680" cy="280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2229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op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Mg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rojo intenso a casi neg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810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otas y regla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es (4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1 (50%): Rocas volcánicas, piroclást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plutó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2 (50%): Rocas metamórf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sedi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scripciones (3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 o más a la semana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 Lectur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are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      C*0,4+D*0,3+L*0,15+T*0,15 &lt; 3,7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Reprob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,7&gt; C*0,4+D*0,3+L*0,15+T*0,15 &lt; 4,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perativo 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Todo debe ser aprobado por sepa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Asistencia OBLIG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50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rogra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1628640"/>
          <a:ext cx="7772400" cy="4703760"/>
        </p:xfrm>
        <a:graphic>
          <a:graphicData uri="http://schemas.openxmlformats.org/drawingml/2006/table">
            <a:tbl>
              <a:tblPr/>
              <a:tblGrid>
                <a:gridCol w="390600"/>
                <a:gridCol w="1478160"/>
                <a:gridCol w="5903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/07 - 03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silic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08 - 10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óxidos, carbonatos, sulf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08 - 17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Volcá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08 - 24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iroclást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08 - 31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ultrabásicas y bás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09 - 07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intermedias y ácidas y rocas filonian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09 - 14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1: Minerales, rocas volcánicas, piroclásticas y plutó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09 - 21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CACIO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09 - 28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uras de rocas metamórficas y tipos de metamorf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10 - 05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pelí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/10 - 1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OLIMP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10 - 19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bás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/10 - 26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carboná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10 - 02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clásticas: ambientes de formación y clasificació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11 - 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químicas: ambientes de formación y clasifi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11 - 16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2: rocas metamórficas y sedimentari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es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traedros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án unidos entre si con enlaces iónicos por medio de cationes interst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livi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uminosilicatos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urol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Fe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O,OH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ranat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olimorfos Al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SiO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5084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mpos de estabilidad determinados experimentalmente para los polimorfos del Al2Si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3648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s casi cuad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jo de carne, castaño rojizo, verde oliv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ureolas de contacto de intrusiones igneas en rocas arcillosas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 casi cuadrado, dureza. La variedad Quiastolita contiene finas inclusiones carbonosas o arcillosas de color oscuro en forma de cruz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819600" cy="211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2448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55640" y="2133720"/>
          <a:ext cx="7848720" cy="4174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1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i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tabulares alargados, rara vez terminados. En agregados hoj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neralmente azul, con tonalidades más oscuras hacia dentro del cris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Variable. 6,7 a lo largo del prisma y 4,5 a 5 perpendicu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tamorfismo regional de rocas pelíticas (alta presión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hojosos, buena exfoliación, color azul y diferentes durezas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7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largos y delgados sin terminaciones claras, aciculares fibro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do, verde pálido, blan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cas arcillosas metamórficas de alta temperatura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delgados, con solo una dirección de exfoli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724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uro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no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prismáticos, maclas cruciformes de dos tipos (90° y 60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castaño rojizo a negro castañ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7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 accesorio de las rocas ricas en aluminio y de los esquistos cristalinos y de algunos gne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y maclas característicos. De la andalucita se distingue por los prismas obtu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781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0:29:27Z</dcterms:created>
  <dc:creator>Paula Castillo</dc:creator>
  <dc:description/>
  <dc:language>en-US</dc:language>
  <cp:lastModifiedBy>Paula Castillo</cp:lastModifiedBy>
  <dcterms:modified xsi:type="dcterms:W3CDTF">2007-08-08T05:20:50Z</dcterms:modified>
  <cp:revision>9</cp:revision>
  <dc:subject/>
  <dc:title>Auxiliar Fundamentos de Petrología GL41C</dc:title>
</cp:coreProperties>
</file>