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5B3-0DCB-431A-AD26-04A08417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1A6D-0D6F-47E1-AE2D-6B6A2A90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34C-0597-4576-B2CD-388AB6F8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2AB-C77D-4B25-B817-8AE56A79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CC6-F4CC-484C-83E1-1112C112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BC0-264F-4A02-A2E7-2D854B6B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7874-F888-495D-94A4-F322B785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4E5-F918-4A8B-9480-E4121ED9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212-8E09-47CC-BA1E-22A71ADA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306-126E-4B73-8AFE-F6BF6DC2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39C6-331D-492B-8FA9-B4975B13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F58-E073-42F9-BD02-04CEF32B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94E3-45D9-409F-85C7-C047F3DAB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Hematite-1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660066"/>
                </a:solidFill>
                <a:latin typeface="Bradley Hand ITC"/>
              </a:rPr>
              <a:t>Óxidos, carbonatos y sulfa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holHudson-Regular"/>
              </a:rPr>
              <a:t>Fundamentos de Petr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holHudson-Regular"/>
              </a:rPr>
              <a:t>Primavera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ragonito- Ca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95640" y="1844280"/>
            <a:ext cx="44625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Polimorfo de alta presión de la calc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ortorrómb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piramidal acicular, tabular y en maclas pseudohexago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incoloro, blanquecino, amarill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3 ½ a 4 (mayor que la calc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se distingue de la calcita por su dureza y falta de exfoliación romboéd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menos estable que la calcita, se forma a baja temperatura, en depósitos superficiales. También en fuentes hidroterm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image45.jpg (48931 bytes)"/>
          <p:cNvPicPr/>
          <p:nvPr/>
        </p:nvPicPr>
        <p:blipFill>
          <a:blip r:embed="rId1"/>
          <a:stretch/>
        </p:blipFill>
        <p:spPr>
          <a:xfrm>
            <a:off x="826920" y="2133720"/>
            <a:ext cx="26402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Dolomita- CaMg(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0" y="2133360"/>
            <a:ext cx="4608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cxs romboédricos, masas exfoliables granuladas finas o grue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 a per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rosa, incoloro, blanquecino, grisáceo, verdoso, pardo o negruz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3 ½ a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efervesce con HCl caliente, en polvo soluble en ácido fr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en masas rocosas formando calizas dolomíticas. De origen secundario formado a partir de sustitución de Ca por Mg en calizas ordinarias. También puede tener un origen hidrote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454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Sulfat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En su composición tienen el grupo iónico (S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s-MX" sz="3200" spc="-1" strike="noStrike" baseline="30000">
                <a:solidFill>
                  <a:srgbClr val="000000"/>
                </a:solidFill>
                <a:latin typeface="Garamond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Los sulfatos anhidros más importantes son el  grupo de la baritina y la anhidr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Entre los sulfatos hidratados, el yeso es el más importante y abund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Baritina- B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46782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ortorrómb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gralmente tabulares, a veces en forma de rombo, en láminas gruesas, granulares o terros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vítr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, blanco, tonos pálidos azulados, amarillentos o rojiz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3 a 3 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exfoliación perfecta, alto peso específ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de origen hidrotermal o en rocas sedimentar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165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nhidrita- C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67280" y="1773000"/>
            <a:ext cx="47527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ortorrómb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raros, cuando existen son tabulares gruesos. Gralmente en masas cristalinas, fibroso, granular o maciz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 a perl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 a azulado o viole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3 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tres exfoliaciones en ángulos rectos. Se distingue de la calcita por su mayor peso específico, y del yeso por su mayor durez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asociada a yeso, en rocas sedimentarias, depósitos de sal (evaporitas), cavidades amigdaloid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45456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Yeso- C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  <a:ea typeface="Times New Roman"/>
              </a:rPr>
              <a:t>· 2H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  <a:ea typeface="Times New Roman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  <a:ea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360" y="1844280"/>
            <a:ext cx="453384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monoclín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</a:t>
            </a: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tabulares, rómbicos, maclas frecuentes (cola de golondrin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, perlado, sed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, blanco, gris, amarillo, rojo por impure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frecuente en rocas sedimentarias, en depósitos de sal, vetas, en regiones volcánicas por acción de vapores sulfuro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30984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lunita- KAl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(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(OH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735280" cy="2199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84360" y="1916280"/>
            <a:ext cx="43909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hexag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piramidales, tabulares, en masa o disemin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 a perlado en cxs. Terroso en m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blanco, gris o rojiz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formada generalmente por soluciones de ácido sulfúrico que actúan sobre rocas ricas en feldespato, origen hidrotermal, en ambiente de alta sulfur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Alunita con pirofilita contaminada con azufre. Comerio PR"/>
          <p:cNvPicPr/>
          <p:nvPr/>
        </p:nvPicPr>
        <p:blipFill>
          <a:blip r:embed="rId2"/>
          <a:stretch/>
        </p:blipFill>
        <p:spPr>
          <a:xfrm>
            <a:off x="900000" y="4437000"/>
            <a:ext cx="27482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Óxi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Compuestos en los que el oxígeno aparece combinado con uno o más me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Óxidos simples: compuestos por un metal y oxígeno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, XO,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Óxidos múltiples: tienen dos posiciones con átomos metálicos no equivalentes XY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3 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 la hematita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Corindón Al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Hematita Fe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Ilmenita FeTi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Y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 la espinela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Espinela MgAl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,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Magnetita Fe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Cromita FeCr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l rutilo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Rutilo Ti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Pirolusita Mn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Uraninita U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r>
              <a:rPr b="0" lang="es-MX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Hematita-Fe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Hematita roj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989000"/>
            <a:ext cx="2592720" cy="1940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40360" y="1989000"/>
            <a:ext cx="475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xs. tabulares gruesos o delgados, terroso, en masas botroidales, micáceo y hojoso (especular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 en cxs. y mate en variedades ter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astaño rojizo a neg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rojo claro a osc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5 ½ a 6 ½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producto de actividad volcánica, en depósitos metamórficos de contacto y como mx accesorio de rocas ígneas félsicas. También como oxidación de limonitas y magnet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4253040"/>
            <a:ext cx="2592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Magnetita- Fe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2613240" cy="1981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isomé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xs. octaédricos, macizo, granular o en grano fi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agnet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mx accesorio de rocas ígneas. En algunos casos forma grandes masas de mineral. También asociado a rocas metamórficas cristali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58920" y="4232160"/>
            <a:ext cx="266544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Rutilo- Ti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tetrag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cxs. aciculares delgados o macizos compac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adamantino a submetálic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rojo, castaño rojizo a neg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castaño páli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6 a 6 ½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en granitos, pegmatitas graníticas, gneis, esquistos micáceos, calizas metamórficas. Como mx accesorio en rocas de cuarzo. Asociado a ilmenita, magnetita y circó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Pirolusita- Mn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tetr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en fibras o columnas radiales, macizo, granuloso y formas dendrí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n en pequeñas cantidades en la mayor parte de las rocas cristalinas, cuando se disuelve vuelve a depositarse especialmente como pirolusita. En arcillas resid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68280" y="4114800"/>
            <a:ext cx="2644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Carbonat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En su composición contienen los complejos aniónicos (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s-MX" sz="2800" spc="-1" strike="noStrike" baseline="30000">
                <a:solidFill>
                  <a:srgbClr val="000000"/>
                </a:solidFill>
                <a:latin typeface="Garamond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En presencia del ión hidrógeno, el radical carbonato se vuelve inestable y se descompone según la reacció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2H</a:t>
            </a:r>
            <a:r>
              <a:rPr b="0" lang="es-MX" sz="2800" spc="-1" strike="noStrike" baseline="30000">
                <a:solidFill>
                  <a:srgbClr val="000000"/>
                </a:solidFill>
                <a:latin typeface="Garamond"/>
              </a:rPr>
              <a:t>+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+ 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H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O + 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Los carbonatos anhidros más importantes pertenecen a tres grupos: </a:t>
            </a:r>
            <a:r>
              <a:rPr b="1" lang="es-MX" sz="2800" spc="-1" strike="noStrike">
                <a:solidFill>
                  <a:srgbClr val="000000"/>
                </a:solidFill>
                <a:latin typeface="Garamond"/>
              </a:rPr>
              <a:t>el grupo de la calcita, el del aragonito y el grupo de la dolom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Otros carbonatos de importancia: </a:t>
            </a:r>
            <a:r>
              <a:rPr b="1" lang="es-MX" sz="2800" spc="-1" strike="noStrike">
                <a:solidFill>
                  <a:srgbClr val="000000"/>
                </a:solidFill>
                <a:latin typeface="Garamond"/>
              </a:rPr>
              <a:t>azurita y malaquita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(carbonatos de Cob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Calcita- Ca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11640" y="1699920"/>
            <a:ext cx="46814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uy variado (más de 300 formas distintas). Más importantes: prismáticos, romboédricos, escalenoé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 terr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blanco a incoloro. Puede tener tonos grisáceos, rojizo, verdoso, azulado. Si es impura, de pardo a neg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Exfoliación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perf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3 en la cara de exfol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efervesce en H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mineral formador de roca, en rocas sedimentarias, calizas, calizas metamórficas (mármol). Como mineral primario en algunas rocas ígneas, rellenando cavidades y sistemas hidroterm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35258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2:49:26Z</dcterms:created>
  <dc:creator>Odin the Great</dc:creator>
  <dc:description/>
  <dc:language>en-US</dc:language>
  <cp:lastModifiedBy>PREGRADO10</cp:lastModifiedBy>
  <dcterms:modified xsi:type="dcterms:W3CDTF">2007-08-09T17:01:42Z</dcterms:modified>
  <cp:revision>9</cp:revision>
  <dc:subject/>
  <dc:title>Óxidos, carbonatos y sulfatos</dc:title>
</cp:coreProperties>
</file>