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453-9181-4BFE-A864-C84F4EF3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10E-3586-4A23-A0AD-6BFC1B1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6C0-4454-4193-808A-F98C2D47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4EF-E741-4CCC-BCA6-CDED2329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02E1-ED15-45A2-8230-FB362E66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97F4-8F47-49AD-8DE6-87A80C81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9B6-579B-4C5E-8ED0-5EE0A97A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3775-C43B-4761-B9FF-0C1C03F5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3EBC-D3D4-4E01-BBA4-7F069C9F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4E06-3921-4135-A236-BE910E2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97E8-795D-463A-8548-E857660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3B3-96A3-4384-B157-6FBEBEE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58E-FDA6-41C0-95BF-5E8A3F1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183D-3B1C-4D2A-8718-E4DBF588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8C30-35DF-4A48-BC4F-6F0246FD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0587-9BFC-4675-93F9-759851FE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EFA7-D948-439E-89FB-D87DE440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64-4F0C-44F6-B108-2EBE7D5A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7DB-8E09-4932-BEEA-0D6BC40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358-792C-4318-9160-4A073F0E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4AE-FD48-4767-94C0-72B8603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5BA-DC0C-4564-8A6D-9C89E56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21E-E8F1-44B3-B780-0A43C96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786-F024-4A30-BB09-C405418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2E66-C1E2-4488-98F8-6E34212D3106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C541-2FED-4C42-8D9E-835935122935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Garamond"/>
              </a:rPr>
              <a:t>Rocas Plutónicas: Ultrabásicas y Básica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xiliar Fundamentos de Petr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. Carolina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01600"/>
            <a:ext cx="84247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La clasificación de rocas ígneas se basa esencialmente en la textura y el contenido mineral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textura depende de las condiciones físicas del magma al momento de enfriarse, y la tasa de enfriamiento que experime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 contenido mineral depende del origen y evolución química del mag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ex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Tamaño, forma y arreglo de minera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ado de cristalinidad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ón de cristales y vidrio en la ro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cristales (&gt;90% en vol. de crist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ocrist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por vidrio y cris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olohialin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compuesta totalmente por vidrio (&gt;90% en vol. de vid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relativo de crista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odos los cxs. de tamaño simil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equigranular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tamaño de los cxs. varí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amaño absoluto de cristales (granularidad)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ner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visibles a simple vis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anít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cxs. no visibles a simple vista; puede ser micro o criptocristalina dependiendo si pueden o no ser reconocidos con microscop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riada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inequigranular en la cual se reconoce una continuidad en el tamaño de los cx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r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cristali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itrofírica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fenocristales en matriz o masa fundamental vítr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fírica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textura con masa fundamental de grano fino a vítrea, sin fenocrist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Tamaño del gran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uy grueso:     &gt;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grues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5-30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medi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2-5 m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Grano fino: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  &lt;2 mm (reconocib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Forma de los crista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n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todos los cristales presentan caras propias (eu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ipidi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los cxs. presentan algunas caras propias    (sub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otromórf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  todos los cxs. no presentan caras propias   (anhedral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Estructura: </a:t>
            </a:r>
            <a:r>
              <a:rPr b="0" i="1" lang="es-ES_tradnl" sz="3400" spc="-1" strike="noStrike">
                <a:solidFill>
                  <a:srgbClr val="006633"/>
                </a:solidFill>
                <a:latin typeface="News Gothic MT"/>
                <a:ea typeface="Times New Roman"/>
              </a:rPr>
              <a:t>Distribución y orden de los cristales dentro de la roca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Homogéna, masiva, bandeada, nodulos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orfologías especial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Vesícu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irregula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Amígdala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cavidades rellenas con uno o más miner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News Gothic MT"/>
                <a:ea typeface="Times New Roman"/>
              </a:rPr>
              <a:t>Inclusiones o enclaves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: elementos que se distinguen de la roca albergante por su mineralogía, forma, color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Fábrica:</a:t>
            </a: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Orientación espacial de los cristales o agregados policristalinos dentro de una ro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Ej. Linear, planar, isótropa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7499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Índice de color:</a:t>
            </a:r>
            <a:r>
              <a:rPr b="0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% de minerales máficos. (rocas plutónic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Leucocrático:       0-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lanocrático:   65-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Mesocrático:      35-65%</a:t>
            </a: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News Gothic MT"/>
                <a:ea typeface="Times New Roman"/>
              </a:rPr>
              <a:t>Ultramáfico:         &gt;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77058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1957320"/>
          <a:ext cx="87487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57320"/>
                    <a:ext cx="87487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55640" y="260280"/>
            <a:ext cx="78487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544680"/>
            <a:ext cx="83822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09480" y="457200"/>
            <a:ext cx="3886200" cy="3276720"/>
            <a:chOff x="609480" y="457200"/>
            <a:chExt cx="3886200" cy="3276720"/>
          </a:xfrm>
        </p:grpSpPr>
        <p:sp>
          <p:nvSpPr>
            <p:cNvPr id="123" name=""/>
            <p:cNvSpPr/>
            <p:nvPr/>
          </p:nvSpPr>
          <p:spPr>
            <a:xfrm>
              <a:off x="609480" y="457200"/>
              <a:ext cx="3886200" cy="327672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2560" y="812880"/>
              <a:ext cx="3200400" cy="274320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62320" y="800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5560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14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7940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438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069600">
            <a:off x="1039680" y="20718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550800">
            <a:off x="2813400" y="2042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ct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46716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gioclase-bearing ultramafic r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318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Anorth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3886200" cy="32767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2440" y="3060720"/>
            <a:ext cx="3200400" cy="274320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60800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th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0800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linopyrox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41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herzo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069600">
            <a:off x="4865400" y="37969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zburg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550800">
            <a:off x="6441120" y="39207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hr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5715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2514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D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95288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56080" y="502920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ine Webst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69280" y="36576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erido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9240" y="51055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Pyroxen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229600" y="26668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0384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553080" y="274320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43200" y="533520"/>
            <a:ext cx="53352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181480" y="4952880"/>
            <a:ext cx="0" cy="10670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080" y="8780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bro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765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as Ultramáf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&gt;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6134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860960" y="562608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09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40560" y="28335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39160" y="5334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6640" y="435780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livine 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4572000"/>
            <a:ext cx="6098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9400" y="54864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Orth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7150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24240" y="5410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opyrox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56386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ificación de rocas ígneas faneríticas I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Ígne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Ígnea: Roca que se forma por el enfriamiento de un mag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gma: Fundido silicatado compuesto por una fase fundida, gases disueltos y cris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33"/>
                </a:solidFill>
                <a:latin typeface="Arial"/>
              </a:rPr>
              <a:t>Tipos de mag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Basálticos : 45-55% SiO2 , Tº:1000-12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Graníticos : 65-75% SiO2, Tº: 650- 8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agmas Intermedios : 55-65% SiO2, Tº: 800- 1000 C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796000" y="2997360"/>
            <a:ext cx="316872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048360" cy="353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800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21020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ca ígnea básica de grano grueso compuesta por plagioclasa rica en calcio (Ca), ortopiroxeno y clinopirox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orita: composición de la plagioclasa es de An&lt;50 (oligoclasa-andesina), mientras que en el gabro es de An50 (labradorita-bitownita-anorti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20" y="2023920"/>
            <a:ext cx="6451560" cy="4757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73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Gab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66040" cy="499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91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52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olerita = gabro 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5235480" cy="3956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1844640"/>
            <a:ext cx="2808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ca ígnea ultrabásica de grano gru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uesta por olivino rico en magne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Mg), acompañado en menor cantidad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otros ferromagnesianos co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ortopiroxeno o el clinopirox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eridotita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sualmente serpentinizada: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l olivino es un mineral muy inestable en las condiciones de la superficie del planeta, tendiendo a transformarse en serpentina. Esto transforma a estas rocas, en mayor o menor grado, en serpentinit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71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1969920"/>
            <a:ext cx="6489720" cy="4888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09480" y="5493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Arial"/>
              </a:rPr>
              <a:t>Peridot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unita: formada por sólo olivino como mineral esencial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516240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6360" y="981000"/>
            <a:ext cx="4038840" cy="2637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716360" y="3500280"/>
            <a:ext cx="4038840" cy="25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bientes de generación de mag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Generación de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magm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Oceá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elgada: 10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cuencia ofiolít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Basaltos almohadillados (”pillow lava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Enjambre de 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Gabros m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Rocas ultramáficas (peridoti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11640" y="549360"/>
            <a:ext cx="4105440" cy="299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40360" y="4076640"/>
            <a:ext cx="500364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006633"/>
                </a:solidFill>
                <a:uFillTx/>
                <a:latin typeface="Arial"/>
              </a:rPr>
              <a:t>Corteza Contin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Más gruesa: 20-90 km, prom. ~35 k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y estratigrafía altament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-Composición promedio ~ granodior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anto se funde bajo ciertas condiciones generando magmas en zonas de expans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agmas Basált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38988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ltan de la fusión parcial del ma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diante convección en el manto, se puede traer el calor necesario para la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sión parcial de peridotitas, piroxenitas y eclogitas (Gte, Cpx) puede originar magmas basál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1767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95280" y="549360"/>
          <a:ext cx="84582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5820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Rocas Ultramáf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istalizadas directamente de un magma ultramáfico (komatita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→rar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Formadas por acumulación de cristales en cámaras magmát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Acreción de litosfera oceánica en corteza continental (ofiolit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Diapiros del manto emplazados tectón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57:05Z</dcterms:created>
  <dc:creator>.</dc:creator>
  <dc:description/>
  <dc:language>en-US</dc:language>
  <cp:lastModifiedBy>.</cp:lastModifiedBy>
  <dcterms:modified xsi:type="dcterms:W3CDTF">2007-08-30T05:53:25Z</dcterms:modified>
  <cp:revision>4</cp:revision>
  <dc:subject/>
  <dc:title>Rocas Ígneas Intrusivas</dc:title>
</cp:coreProperties>
</file>