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59A1-54CC-4D6A-9933-2905ECF7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5CC0-9D36-4000-8490-605A8208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6398-5183-4AFB-9AD4-9597E7659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7EFD-E0B0-4175-8DA7-32B5E113E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8D04-49B5-4A7B-8B7E-9F2BFFEC1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5736-AB14-461E-8C58-A97828A0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A04A-50B0-4F78-814A-C676722C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EB0C-CF81-492E-BAC1-EC0A500B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9D98-42EA-4C7F-8CD5-5A413B1D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CE6B-5EAE-4A8D-8AA0-2E7F4112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B5F9-E646-459C-BC51-91813B67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B14C-2570-4D29-B55B-0215A4E2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FC64-917C-431D-AB79-D3611448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A2A4-58E1-4C1A-A923-D9A70636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D8E1-7A32-49EA-B8DC-512C2B45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533F-3916-412B-99A6-5C80AF677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85EE-9BCA-477B-B330-346F516CE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9FC3-2A1F-431C-ADE1-871A697B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8109-79DD-4E41-89FD-A0981155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9EE8-BB62-4818-B020-D50009A6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151B-A8F6-4B17-995F-8BF519ED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0682-9977-4FB3-B496-AFF0243B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CA13-F193-4478-96EF-BB346C5D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5543-B214-4FF7-8B77-81FE685E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FBAD-E010-4AAE-A121-EC0AB925F38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CB1E-8E78-4683-A02F-CB147C1B7A7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Metamorfismo de contacto</a:t>
            </a:r>
            <a:br>
              <a:rPr sz="5200"/>
            </a:b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SKARNS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undamentos de Petrologí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. Carolina So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Zonación Espacio-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Black"/>
              </a:rPr>
              <a:t>Razón Granate / Piroxeno </a:t>
            </a:r>
            <a:r>
              <a:rPr b="1" lang="es-ES" sz="3600" spc="-1" strike="noStrike">
                <a:solidFill>
                  <a:srgbClr val="008000"/>
                </a:solidFill>
                <a:latin typeface="Arial Black"/>
              </a:rPr>
              <a:t>(alta razón indica proximidad al contacto con el cuerpo intrusivo</a:t>
            </a:r>
            <a:r>
              <a:rPr b="1" lang="es-ES" sz="2400" spc="-1" strike="noStrike">
                <a:solidFill>
                  <a:srgbClr val="008000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olor del granate + composición               </a:t>
            </a:r>
            <a:r>
              <a:rPr b="1" lang="es-ES" sz="2400" spc="-1" strike="noStrike">
                <a:solidFill>
                  <a:srgbClr val="008000"/>
                </a:solidFill>
                <a:latin typeface="Verdana"/>
              </a:rPr>
              <a:t>(Gte Ca-Fe (andradita) próximos v/s Ca-Al (grossularia) distal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olor del piroxeno + composición              </a:t>
            </a:r>
            <a:r>
              <a:rPr b="1" lang="es-ES" sz="2400" spc="-1" strike="noStrike">
                <a:solidFill>
                  <a:srgbClr val="008000"/>
                </a:solidFill>
                <a:latin typeface="Verdana"/>
              </a:rPr>
              <a:t>(Px Ca-Mg (diópsido)próximos v/s Ca-Fe (hedenbergita) distal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58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eneralidad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Roca granular consistente en silicatos de Ca (ej. Granate, piroxeno, anfíbola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Puede tener mineralización: depósitos tipo Skar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Formados durante metamorfismo de contacto o regional, por procesos metasomáticos involucrando fluidos magmáticos, metamórficos, meteóricos y/o marin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 encuentran en zonas cercanas a una intrusión, a lo largo de fallas y zonas de cizalle, en sistemas geotermales superficiales, en el fondo de océan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ocidos mayormente asociados a caliz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eden formarse también en ausencia de calizas, en rocas como areniscas, limonitas, granitos, et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Estados: PRÓGRADOS, RETRÓGR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Interacción magma-roca de caj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alentamiento de roca de caja y sus fluido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Arial"/>
              </a:rPr>
              <a:t>gradiente T alrededor de la intrus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Volatilización de componentes de la roca de caja (mayormente CO2, también H2O, etc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Interacción y reacción de fluidos magmáticos exsueltos con la roca de caja y sus fluidos, así como con fluidos meteóricos infiltr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734400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ineralogía Típ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"/>
          <p:cNvSpPr/>
          <p:nvPr/>
        </p:nvSpPr>
        <p:spPr>
          <a:xfrm>
            <a:off x="467280" y="1700280"/>
            <a:ext cx="3155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ente en la mayo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los Sk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rox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fíb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ar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85080" y="1844640"/>
            <a:ext cx="2139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ros comu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liv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llaston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pid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nolita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20000" y="1844640"/>
            <a:ext cx="1622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apo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eo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gioc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2565360"/>
            <a:ext cx="8353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Estado Prógr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Exsolución de fluidos desde un magma en enfria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Reacción del fluido magmático, usualmente rico en Si y Fe, con carbona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CaO(s) + FeO(aq) + 2SiO2(aq) </a:t>
            </a:r>
            <a:r>
              <a:rPr b="1" lang="fr-FR" sz="2400" spc="-1" strike="noStrike">
                <a:solidFill>
                  <a:srgbClr val="008000"/>
                </a:solidFill>
                <a:latin typeface="Arial"/>
                <a:ea typeface="Arial"/>
              </a:rPr>
              <a:t>→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CaFeSi2O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                                                           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hedenbergi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3CaO(s) + Fe2O3(aq) + 3SiO2(aq) </a:t>
            </a:r>
            <a:r>
              <a:rPr b="1" lang="fr-FR" sz="2400" spc="-1" strike="noStrike">
                <a:solidFill>
                  <a:srgbClr val="008000"/>
                </a:solidFill>
                <a:latin typeface="Arial"/>
                <a:ea typeface="Arial"/>
              </a:rPr>
              <a:t>→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Ca3Fe2(SiO4)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                                                                        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andradi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Formación de silicatos-Ca anhidros (en su mayoría granate y piroxeno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9900"/>
                </a:solidFill>
                <a:latin typeface="Garamond"/>
              </a:rPr>
              <a:t>Zonación mineral en estado prógrado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3494880" y="1916280"/>
            <a:ext cx="19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u skar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1600" y="23623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prox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87320" y="236232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di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912240" y="3352680"/>
            <a:ext cx="7881840" cy="870840"/>
            <a:chOff x="912240" y="3352680"/>
            <a:chExt cx="7881840" cy="870840"/>
          </a:xfrm>
        </p:grpSpPr>
        <p:sp>
          <p:nvSpPr>
            <p:cNvPr id="110" name=""/>
            <p:cNvSpPr/>
            <p:nvPr/>
          </p:nvSpPr>
          <p:spPr>
            <a:xfrm>
              <a:off x="1562040" y="3352680"/>
              <a:ext cx="594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03680" y="3763800"/>
              <a:ext cx="14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ARN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12240" y="376380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c6136"/>
                  </a:solidFill>
                  <a:latin typeface="Times New Roman"/>
                </a:rPr>
                <a:t>brow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12480" y="3763800"/>
              <a:ext cx="218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Verde-amarill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69240" y="5181480"/>
            <a:ext cx="7637400" cy="1046160"/>
            <a:chOff x="669240" y="5181480"/>
            <a:chExt cx="7637400" cy="1046160"/>
          </a:xfrm>
        </p:grpSpPr>
        <p:sp>
          <p:nvSpPr>
            <p:cNvPr id="115" name=""/>
            <p:cNvSpPr/>
            <p:nvPr/>
          </p:nvSpPr>
          <p:spPr>
            <a:xfrm>
              <a:off x="1562040" y="5181480"/>
              <a:ext cx="594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09280" y="5584680"/>
              <a:ext cx="188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YROX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69240" y="5402160"/>
              <a:ext cx="151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ight col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high-M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61880" y="5402160"/>
              <a:ext cx="154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77777"/>
                  </a:solidFill>
                  <a:latin typeface="Times New Roman"/>
                </a:rPr>
                <a:t>dark col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77777"/>
                  </a:solidFill>
                  <a:latin typeface="Times New Roman"/>
                </a:rPr>
                <a:t>(high-F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stado Retrógr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Relacionado con enfriamiento, interacción con fluidos meteóricos, oxid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Minerales anhidros prógrados sustituidos por silicatos hidratados (Ej. Clorita, epidota, anfíbola), óxidos de Fe (magnetita, hematita), calcita, cuarz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5CaFeSi2O6 + H2O + 3CO2 </a:t>
            </a:r>
            <a:r>
              <a:rPr b="1" lang="fr-FR" sz="2000" spc="-1" strike="noStrike">
                <a:solidFill>
                  <a:srgbClr val="008000"/>
                </a:solidFill>
                <a:latin typeface="Arial"/>
                <a:ea typeface="Arial"/>
              </a:rPr>
              <a:t>→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Ca2Fe5Si8O22(OH)2 + 3CaCO3 + 2SiO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hedenbergite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                                actinol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3CaFeSi2O6 + 1/2O2 + 3CO2 </a:t>
            </a:r>
            <a:r>
              <a:rPr b="1" lang="fr-FR" sz="2000" spc="-1" strike="noStrike">
                <a:solidFill>
                  <a:srgbClr val="008000"/>
                </a:solidFill>
                <a:latin typeface="Arial"/>
                <a:ea typeface="Arial"/>
              </a:rPr>
              <a:t>→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Fe3O4 + 3CaCO3 + 6SiO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hedenbergite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                         magnet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Ca3Fe2(SiO4)3 + 3CO2 </a:t>
            </a:r>
            <a:r>
              <a:rPr b="1" lang="fr-FR" sz="2000" spc="-1" strike="noStrike">
                <a:solidFill>
                  <a:srgbClr val="008000"/>
                </a:solidFill>
                <a:latin typeface="Arial"/>
                <a:ea typeface="Arial"/>
              </a:rPr>
              <a:t>→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Fe2O3 + 3CaCO3 + 3SiO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andradite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                  hemat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00:46:58Z</dcterms:created>
  <dc:creator>Secretaria</dc:creator>
  <dc:description/>
  <dc:language>en-US</dc:language>
  <cp:lastModifiedBy>AcerDos</cp:lastModifiedBy>
  <dcterms:modified xsi:type="dcterms:W3CDTF">2007-10-26T14:23:44Z</dcterms:modified>
  <cp:revision>3</cp:revision>
  <dc:subject/>
  <dc:title>Metamorfismo de contacto SKARNS</dc:title>
</cp:coreProperties>
</file>