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EAF-0B03-40D4-9583-C15E8C3E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DAB-4F0A-4EBC-A289-F5FF8091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54A-013D-4310-B4EA-09CA0C33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109-EFE1-4114-AB9B-8C078FA1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2ED0-781F-4B56-891C-8FEF641D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2929-4A47-4AE2-BCB5-712DFE0C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DE7A-4662-4F22-9C37-7F16D18C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BCF5-ABE1-4973-A65D-2B859F7A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8DD3-8480-4E5B-9349-27FB80BC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6642-817C-429B-9095-3CF376A0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A58E-60CC-4239-8040-815E802F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5E0-25EF-467D-A40C-762888FF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8CCB-3125-426C-865F-5394BD78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D4D2-0994-4D78-BF2A-1342A0EB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462B-7B63-4891-B198-9EA20141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201B-CB32-4BB1-92B8-CE862D8D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3DAA-8CD7-4D23-9AE2-F0A17AAB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110-10FC-4004-9D50-47A52F5E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9BF-6561-4A29-8B0A-717FB02B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212-9F39-4D72-8F06-54769E28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DBF-B43E-4673-B860-C18E7BB9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584-45A9-4A60-ACA0-890695FC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88C-BDBF-4497-A16F-48294ECD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541-DFBF-468C-9186-BE04A9CB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0045-9CE7-441D-BFD7-F91630833EA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8A40-4FC9-45B1-AA5C-6664EADE1E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Metamorfismo de contacto</a:t>
            </a:r>
            <a:br>
              <a:rPr sz="5200"/>
            </a:b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SKARNS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ndamentos de Petrolog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. Carolina So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Zonación Espacio-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Razón Granate / Piroxeno </a:t>
            </a:r>
            <a:r>
              <a:rPr b="1" lang="es-ES" sz="3600" spc="-1" strike="noStrike">
                <a:solidFill>
                  <a:srgbClr val="008000"/>
                </a:solidFill>
                <a:latin typeface="Arial Black"/>
              </a:rPr>
              <a:t>(alta razón indica proximidad al contacto con el cuerpo intrusivo</a:t>
            </a:r>
            <a:r>
              <a:rPr b="1" lang="es-ES" sz="2400" spc="-1" strike="noStrike">
                <a:solidFill>
                  <a:srgbClr val="008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granate + composición 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Gte Ca-Fe (andradita) próximos v/s Ca-Al (grossulari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lor del piroxeno + composición              </a:t>
            </a:r>
            <a:r>
              <a:rPr b="1" lang="es-ES" sz="2400" spc="-1" strike="noStrike">
                <a:solidFill>
                  <a:srgbClr val="008000"/>
                </a:solidFill>
                <a:latin typeface="Verdana"/>
              </a:rPr>
              <a:t>(Px Ca-Mg (diópsido)próximos v/s Ca-Fe (hedenbergita) dist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eneralida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oca granular consistente en silicatos de Ca (ej. Granate, piroxeno, anfíbola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uede tener mineralización: depósitos tipo Ska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ormados durante metamorfismo de contacto o regional, por procesos metasomáticos involucrando fluidos magmáticos, metamórficos, meteóricos y/o mari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encuentran en zonas cercanas a una intrusión, a lo largo de fallas y zonas de cizalle, en sistemas geotermales superficiales, en el fondo de océa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ocidos mayormente asociados a caliz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eden formarse también en ausencia de calizas, en rocas como areniscas, limonitas, granito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Verdana"/>
              </a:rPr>
              <a:t>Estados: PRÓGRADOS, RETRÓGR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teracción magma-roca de caj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alentamiento de roca de caja y sus fluid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gradiente T alrededor de la intrus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Volatilización de componentes de la roca de caja (mayormente CO2, también H2O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Interacción y reacción de fluidos magmáticos exsueltos con la roca de caja y sus fluidos, así como con fluidos meteóricos infiltr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400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ineralogía Típ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"/>
          <p:cNvSpPr/>
          <p:nvPr/>
        </p:nvSpPr>
        <p:spPr>
          <a:xfrm>
            <a:off x="467280" y="1700280"/>
            <a:ext cx="315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e en la may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os Sk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rox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fíb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r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5080" y="1844640"/>
            <a:ext cx="213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ro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iv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llasto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d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nolita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20000" y="1844640"/>
            <a:ext cx="162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p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o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giocl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565360"/>
            <a:ext cx="835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Estado P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xsolución de fluidos desde un magma en enfr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acción del fluido magmático, usualmente rico en Si y Fe, con carbonat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CaO(s) + FeO(aq) + 2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FeSi2O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3CaO(s) + Fe2O3(aq) + 3SiO2(aq) </a:t>
            </a:r>
            <a:r>
              <a:rPr b="1" lang="fr-FR" sz="24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Ca3Fe2(SiO4)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fr-FR" sz="24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ormación de silicatos-Ca anhidros (en su mayoría granate y piroxeno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Zonación mineral en estado prógrado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3494880" y="19162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u skar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160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rox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7320" y="23623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i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12240" y="3352680"/>
            <a:ext cx="7881840" cy="870840"/>
            <a:chOff x="912240" y="3352680"/>
            <a:chExt cx="7881840" cy="870840"/>
          </a:xfrm>
        </p:grpSpPr>
        <p:sp>
          <p:nvSpPr>
            <p:cNvPr id="110" name=""/>
            <p:cNvSpPr/>
            <p:nvPr/>
          </p:nvSpPr>
          <p:spPr>
            <a:xfrm>
              <a:off x="1562040" y="33526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03680" y="3763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2240" y="3763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c6136"/>
                  </a:solidFill>
                  <a:latin typeface="Times New Roman"/>
                </a:rPr>
                <a:t>br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12480" y="376380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erde-amaril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69240" y="5181480"/>
            <a:ext cx="7637400" cy="1046160"/>
            <a:chOff x="669240" y="5181480"/>
            <a:chExt cx="7637400" cy="1046160"/>
          </a:xfrm>
        </p:grpSpPr>
        <p:sp>
          <p:nvSpPr>
            <p:cNvPr id="115" name=""/>
            <p:cNvSpPr/>
            <p:nvPr/>
          </p:nvSpPr>
          <p:spPr>
            <a:xfrm>
              <a:off x="1562040" y="5181480"/>
              <a:ext cx="594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09280" y="5584680"/>
              <a:ext cx="188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YROX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9240" y="5402160"/>
              <a:ext cx="151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ght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high-M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1880" y="5402160"/>
              <a:ext cx="154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dark col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7777"/>
                  </a:solidFill>
                  <a:latin typeface="Times New Roman"/>
                </a:rPr>
                <a:t>(high-F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stado Retrógr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lacionado con enfriamiento, interacción con fluidos meteóricos, oxid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inerales anhidros prógrados sustituidos por silicatos hidratados (Ej. Clorita, epidota, anfíbola), óxidos de Fe (magnetita, hematita), calcita, cuarz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5CaFeSi2O6 + H2O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Ca2Fe5Si8O22(OH)2 + 3CaCO3 + 2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       actinol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3CaFeSi2O6 + 1/2O2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3O4 + 3CaCO3 + 6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hedenberg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       magne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Ca3Fe2(SiO4)3 + 3CO2 </a:t>
            </a:r>
            <a:r>
              <a:rPr b="1" lang="fr-FR" sz="2000" spc="-1" strike="noStrike">
                <a:solidFill>
                  <a:srgbClr val="008000"/>
                </a:solidFill>
                <a:latin typeface="Arial"/>
                <a:ea typeface="Arial"/>
              </a:rPr>
              <a:t>→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Fe2O3 + 3CaCO3 + 3SiO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andradite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8000"/>
                </a:solidFill>
                <a:latin typeface="Times New Roman"/>
              </a:rPr>
              <a:t>                    hemat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0:46:58Z</dcterms:created>
  <dc:creator>Secretaria</dc:creator>
  <dc:description/>
  <dc:language>en-US</dc:language>
  <cp:lastModifiedBy>AcerDos</cp:lastModifiedBy>
  <dcterms:modified xsi:type="dcterms:W3CDTF">2007-10-26T14:23:44Z</dcterms:modified>
  <cp:revision>3</cp:revision>
  <dc:subject/>
  <dc:title>Metamorfismo de contacto SKARNS</dc:title>
</cp:coreProperties>
</file>