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F03-93F5-41AB-BF12-CEB203BE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ED1-B2E6-4BA3-BDC2-247F4EFD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8E0-0677-4066-9019-AC1F3AFC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846-5FD2-4E3D-8F39-FF554EF7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537-1954-4074-9A4A-0744874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AD9-A4A8-4BA9-AB4F-9443DDF9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53C2-8338-423D-9EC8-151ED6F2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667-4F3A-428B-84F7-65FD57EB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8485-FF53-4CF8-A382-51A4010E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5199-3611-4438-91F0-31517478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1CF-2014-4B81-B2B9-E4F5E4C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2FC-03EA-4D30-9B4D-2502EB9A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FB63-9582-4CC2-BEA6-9C8EF638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8F50-50C3-4C23-9835-4E2D3B9C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3B8-76A9-44CC-93CA-4F6A4018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8889-A8EB-4E01-9BA5-1621A7B3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7D0E-7995-4472-A2AC-894CAAAF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94A-5175-41ED-A16B-034DA4E7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0CD-D46A-4FB8-A9E5-9155D5AA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1A7-04F0-42E8-BF50-DDEE1CB7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5BA-8CE0-49EC-950D-E6AA379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330-BD31-4192-9F84-ED86A90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AA7-F7AA-4949-BAB0-99BFECA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B03-15DE-4DEB-A60C-1D1D24B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076-2E1C-4035-A6B7-5305DAEC95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47D-97B9-4EE5-8C34-9BDF8412F6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ejos” (System tracts): conjunto de estratos con una determinada geometría (onlap, offlap, downlap, etc), que permiten determinar su contemporaneidad deposicional. Depende de la curva eustática y es 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7520" y="3068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37280" cy="242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76360" y="417816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70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ísm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ndas sísmicas son reflejadas o refractadas en las interfaces de rocas con respuestas distintas, y es función de la velocidad sísmica y de la densidad de la ro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cesitan recorda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2384280"/>
            <a:ext cx="65516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02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03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28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1-05T02:05:49Z</dcterms:modified>
  <cp:revision>19</cp:revision>
  <dc:subject/>
  <dc:title>Laboratorio VII</dc:title>
</cp:coreProperties>
</file>