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BC8-9A3A-420F-8287-7DBB2E08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7E6-93D7-42DD-A0C5-21C14CAF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75DF-1A2A-4E1D-B74A-5E5BA24C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246-BEE9-461C-92C3-FD10A220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ACD-33A4-45B8-8CC4-BA18C015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0F5F-26C4-4721-B813-66F594F8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2605-D0A9-4F6F-B455-DA78EE0D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6723-5E59-4C53-A081-F5030B70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EA5-08DF-48AE-B6F0-263D7B30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9F6-A7AD-4E76-9B7A-ED7337BE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582A-4F70-4F30-AC87-9DD3DFFC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BCC-4DCB-4C8F-8ACE-33BE1722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030D-0083-4A3E-B342-EF5E999CB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oratorio I: Columnas Estratigráf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589720"/>
            <a:ext cx="64008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41E – Estratigrafía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10920" y="1125000"/>
            <a:ext cx="7848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. Continuidad lateral original (Steensen, 16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estratos se extienden en todas direcciones de manera finita, pudiendo éstos truncarse, acuñarse, interdigitarse o grad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3949920" cy="2323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58920" y="3317760"/>
            <a:ext cx="619272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26560" y="1341360"/>
            <a:ext cx="792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iformitarianismo (Hutton, 178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presente es la llave del pasado”, esto es, los procesos que son observados hoy, son también observados en el pasado geo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cesión Biológica o Faunística (Smith, 18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vida (y por ende los fósiles) en los diferentes períodos de la historia de la Tierra difieren entre sí, por lo que depósitos contemporáneos pueden correlacionarse y reconstruir una secuencia cronológica del registro estratigrá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942840"/>
            <a:ext cx="874872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tastrofismo (Cuvier y Brongniart, 18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upos de estratos son separados comúnmente por cambios abruptos en el registro fósil, indicando grandes catástrofes en diferentes tiempos de la historia de la Tierra. (Gaps en el registro fós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79218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dades relativas (Lyell, 18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edades relativas de los estratos pueden inferirse viendo las relaciones de contacto entre ellos (concordantes, discordantes, gaps) y las relaciones de corte (intrusivos, fall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7058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7040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i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a de la Geología que se ocupa del estudio (identificación, descripción, clasificación, subdivisión) e interpretación de las unidades de rocas agrupadas por características simi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1280"/>
            <a:ext cx="889344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60360" y="765000"/>
            <a:ext cx="8388360" cy="55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a Estratigrá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 te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olog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sor de las 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eza rel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b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n estar representadas las relaciones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ósiles y estructuras sedimenta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n o no estar representados los intru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eos de los estratos NO  se toman en cu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pótesi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erposición (Steensen, 16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una secuencia de estratos no deformada, aquellos más antiguos se ubican en la base y los más nuevos hacia el t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929360" cy="38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916360" y="90792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os de pola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574800" cy="1800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34448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9056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izontalidad Original (Steensen, 16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depositación de material sedimentario es en capas horizontales a subhorizontales, paralelo a la superficie de deposición (estratos inclinados indican una deformación post-deposit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87854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471680"/>
            <a:ext cx="835344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1:02:33Z</dcterms:created>
  <dc:creator>Gonzalo Huerta Vásquez</dc:creator>
  <dc:description/>
  <dc:language>en-US</dc:language>
  <cp:lastModifiedBy>Gonzalo Huerta Vásquez</cp:lastModifiedBy>
  <dcterms:modified xsi:type="dcterms:W3CDTF">2007-07-30T03:35:41Z</dcterms:modified>
  <cp:revision>8</cp:revision>
  <dc:subject/>
  <dc:title>Laboratorio I: Columnas Estratigráficas</dc:title>
</cp:coreProperties>
</file>