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54C-EE35-4025-8219-FCF36CC7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5000-4279-4609-A55E-4C75B8EF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233A-0F90-4C61-BBC9-58E89864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8A9-C25E-4400-8F4F-1116AA23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9C3E-37A5-4CC7-9881-926234B2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AE3-B540-43DE-9104-81584DCE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C6FA-4889-4027-89A1-B1537DFB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C4AB-792B-4D8D-8EB0-40671AC6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FF06-AA1F-4C77-8E74-2BA3487B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6310-6571-4F90-856A-55DBF8C4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0B0B-DF26-4262-9DF4-1BFB88C5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E1FB-99B2-4755-8D80-50144380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F06F-622A-4162-9588-8848FFE79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mera Parte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bilidad Financ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ítulo 2: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SIVOS DE LARGO PLA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3573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bancos e instituciones financi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el publico (bo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o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reedores v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isione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989000"/>
            <a:ext cx="8424720" cy="1800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quellas obligaciones de la empresa que serán pagadas o amortizadas en plazos superiores a un año a contar de la fecha de los estados Financi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8444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ital apor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dades (pérdidas) acumul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dades (pérdidas) del Ejerc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nos los dividendo o retiros de Ut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ADOS DE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219384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un informe contable que permite conocer cómo se ha generado el resultado de la empresa durante el ejercicio con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un resumen de los ingresos y gastos de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ADO DE RESULT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5960" y="1987560"/>
            <a:ext cx="7302600" cy="43308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412640"/>
            <a:ext cx="845820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s y gastos relativos a la operación o giro del nego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852640"/>
            <a:ext cx="7937280" cy="349272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 DE LA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 DE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GEN DE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S DE ADMINISTRACION Y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429840"/>
            <a:ext cx="8064360" cy="13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SULTADO NO OPER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153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s y gastos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acionados con la operación o giro del nego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3141720"/>
            <a:ext cx="7848360" cy="31878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S FUERA DE LA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GRESOS FUERA DE LA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CCIO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 Corrección Monetar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8240" y="1987560"/>
            <a:ext cx="7683480" cy="44067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LA DIFERENCIA ENTRE LA REVALORIZ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OS ACTIVOS SUJETOS A CORREC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TARIA Y LA REVALORIZACION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SIVOS Y DEL PATRIMONIO Y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VALORIZACIONES QUE SE APLICAN S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S Y GA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JUSTES A LOS ESTADOS CO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7920" y="2122560"/>
            <a:ext cx="8596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acciones implícitas agregadas al balance y al estado de resul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formación Parcial de un Activo en Ga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umulación de Ingresos y Gastos no Registrados anterior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nsformación Parcial de Activo en Gas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7280" y="2276640"/>
            <a:ext cx="2577960" cy="12063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3840" y="2276640"/>
            <a:ext cx="1663920" cy="12063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10360" y="2276640"/>
            <a:ext cx="1206720" cy="12063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18040" y="2879640"/>
            <a:ext cx="2057400" cy="0"/>
          </a:xfrm>
          <a:prstGeom prst="line">
            <a:avLst/>
          </a:prstGeom>
          <a:ln w="76320">
            <a:solidFill>
              <a:srgbClr val="cc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29720" y="23302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3933720"/>
            <a:ext cx="80643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curre por el consumo o uso del activo, o por un imprevi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: Depreciación, gastos pagados por anticipad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ortización de activos intangibles, casti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provi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15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orme contable que muestra la situación económico-financiera de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de carácter estático, muestra sólo un in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 lado izquierdo muestra los activos y al derecho los pasivos y el patrimo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0280" y="981000"/>
            <a:ext cx="8362800" cy="1008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1 de noviembre se compra mobiliario en M$600, cuya vida útil es de 5 años y su valor residual ce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2089080"/>
            <a:ext cx="8280360" cy="1033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7560" y="3284640"/>
            <a:ext cx="8345520" cy="934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JUSTE AL 31/12, para reconocer el desgaste de los muebles. Dos op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8280360" cy="1033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41440" y="5608800"/>
            <a:ext cx="8278560" cy="10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91520" cy="10083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1/10 se arriendan oficinas pagando 5 meses por adelantado, por un monto de $1000,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0560" y="3986280"/>
            <a:ext cx="822816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el consumo de dos meses de arrie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33440" y="2565360"/>
            <a:ext cx="8459640" cy="98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5445000"/>
            <a:ext cx="842472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1440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tiene un saldo de deudas por cobrar de M$600. El deudor quebró y se tiene la certeza de que no cancel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4360" y="4540320"/>
            <a:ext cx="8405640" cy="1049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7840" y="3049560"/>
            <a:ext cx="830088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para reconocer la irrecuperabilidad de las cuentas por cob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324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tiene un saldo de deudas por cobrar de M$800. La empresa estima que por diversas razones no se recaudará el 10% de e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640" y="4653000"/>
            <a:ext cx="8332920" cy="1716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68360" y="3282840"/>
            <a:ext cx="835164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la probabilidad de no recaudar una parte de las cuentas por cob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alización de Ingresos Difer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618920"/>
            <a:ext cx="85341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51640" cy="936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0/9 el Teatro Municipal vende abonos por M$50.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2408400"/>
            <a:ext cx="8331120" cy="1038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7840" y="3697200"/>
            <a:ext cx="830088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el ingreso por la realización del 80% de los ev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4968720"/>
            <a:ext cx="856944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umulación de Ingresos y Gastos no Registr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s y gastos que ocurren día a día, en forma contin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eses banc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ntas de inversiones financi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cios prestados por el pers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965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1/10 se pide un préstamo por M$100, al 3% mensual (interés simp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7840" y="3552840"/>
            <a:ext cx="830088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los intereses devengados sobre la deu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96720" y="2314440"/>
            <a:ext cx="8496360" cy="1040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84963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362800" cy="14684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paga salarios semanales por M$100. El último pago lo efectuó el 28/12 correspondiente a la semana del 21-2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4508640"/>
            <a:ext cx="8477280" cy="1746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47840" y="3049560"/>
            <a:ext cx="837216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JUSTE AL 31/12, para reconocer el salario devengado entre el 28 y el 31 de diciembre (4/5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OTAS A LOS 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6292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son en sí estados financieros, pero forman parte d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 ECONOM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 FINANCI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OTAS A LOS 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15360" cy="48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riterios Contables Usado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ase de conversión transacciones a M.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s para depreciar activo fi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s para valorizar existenci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rrección Monetaria Principales Part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osición Exis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talle Provisiones y Casti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sivos : Fechas de Vencimiento, Instituciones Acreedo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ICTAMEN AUDITORES EXTERN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21225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sociedades anónimas abiertas tienen la obligación de someter sus Estados Financieros a la revisión de Auditores Externos, quienes emiten un dict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Salvedad (Posi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Salvedad (Neg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ructura de los Estados Financieros de las S.A. abiert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do de Flujo de Efe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ctamen de Auditores Exte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bligatoriedad de los 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80680" y="1915920"/>
            <a:ext cx="8094600" cy="43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hile, están legalmente obligadas a preparar y presentar estados financieros sólo las empresas sometidas a la fiscalización de las superintendencias, tales como: sociedades anónimas abiertas, sociedades emisoras de valores de oferta pública, compañías de seguro, administradoras de fondos, bancos, AFP e Isap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sto de las empresas sólo tienen obligaciones respecto de la contabilidad tributa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351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080" y="109224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rta empresa muestra el siguiente balance al comenzar el ejercicio (en M$)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220968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49280" y="1125360"/>
            <a:ext cx="829944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080" y="26028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os dos meses siguientes realiza las siguientes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822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deuda se contrajo a un tasa del 2% mensual (lineal) y se debe pagar al cabo de 1 año junto con los inter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 activo fijo le resta una vida útil de 20 años y su valor residual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seguro tiene una duración de 1 año y fue contratado hace 2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ide el registro de las transacciones, ajustes, Balance General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tado de Resultados al cabo de dos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" y="380880"/>
            <a:ext cx="8763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281800" cy="1032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82818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353440" cy="1042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0880" y="323064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4508640"/>
            <a:ext cx="828036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2376360"/>
            <a:ext cx="828036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RUCTURA DEL BAL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88920" y="2031840"/>
          <a:ext cx="6997680" cy="43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2031840"/>
                    <a:ext cx="6997680" cy="43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8610480" y="2036880"/>
            <a:ext cx="0" cy="4495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189160"/>
            <a:ext cx="0" cy="3962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9720" y="209880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800" y="54514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" y="240192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15200" y="62118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45720" y="171612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203688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03688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53280" y="211284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03688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8749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63039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1440" y="1506600"/>
            <a:ext cx="8134200" cy="1014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80880" y="34290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9640" y="4557600"/>
            <a:ext cx="828036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just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41440" y="1844640"/>
            <a:ext cx="8207280" cy="1023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55680" y="1004760"/>
            <a:ext cx="45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preciación del activo fi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50028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terese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1280" y="4087800"/>
            <a:ext cx="8137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mortización del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1717560"/>
            <a:ext cx="835164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SUMEN DE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1417680"/>
            <a:ext cx="8785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1473120"/>
          <a:ext cx="822960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73120"/>
                    <a:ext cx="822960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524880" y="40644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GENERAL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14400" y="1120680"/>
          <a:ext cx="7467480" cy="471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20680"/>
                    <a:ext cx="746748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QUID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un activo para convertirse en efe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IG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laciona con el tiempo faltante para el vencimiento de las oblig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TIVO CIRCUL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3573000"/>
            <a:ext cx="4319640" cy="30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pósitos a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udores por 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os por cob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udores v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is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8920" y="3499920"/>
            <a:ext cx="4095720" cy="29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por recu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astos pagados por anticip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1989000"/>
            <a:ext cx="7777080" cy="1373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o recursos de la empresa que serán vendidos, realizados o consumidos dentro de un año desde la fecha del estado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TIVO FI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560" y="3212640"/>
            <a:ext cx="7983720" cy="32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renos (no depreciables), yacimientos, bos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trucciones y obras de infraestruc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rsiones en plantas frutales, viñed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quinaria y equi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preciación acumulada (men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1916280"/>
            <a:ext cx="7777440" cy="1373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ienes adquiridos para usarlos en la explotación social y sin el propósito de vender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TROS ACTIV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1960" y="3212640"/>
            <a:ext cx="7772400" cy="32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rsiones en empresas relaciona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rsiones en otras socie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udore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angibles (patentes, marc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ortizaciones (me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2038320"/>
            <a:ext cx="7653240" cy="947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os demás activos que no puedan ser clasificados en las categorías ant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SIVO CIRCUL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3298680"/>
            <a:ext cx="463572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1192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bancos a corto plaz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te de las obligaciones a largo plazo que vencen antes de 1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el público a cort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3284280"/>
            <a:ext cx="4244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enta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o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gresos percibidos por anticip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120" y="1413000"/>
            <a:ext cx="8084880" cy="1800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quellas obligaciones contraídas por la empresa que serán canceladas dentro del plazo de un año a contar de la fecha de los estados Financi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3:04:30Z</dcterms:created>
  <dc:creator>Soporte Técnico</dc:creator>
  <dc:description/>
  <dc:language>en-US</dc:language>
  <cp:lastModifiedBy>Michel</cp:lastModifiedBy>
  <dcterms:modified xsi:type="dcterms:W3CDTF">2007-07-31T01:56:22Z</dcterms:modified>
  <cp:revision>8</cp:revision>
  <dc:subject/>
  <dc:title>Contabilidad y Control</dc:title>
</cp:coreProperties>
</file>