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2B1-1BAA-413A-AE97-0DCC0C95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DB2-0B43-4338-AA7B-AD52C55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75C-2004-4D80-A234-C8421B8D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EFD-F144-4F4E-8F9C-B6554AC1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C78-11CE-4DFC-BC90-25D57FC2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3D0-E8DF-4D4A-902A-74F3B421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5F9-8B81-4093-86ED-712E144A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940-D253-433F-9267-BE47F0C4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032-0091-457B-853A-04AFC947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3CB-F4B4-4198-A01C-7A8245B2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92B-AAA8-4DB1-8CFF-1DE14DF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BD3-79CB-431E-990E-722E972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D650-E5E8-426F-9162-B3664B7B8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3: Sistemas Con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52280" y="1127160"/>
          <a:ext cx="883944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27160"/>
                    <a:ext cx="883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28600" y="1257480"/>
          <a:ext cx="8686800" cy="485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7480"/>
                    <a:ext cx="8686800" cy="48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1424160"/>
          <a:ext cx="845820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24160"/>
                    <a:ext cx="84582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90880" y="304920"/>
            <a:ext cx="31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se 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471600"/>
          <a:ext cx="8229600" cy="60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1600"/>
                    <a:ext cx="8229600" cy="60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981000"/>
          <a:ext cx="830592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81000"/>
                    <a:ext cx="830592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143000" y="1600200"/>
          <a:ext cx="7162920" cy="30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804960" y="30492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50840" y="5172120"/>
            <a:ext cx="74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aso siguiente sería traspasar estos asientos al libro ma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7200" y="2612880"/>
          <a:ext cx="8305920" cy="35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2880"/>
                    <a:ext cx="830592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06668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spaso de las cuentas de gastos de administración y ventas a una cuenta resumen, denominada gastos de administración y v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1927080"/>
          <a:ext cx="838224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27080"/>
                    <a:ext cx="83822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17680" y="72720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re de cuentas: Se efectúan los asientos contrarios en la cuenta Utilidad del Ejerc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7017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17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4880" y="92880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720" y="3333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8-02T06:06:19Z</dcterms:modified>
  <cp:revision>10</cp:revision>
  <dc:subject/>
  <dc:title>Contabilidad y Control</dc:title>
</cp:coreProperties>
</file>