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040-22C9-49A1-B95E-F8FB7729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7F4-49EC-44B3-AB81-5B32EFCE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A97-ECE0-451E-A2C0-24F51194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58E-6BE3-4B3C-80AA-80F8E1D6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631-74AC-4EBA-B2D7-E89BF982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E0C-AFBC-4414-8D29-8641E58B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DB3-36F2-4D1A-B541-ECC24B23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94A-5947-449B-8B6B-10AD98B2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5A1-6140-4CE5-A466-E57398F5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F2B-9164-40BC-98FE-96486F44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241-A8C1-4CD3-A599-E6BBC009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4C6-9849-46DF-A991-8901F0FA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D535-F499-4EFA-8B30-589CE526F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3: Sistemas Con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libro que agrupa todas las cuentas que utiliza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imer registro corresponde al saldo del ejercicio anterior, salvo en las cuentas de resultado, cuyo saldo inicial es siempre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600" y="3147840"/>
          <a:ext cx="8367480" cy="29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147840"/>
                    <a:ext cx="836748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574000" y="2117880"/>
            <a:ext cx="361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ta: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4272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65240"/>
            <a:ext cx="798984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Libro Diario es un registro cronológico de las transacciones efectuadas por una organización. Se especifica el carácter y circunstancia de cada una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gistro de una transacción en el Libro Diario recibe el nombre de “Asiento Contab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un Libro Di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00" y="3048120"/>
          <a:ext cx="90882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48120"/>
                    <a:ext cx="90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4840" y="2097000"/>
            <a:ext cx="8345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stado de todas las cuentas del mayor con los débitos y créditos del período y sus respectivos saldos deudores o acr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3819600"/>
            <a:ext cx="8902800" cy="977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iclo Co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inicial de las transacciones en el libro d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spaso al libro ma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entos de ajustes y cierre de cuentas (hoja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paración de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104292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200240"/>
            <a:ext cx="8655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2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4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5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6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 pid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52280" y="1127160"/>
          <a:ext cx="883944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27160"/>
                    <a:ext cx="883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istros 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ance de Comprob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28600" y="1257480"/>
          <a:ext cx="8686800" cy="485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7480"/>
                    <a:ext cx="8686800" cy="48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1424160"/>
          <a:ext cx="845820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24160"/>
                    <a:ext cx="84582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90880" y="304920"/>
            <a:ext cx="31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se al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471600"/>
          <a:ext cx="8229600" cy="60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1600"/>
                    <a:ext cx="8229600" cy="60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981000"/>
          <a:ext cx="830592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81000"/>
                    <a:ext cx="830592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143000" y="1600200"/>
          <a:ext cx="7162920" cy="30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804960" y="30492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50840" y="5172120"/>
            <a:ext cx="74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aso siguiente sería traspasar estos asientos al libro ma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57200" y="2612880"/>
          <a:ext cx="8305920" cy="353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2880"/>
                    <a:ext cx="830592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06668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spaso de las cuentas de gastos de administración y ventas a una cuenta resumen, denominada gastos de administración y v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0880" y="1927080"/>
          <a:ext cx="838224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27080"/>
                    <a:ext cx="83822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17680" y="72720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re de cuentas: Se efectúan los asientos contrarios en la cuenta Utilidad del Ejerc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7017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17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24880" y="92880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720" y="3333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98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381400"/>
            <a:ext cx="864072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3100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Debe se llama: Adeudar, cargar o de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Haber se llama: Abonar o acre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ándonos en la igualdad del inventario existi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sponde al conjunto d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en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utilizadas en un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mínimo son las del Balance General y las d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mpresa elegirá el nivel de desagregación en función de sus requerimientos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8-02T06:06:19Z</dcterms:modified>
  <cp:revision>10</cp:revision>
  <dc:subject/>
  <dc:title>Contabilidad y Control</dc:title>
</cp:coreProperties>
</file>