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597-0F36-4D61-BCC8-28C6B590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C07-F45D-4FD9-B3A8-078E27B8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B3A-ED10-4D0A-916F-A403216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55C-96F7-4857-AE46-0AA0CD29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EFC-D39B-4126-B65C-C4F01C5F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3AE-4B2A-43AA-9AB5-B0CA0308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6D2-28DA-4EFD-A748-D95CFCE4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6F4-F725-43C5-B8FF-AB411DA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E3D-FA0A-4BB6-B280-D2242B7E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9C4-64B9-4BBD-BBFD-EB0167E0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FCA-9D75-459B-98D9-BF8EDF7B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354-3A84-4E52-8A9C-9D28E16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879D-8CE5-416F-AF58-D264B08E30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7086600" cy="14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560" y="3716280"/>
            <a:ext cx="699444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4: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Provision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20556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óngase que se logran recuperar $1.000 de la deuda previamente ca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500364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8207280" cy="34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IODICO: Se cierra el negocio cada cierto tiempo, se cuentan las unidades físicas y se valoriz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PETUO: La cuenta existencias se mantiene permanentemente al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2864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iód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974880" y="1989000"/>
            <a:ext cx="6910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8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408560"/>
            <a:ext cx="809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tiliza una cuenta transitori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rcaderí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se carga con el inventario inicial y las compras (al costo) y se abona con la ventas (a precio de ve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detectan robos ni mermas de merc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petu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vender mercadería se reduce la cuenta mercadería y se aumenta la cuenta costo de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noce el Costo de Venta cada vez que ocurre una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poder asociar cada venta con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4480" y="194112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l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dades Específ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Permanente que permite Identificar cuál es el Costo de Adquisición de Cada Unidad Vend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con volúmenes de venta peque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tivos de alto valor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440" y="404640"/>
            <a:ext cx="84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99520" y="1483920"/>
            <a:ext cx="86648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0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más antiguo, y el inventario queda valorado al costo de adquisición más 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ingresó al último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de adquisición más reciente, y las existencias se valoran al costo más antigu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805360"/>
            <a:ext cx="8064360" cy="824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362320"/>
            <a:ext cx="8280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250*1,12+80*1,1 = 3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= 300*0,95=2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s = 1.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para la venta (DV) = II + Compras = 285 + 1.015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- 368 =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30520"/>
            <a:ext cx="7772400" cy="24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300*0,95+30*1,0 = 3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 = DV – IF = 1300- 315 = 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933720"/>
            <a:ext cx="8136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os precios suben, el costo de ventas con LIFO es mayor que con FIFO. A su vez, el valor de las existencias con LIFO es menor que con FI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2193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*0,95+10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04 $/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+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IF = 330*1,04 = 343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– 343,2 =  95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319480"/>
            <a:ext cx="8497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395440"/>
            <a:ext cx="856908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2414520"/>
            <a:ext cx="8820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29242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1880" y="558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39337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880" y="659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jos o de Largo Plaz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Físicos (o tangibles)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s, construcciones y obras de ingeniería, maquinarias y equi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Intangible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entes, marcas comerciales, derechos de llave, licencias o franquic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8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3 métodos para valorar ac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al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de Mercado (o de Reemplaz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el Valor Re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ísic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1700280"/>
            <a:ext cx="8299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: A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que comprende el precio del activo más los gastos conex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Conexos: Transporte, instalaciones, comisiones, gastos notar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activos de bajo valor relativo se registran directamente como gastos (ej: repuestos, materiales de oficina, libr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s y Repa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: Cambios Estructurales del activo (ampliación a adición de elementos). S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ita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 decir, incrementan en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81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os métodos de depreciación. Nosotros estudiaremos t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método aceptado por el S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tivos no físicos que presentan un potencial de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rcas Comercia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recho de lla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cencia o franquic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60 dí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00*(1.012)^2-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*(1.012)^2-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0120" y="442800"/>
            <a:ext cx="785952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distinguir si el objetivo de la inversión es de corto o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10% del capital de la empres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5% de los activos del inversion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48060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011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Otros Activos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Otros Activos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8440" y="1916280"/>
            <a:ext cx="869940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la Contabilidad Financiera usa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aloración al costo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pio. con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veces se usa el valor de mercado (acciones en calidad de valores negoc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12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(provisiones)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637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on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ael Jorratt De Luis</cp:lastModifiedBy>
  <cp:lastPrinted>1999-03-18T20:54:39Z</cp:lastPrinted>
  <dcterms:modified xsi:type="dcterms:W3CDTF">2007-03-19T03:16:18Z</dcterms:modified>
  <cp:revision>23</cp:revision>
  <dc:subject/>
  <dc:title>Primera Parte: Contabilidad Financiera</dc:title>
</cp:coreProperties>
</file>