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70C-DAF6-4AF3-B42D-0D9ED238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ECA-9EEB-4D2C-9710-9A628E24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C03-330C-4CCC-AB58-B174A136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8C6-F696-406F-8EFC-A1AB3591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57B-9B4C-4C37-B2D8-2CB11C9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317-FCD7-4DA4-A450-C613D65F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1AF-CD54-44B9-9ACB-231C53FF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AED-13DF-46B1-B71A-D3D7C376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CE3-E5BA-4414-980E-B7537263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113-2951-4F85-9A0F-63F0167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648-F7B9-4C01-BFF0-C24D837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F98-E509-4DF2-BF86-A89E82B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3DEA-9D92-43C7-B5C3-244D9B99F9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de registro de transacciones en la ecuación d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 de diciembre el ingeniero Julio González crea una sociedad con su esposa, JG Gestión SA, mediante la cual se dedicará a prestar asesorías en control de gestión. Cada uno aportó $20 millones en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4120" y="3641760"/>
          <a:ext cx="8435880" cy="9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641760"/>
                    <a:ext cx="8435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1280" y="720720"/>
          <a:ext cx="806616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20720"/>
                    <a:ext cx="8066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oficinas tienen una vida útil estimada en 50 años, con valor residual cero. En tanto, para los computadores y muebles se estima la vida útil en 5 años, sin valor resid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uda con el banco devenga un interés mensual de 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el mes de diciembre se consumió el 20% de los suminis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diciembre se ejecutó el 5% del contrato con el Ministerio de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31 de diciembre quedaron remuneraciones impagas por $600 m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8507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ntecedentes adicionales para JG Gestión 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2509920"/>
          <a:ext cx="8642160" cy="18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09920"/>
                    <a:ext cx="86421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397160"/>
          <a:ext cx="8280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7160"/>
                    <a:ext cx="8280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1608120"/>
          <a:ext cx="849636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8120"/>
                    <a:ext cx="8496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 de diciembre compra en $60 millones un piso de un edificio, pagando el 20% al contado. La diferencia la financia con un crédito hipotecario. La propiedad fue tasada por el SII en $45 millones, siendo un 10% de ese valor atribuible a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840" y="3355920"/>
          <a:ext cx="850716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3355920"/>
                    <a:ext cx="85071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9 de diciembre compra computadores y muebles de oficina por un valor total de $7 millones, pagándose el 40% en efectivo y el resto a 6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7920" y="2781360"/>
          <a:ext cx="8686800" cy="249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781360"/>
                    <a:ext cx="8686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13 de diciembre se adquieren suministros de oficina (CDs, papeles, etc.) para ser usados durante los 4 próximos meses. El monto invertido es de $500 mil y se paga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6280" y="2852640"/>
          <a:ext cx="8686800" cy="24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852640"/>
                    <a:ext cx="86868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0 de diciembre la consultora recibe su primer ingreso, por $2,5 millones en efectivo, producto de una capacitación prestada a la Cía. APZ S.A. Se recauda el 40% al contado y el resto a 3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852640"/>
          <a:ext cx="868680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6868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5 de diciembre se firma un contrato de consultoría con el Ministerio de Economía por un valor total de $47 millones, el cual será ejecutado en un plazo de 6 meses. Se recibe un anticipo de $10 millones y el resto se irá cobrando en función del a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6280" y="2997360"/>
          <a:ext cx="8686800" cy="310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997360"/>
                    <a:ext cx="868680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3620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0 de diciembre se pagan remuneraciones por $6,5 millones y servicios básicos por $150 mil, todo al co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6280" y="2205000"/>
          <a:ext cx="868680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205000"/>
                    <a:ext cx="8686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2163600"/>
          <a:ext cx="864072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86407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79280" y="2709720"/>
            <a:ext cx="417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08640"/>
            <a:ext cx="4788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3213000"/>
            <a:ext cx="0" cy="273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300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54000" y="60148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0160" y="6014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55640" y="2060640"/>
          <a:ext cx="763272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63272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17:42Z</dcterms:created>
  <dc:creator>Michael Jorratt De Luis</dc:creator>
  <dc:description/>
  <dc:language>en-US</dc:language>
  <cp:lastModifiedBy>Michel</cp:lastModifiedBy>
  <dcterms:modified xsi:type="dcterms:W3CDTF">2007-08-09T04:55:24Z</dcterms:modified>
  <cp:revision>2</cp:revision>
  <dc:subject/>
  <dc:title>Ejemplo: Plan de Cuentas de JG Gestión SA</dc:title>
</cp:coreProperties>
</file>