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96C-E684-4B75-B61A-3BDCE627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FD2-E156-4782-B094-F1942E8E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E38-478E-46BE-8BC1-322586FD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C12-CEA7-4FCC-B797-9FBC26BF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CBC-15E7-4484-8351-E44A0004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0AD-67F3-4C3F-8034-AE3523B3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456-BC7D-4F30-9DD8-BC42525B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FA1-C66B-42E5-8E48-CD9E5F7D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71C-A7C3-4E0B-BBC1-29C2D800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EE0-53DE-4A5E-BF67-AD27FF83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5B0-07D9-4341-9B7A-EA100677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076-7A3A-462F-9E45-D9B4FB00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EEB9-6433-4D2A-BBF4-4C5CAD56E0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5400" y="195228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400536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5: Pas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28280"/>
            <a:ext cx="8515080" cy="47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: Es un contrato de arrendamiento con opc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solicita a otra (la empresa de leasing) que adquiera un determinado bien para dárselo simultáneamente en arrend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contrato establece el pago de una cuota de arrendamiento por un cierto lap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final de ese lapso el arrendatario tiene 3 op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volver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guir arrendánd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gar la opción y quedarse con el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77336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Financi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tiv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s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o Fijo en leasing 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en Leas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es Diferid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resente de las cuotas de arren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atoria de las c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que generará el contrato durante su vigencia, es decir (2) -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41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mpra una camioneta vía leasing. El contrato establece el pago de 6 cuotas iguales de m$ 1.000, las que incluyen un interés mensual del 1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0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.01) 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1.0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P = 5.795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= 6.000 - 5.795,5 = 204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gistro Inici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vo Fijo en leasing (A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795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204,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 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Al primer m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ligaciones por leas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és Diferid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57,9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8188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é parte de la cuota mensual corresponde a interés y cuánto a capi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 por amortiza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é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795,4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7,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42,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853,4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8,5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51,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901,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9,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0,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940,9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9,4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70,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970,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9,7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80,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990,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9,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0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0,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627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zación Tribut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cuota del leasing es un gasto. Sólo se registra como activo la última cuota (opción), la cual se depre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b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ota contrato de lea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ast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800" y="5565600"/>
            <a:ext cx="7719840" cy="94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onces, la ventaja fundamental del leasing es tribut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S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0120" y="1600200"/>
            <a:ext cx="74991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les rubros del pas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8a63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.1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incipales Rubros del Pasiv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8920" y="1485720"/>
            <a:ext cx="853416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ones con el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entas por pagar, Documentos por pagar y Acreedores v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s percibidos por adelan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483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ligaciones con el Público: Bo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emisión: Monto que se pagará al tenedor del 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de emisión: Tasa de interés que se deveng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Par: Capital no amortizado más intereses devengados y no pag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de mercado: Precio al que se transa el bono (en función de la tasa de interés de merc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63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pón: Pago parcial del bono, que puede incluir amortización del capital y/o intere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155680"/>
            <a:ext cx="8610480" cy="386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700 y tasa de emisión de 6,5%. Anualmente se amortizará la quinta parte del valor de emisión y se pagarán los intereses devengados.  Como la tasa de interés de mercado es de 7,2%, el bono se transó en mm $687,46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660400"/>
            <a:ext cx="8610480" cy="328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2,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54240"/>
            <a:ext cx="8610480" cy="41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r cupón (pago de capital e interes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5,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és diferido (C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2,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23440"/>
            <a:ext cx="748368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136000" cy="40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712,65. Los gastos de colocación alcanzaron a mm$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665280"/>
            <a:ext cx="7483680" cy="71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2491920"/>
            <a:ext cx="8839440" cy="299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 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7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financieros (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5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so Financiero (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2,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ligación con el público (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,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cp:keywords/>
  <dc:language>en-US</dc:language>
  <cp:lastModifiedBy>Michael Jorratt De Luis</cp:lastModifiedBy>
  <cp:lastPrinted>1999-03-18T20:56:04Z</cp:lastPrinted>
  <dcterms:modified xsi:type="dcterms:W3CDTF">2007-03-19T03:28:43Z</dcterms:modified>
  <cp:revision>10</cp:revision>
  <dc:subject/>
  <dc:title>Primera Parte: Contabilidad Financiera</dc:title>
</cp:coreProperties>
</file>