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C33-08DC-4949-9EF6-27A393B0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130-E039-4F6E-91FB-CEA3FA2B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F36-26A4-4446-8605-14EE6B95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A59-660E-43C4-8500-31264AE6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80DF-9CEB-4C8C-9590-1418DF1A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D6AD-CAA9-41F3-AF50-DAD150CE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38BD-1DF4-4B26-818B-DA35E137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278D-A8EC-4EDE-A958-8A696320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B92A-FDDF-458A-8489-297E7E36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9088-1D9D-4A62-A29C-CA5FA8B2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6F5C-04F3-44EC-B785-054347B5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A42-FBF7-4CDA-8CFD-D4364158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6A6D-0BD4-47B0-BC07-058B1DEB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573F-027B-4AC6-A1D4-1A2CDFF9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EE7B-6601-4299-AB78-8FB2D610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746D-FB97-4C7D-81C8-596F7911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90EA-C78F-402F-AF95-EB6EFC98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422-B298-4E9C-9439-D97E514E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155F-E179-41CA-ACFB-CBF979D2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BE6D-C5A9-4563-89E5-B6B95E62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253-2063-43A6-B583-5E740AF2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295-4FA5-4CE8-A1FC-C36E7E0E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B8E-5E72-4FB4-A98E-7F4347B1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C7A-061F-4836-98D6-7E0841E4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A640-5865-4608-B399-788A9EBA3AB6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A3F1-97BA-4297-A6C7-0230737E6E9D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1254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mera Part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bilidad Financie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38541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ítulo 8: Corrección Mone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960" y="2266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Inicial Actualizado = 1000*1.1  =   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Final Actualizado   = 1000*1.1 + 10 = 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  =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22590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25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225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8684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259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33256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43164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549360"/>
            <a:ext cx="77932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jemplo 2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 ahora el activo está formado por un terr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53840" y="2205000"/>
            <a:ext cx="65358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lance Final Corregido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332856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rimonio Inic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405240"/>
            <a:ext cx="792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44719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53452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4216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Ejemplo 3: ahora hay una deuda reajustable (en UF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320" y="2033280"/>
            <a:ext cx="8991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Inicial Actualizado = 1000*1.1          =   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Final Actualizado   = 1510 - 500*1,1 =     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=   (14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203364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03364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30243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1880" y="203364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355752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50817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188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03364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960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3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canismo de la Corrección Monetar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alorizar el Patrimonio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alorizar el Patrimonio Final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Revalorizables (No Monet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sivos Revalorizables (No Monet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os no monetario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6880" y="17892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auto protegidos de la Inflació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u valor real permanece constante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pósitos a Plazo Reajust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Intangibles, Ac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tas.por Cobrar Reajus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asivos no monetario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7920" y="1941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auto protegidos de la Inflació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u valor real permanece constante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en U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pactadas en moneda extranjer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alquier deuda pactada con cláusula de reajustabil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amortiza en pesos y luego se hace C.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227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os y Pasivos monetario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69720" y="21225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on aquellos pasivos y activos cuyo valor nominal permanece constante, pero no el re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pon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no reajus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5240" y="761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ses de la Corrección Monet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el Capital Inicial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P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Aportes y Retiros de Capit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Activos No Mone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Pasivos No Mone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es de correc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974600"/>
            <a:ext cx="870408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IPC,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se usa para corregi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Costo de Reposición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el valor de las 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define como el valor de la última unidad comp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fines tributarios se considera el precio más alto pagado en el ejerci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01400" y="585360"/>
            <a:ext cx="70866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es de correc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80" y="2252160"/>
            <a:ext cx="8763120" cy="398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Variación Tipo de Cambi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las deudas o depósitos pactados en moneda extranje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Cláusulas de Reajustabilidad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Según como se haya establecido o pact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deudas o depósitos pactados con las respectivas cláusula (la más usual es la Unidad de Fomento (UF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¿Qué es la Corrección Monetaria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2205000"/>
            <a:ext cx="807876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un mecanismo para reflejar en los estados financieros la pérdida de poder adquisitivo de la mone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34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243180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empresa tiene los siguientes estados financieros a fines del ejercicio de 200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IVO Y PATRIMON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lig. en M.Extran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ores por V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s.por Pag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y Reser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tal A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3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tal Pas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3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99640" y="41400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3240" y="1893600"/>
            <a:ext cx="7772400" cy="46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greso por Vent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5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de Adm.y Vtas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tilidad de Ejercic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560" y="217188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emás, se tiene la siguiente inform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 a Noviembre de 2001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 a Noviembre de 2002 = 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ción tipo de cambi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3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2152800"/>
            <a:ext cx="8686800" cy="43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Capital Inicial (como IPC de diciembre se conoce en Enero, se usa el de noviembr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PC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  1= 2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 Revalor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000*1.25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41400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210456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alorización Activos No Monet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Revaloriza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500*1.25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 Revaloriz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96*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280" y="556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202896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alorización Pasivos No Mone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M.E. Revaloriz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600* 1.3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M.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imonio Final Revalorizado : (Activo- Pasiv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+ 900 + 960 + 625- 780 - 400 = 140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el Patrimonio Inicial Revalorizado es 1250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5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1973160"/>
            <a:ext cx="845172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ientos de Corrección Moneta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uda M.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41400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2228760"/>
            <a:ext cx="5305320" cy="4368960"/>
          </a:xfrm>
          <a:prstGeom prst="rect">
            <a:avLst/>
          </a:prstGeom>
          <a:noFill/>
          <a:ln w="507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 Corregi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Adm. y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1400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22669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alance Corregid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IVO Y PATRIMON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lig. en M.E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ores por Vt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s. por Pag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6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y Reser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625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155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58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58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ongamos una economía donde existe un único bien (manzanas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período 0 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0$/un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período 1 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1$/un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onces, inflación = 10%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una persona dispone de $1000, y tiene la alternativa de depositar al 20%, la utilidad que obtendrá será la siguie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6920" y="2168640"/>
            <a:ext cx="8839080" cy="4356000"/>
          </a:xfrm>
          <a:prstGeom prst="rect">
            <a:avLst/>
          </a:prstGeom>
          <a:noFill/>
          <a:ln w="127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MANZ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9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9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NOM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 - 1000 =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$ de cada añ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,09*11 = 1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$ del año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62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calcular la utilidad real obtenida en un depósito, lo que hacemos es comparar el dinero obtenido a la fecha del vencimiento con el capital depositado originalmente, pero actualizado según la variación del Índice de Precios al Consumidor (IPC), es deci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tilidad real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= 1200 – 1000*(1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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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1200 – 1000*1,1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84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2 Inflación y Estados Financie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as de la inflació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orsiona Valor de Activos y Pas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orsiona Relación entre Ingresos y Gas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ción Mone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pagar impuestos sobre utilidades re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comparar estados financieros de distintos perío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206028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determinar la utilidad real en una empresa, es decir, con corrección monetaria, se aplica un procedimiento conceptualmente similar a cuando se obtiene la utilidad real de un depósito bancario (ejemplo anterio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tonces, se debe comparar el patrimonio inicial actualizado con el patrimonio final, también actualiz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96984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2 Inflación y Estados Financie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7920" y="195228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uesto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flación 1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utilidad es producto de una prestación de servicios que se paga al con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8488440" y="25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644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3600" y="252900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63600" y="25034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63600" y="296064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06800" y="25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3537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163600" y="454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636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68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150560" y="366480"/>
            <a:ext cx="779292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jemplo 1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 empresa cuyo único activo es caja y no tiene pasiv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2075040"/>
            <a:ext cx="8839440" cy="42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Utilidad Nominal  =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onio Inicial Actualizado = 1000*1.1=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onio Final Actualizado (Act. - Pas.) = 1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  = (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Balance Final Correg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érdida del ej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(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18148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2485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cp:keywords/>
  <dc:language>en-US</dc:language>
  <cp:lastModifiedBy>Michel</cp:lastModifiedBy>
  <cp:lastPrinted>1999-03-18T21:02:27Z</cp:lastPrinted>
  <dcterms:modified xsi:type="dcterms:W3CDTF">2007-08-28T02:00:45Z</dcterms:modified>
  <cp:revision>23</cp:revision>
  <dc:subject/>
  <dc:title>Primera Parte: Contabilidad Financiera</dc:title>
</cp:coreProperties>
</file>