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8B49381-2F88-4BA7-AA23-F5F99B455343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8620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19E4-F5FD-434C-9F7D-B16396DD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409-8E38-45A9-9D04-D3812871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AC2-E97A-4CE8-B27C-059A5833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B74-1ACC-44A2-AD49-FDAA9763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B62-C6AC-4240-AD99-9187EEB0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5D2-6A0B-4FD8-AC04-A368907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49D-3FCD-4A2E-8CC4-B8ACF9FF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B511-E81F-4C8D-A28C-E62576C7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B82-54D7-4681-B346-F1D2F802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8D6-C966-485D-915F-4BF45C1B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79A-1129-493E-9A2E-ED7D1A8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A4E-A6DF-450F-9BC6-4E3B668E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61B0B66-F70B-4715-B363-FED5EC694F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264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Primera Parte:</a:t>
            </a:r>
            <a:br>
              <a:rPr sz="4400"/>
            </a:br>
            <a:r>
              <a:rPr b="0" i="1" lang="en-US" sz="4400" spc="-1" strike="noStrike">
                <a:solidFill>
                  <a:srgbClr val="fafd00"/>
                </a:solidFill>
                <a:latin typeface="Times New Roman"/>
              </a:rPr>
              <a:t>Contabilidad Financier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3640" y="2865600"/>
            <a:ext cx="7788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ítulo 7: Consolidación de Estados Financier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stado de Resultados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1520" y="1473120"/>
            <a:ext cx="9015480" cy="4216320"/>
          </a:xfrm>
          <a:prstGeom prst="rect">
            <a:avLst/>
          </a:prstGeom>
          <a:noFill/>
          <a:ln w="5076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X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ILIAL Y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X+Y    CONSO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GRESO  POR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8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STO VTA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6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11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GEN DE VENT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7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TOS ADM Y VTA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4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OPERACIONA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.EMP.RELAC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2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ULTADO EJE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2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37.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7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7.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TRIZ : Empresa que posee más del 50% del capital de otra sociedad (Filial). Se considera la posesión directa e indire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IGANTE : Empresa que posee más del 10% y menos del 50% del capital de otra sociedad (la coligada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Ejemplo Gráfico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560" y="1835280"/>
            <a:ext cx="97776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0560" y="1758960"/>
            <a:ext cx="1054080" cy="90180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20880" y="3740040"/>
            <a:ext cx="901440" cy="82548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3056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50080" y="3664080"/>
            <a:ext cx="977760" cy="901440"/>
          </a:xfrm>
          <a:prstGeom prst="rect">
            <a:avLst/>
          </a:prstGeom>
          <a:solidFill>
            <a:srgbClr val="f57b4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22860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6668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6668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1828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0840" y="18129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4320" y="280368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2666880"/>
            <a:ext cx="1295280" cy="1447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17160" y="2651040"/>
            <a:ext cx="7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64720" y="30322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371600" y="13716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1219320"/>
            <a:ext cx="50292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12952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60360" y="1355760"/>
            <a:ext cx="973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.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2209680"/>
            <a:ext cx="1752840" cy="1447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31760" y="211788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9120" y="432756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0" y="22860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590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6200" y="1965240"/>
            <a:ext cx="1288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ir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240" y="5165640"/>
            <a:ext cx="4942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ig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5035680"/>
            <a:ext cx="5092560" cy="1663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</a:rPr>
              <a:t>Consolidación de Estados Financiero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480" y="1181160"/>
            <a:ext cx="8915400" cy="1143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Chile las empresas matrices deben consolidar sus est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nancieros con sus filiales, es decir, deben present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s estados financieros como si fuesen una sola enti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927760"/>
            <a:ext cx="838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oman las inversiones en empresas relacionadas y se descomponen en activos y pas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3359160"/>
            <a:ext cx="3340080" cy="2349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40240" y="3359160"/>
            <a:ext cx="3340080" cy="2425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4425840"/>
            <a:ext cx="1739880" cy="8254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360" y="2651040"/>
            <a:ext cx="249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Individ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49640" y="2651040"/>
            <a:ext cx="27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lance Consolid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7680" y="4419720"/>
            <a:ext cx="176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ón en 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3352680"/>
            <a:ext cx="0" cy="2362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3352680"/>
            <a:ext cx="0" cy="2438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98080" y="3489480"/>
            <a:ext cx="1210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74960" y="3489480"/>
            <a:ext cx="1117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ri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464832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Proceso de Consolidación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164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sionar cuentas de igual naturalez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iminar cuentas recipro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nocer parte del patrimonio y del resultado que pertenece a terceros (Interés minoritari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Consecuencia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 la composición de  activos y pasivos de la matri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bian los ingresos y ga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rimoni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ado de la matriz no cam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1880" y="974880"/>
            <a:ext cx="85273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 TIENEN DOS EMPRESAS, DONDE LA EMPRESA X POS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75% DE LA EMPRESA Y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9000" y="1790640"/>
            <a:ext cx="8762760" cy="502776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5120" y="1982880"/>
            <a:ext cx="8308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UENTAS POR COBRAR A 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SIV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AC. CIRCULANT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VERSION EN 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150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6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LANCE DE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S 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CIRCULANT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TAS.POR PAGAR A 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IVO FIJ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ROS PASIV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2760" y="1355760"/>
            <a:ext cx="824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RSION EN 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*0,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ivo Circulant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100*0,75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t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Activo 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2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 Pasivo Circulan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Interés Minoritari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372280"/>
            <a:ext cx="8474040" cy="82404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ITARIO : AQUELLA PARTE DE LA EMPRESA Y QUE NO PERTENECE A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b61"/>
            </a:gs>
            <a:gs pos="100000">
              <a:srgbClr val="002a2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Balance Consolidado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760" y="2171880"/>
            <a:ext cx="8686800" cy="3429000"/>
          </a:xfrm>
          <a:prstGeom prst="rect">
            <a:avLst/>
          </a:prstGeom>
          <a:noFill/>
          <a:ln w="76320">
            <a:solidFill>
              <a:srgbClr val="f57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040" y="2575080"/>
            <a:ext cx="824544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.Y 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CIRCULANTE  2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.CIRCULANTE   2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.FIJ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ES MINOR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RIMONI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4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cp:keywords/>
  <dc:language>en-US</dc:language>
  <cp:lastModifiedBy>Michel</cp:lastModifiedBy>
  <cp:lastPrinted>1999-03-18T21:03:28Z</cp:lastPrinted>
  <dcterms:modified xsi:type="dcterms:W3CDTF">2007-09-04T03:47:09Z</dcterms:modified>
  <cp:revision>11</cp:revision>
  <dc:subject/>
  <dc:title>ESTADISTICAS DE POLIMEROS</dc:title>
</cp:coreProperties>
</file>