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BD6F00-8FC9-41AE-8907-C109E1BC480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FC41-FEDD-41BB-8DFF-6F62DF73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F05-01AB-4E66-A9FE-521EA6AD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12A-9D35-41FD-B921-C85E7435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BEF-EA5C-43B3-BB5F-0A02FCBC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B28-D3CB-46E4-BBB1-B95ACEB3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63B-CAED-4895-BBC0-FE2E06DF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BE8-C186-4D9F-A29B-923D94C0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909-F36A-40FB-B32B-28B4EB22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B72-90A1-48CA-A8E4-01CE32BE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22B-50D9-4B79-B807-47EE9EE6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859-5764-4470-9DE7-74B1938B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57B-B2DE-44AB-83E3-358FEC5F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D53B9D-0286-4976-9469-3F9A112F9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Primera Parte:</a:t>
            </a:r>
            <a:br>
              <a:rPr sz="4400"/>
            </a:b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Contabilidad Financier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3640" y="2865600"/>
            <a:ext cx="7788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ítulo 7: Consolidación de Estados Financie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stado de Resultados Consolidad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1520" y="1473120"/>
            <a:ext cx="9015480" cy="4216320"/>
          </a:xfrm>
          <a:prstGeom prst="rect">
            <a:avLst/>
          </a:prstGeom>
          <a:noFill/>
          <a:ln w="5076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 X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ILIAL Y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X+Y    CONS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GRESO  POR VT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8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O VT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6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11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GEN DE VEN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7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TOS ADM Y VTA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4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.OPERACIONA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.EMP.RELAC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2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ADO EJ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3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7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7.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nsolidación de Estados Financiero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104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RIZ : Empresa que posee más del 50% del capital de otra sociedad (Filial). Se considera la posesión directa e indirec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IGANTE : Empresa que posee más del 10% y menos del 50% del capital de otra sociedad (la coligad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Ejemplo Gráfico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560" y="1835280"/>
            <a:ext cx="977760" cy="82548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30560" y="1758960"/>
            <a:ext cx="1054080" cy="90180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20880" y="3740040"/>
            <a:ext cx="901440" cy="82548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30560" y="3664080"/>
            <a:ext cx="977760" cy="9014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3664080"/>
            <a:ext cx="977760" cy="9014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22860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6668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26668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1828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40840" y="181296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20" y="280368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666880"/>
            <a:ext cx="1295280" cy="1447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17160" y="265104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64720" y="303228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71600" y="1371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219320"/>
            <a:ext cx="5029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12952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60360" y="135576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2209680"/>
            <a:ext cx="1752840" cy="14479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1760" y="211788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9120" y="432756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22860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2590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6200" y="1965240"/>
            <a:ext cx="1288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r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240" y="5165640"/>
            <a:ext cx="4942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ig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5035680"/>
            <a:ext cx="5092560" cy="1663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nsolidación de Estados Financiero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480" y="1181160"/>
            <a:ext cx="8915400" cy="114300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Chile las empresas matrices deben consolidar su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ncieros con sus filiales, es decir, deben present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s estados financieros como si fuesen una sola ent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592776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toman las inversiones en empresas relacionadas y se descomponen en activos y pas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3359160"/>
            <a:ext cx="3340080" cy="2349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40240" y="3359160"/>
            <a:ext cx="3340080" cy="2425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425840"/>
            <a:ext cx="173988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360" y="2651040"/>
            <a:ext cx="249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ance Individ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49640" y="2651040"/>
            <a:ext cx="278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ance Consoli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7680" y="4419720"/>
            <a:ext cx="176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ión en 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33526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3352680"/>
            <a:ext cx="0" cy="243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98080" y="3489480"/>
            <a:ext cx="1210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74960" y="3489480"/>
            <a:ext cx="1117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464832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o de Consolidació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164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sionar cuentas de igual naturalez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minar cuentas recipro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nocer parte del patrimonio y del resultado que pertenece a terceros (Interés minoritari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nsecuencia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bia la composición de  activos y pasivos de la matri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bian los ingresos y ga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rimonio de la matriz no cam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ado de la matriz no cam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jempl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1880" y="974880"/>
            <a:ext cx="8527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TIENEN DOS EMPRESAS, DONDE LA EMPRESA X POS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75% DE LA EMPRESA Y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9000" y="1790640"/>
            <a:ext cx="8762760" cy="502776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5120" y="1982880"/>
            <a:ext cx="8308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LANCE DE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VO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IVOS 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ENTAS POR COBRAR A 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S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ROS AC. CIRCULANT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O FIJ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ERSION EN 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150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LANCE DE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IVOS 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O CIRCULAN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TAS.POR PAGAR A 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O FIJ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ROS PASIV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jempl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355760"/>
            <a:ext cx="824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ION EN 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ctivo Circul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*0,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ctivo Fij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*0,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ivo Circulant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00*0,75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ctivo Circul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ctivo Fij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2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 Pasivo Circul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Interés Minoritari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372280"/>
            <a:ext cx="8474040" cy="82404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ITARIO : AQUELLA PARTE DE LA EMPRESA Y QUE NO PERTENECE A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Balance Consolidad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760" y="2171880"/>
            <a:ext cx="8686800" cy="342900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040" y="2575080"/>
            <a:ext cx="82454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.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.CIRCULANTE  2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.CIRCULANTE   2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.FIJ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4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cp:keywords/>
  <dc:language>en-US</dc:language>
  <cp:lastModifiedBy>Michel</cp:lastModifiedBy>
  <cp:lastPrinted>1999-03-18T21:03:28Z</cp:lastPrinted>
  <dcterms:modified xsi:type="dcterms:W3CDTF">2007-09-04T03:47:09Z</dcterms:modified>
  <cp:revision>11</cp:revision>
  <dc:subject/>
  <dc:title>ESTADISTICAS DE POLIMEROS</dc:title>
</cp:coreProperties>
</file>