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FE25-60FC-4E17-9B1F-338639215325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E8EB-10C4-417E-B761-0844BE877EB3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82E8-2F23-41E2-B642-F2710EC3BA2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241F-6AAE-4E83-A75E-C021BF37768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FF81-321A-4A0D-83A3-E6EC495C62CB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374A-DEC5-4BB1-B9ED-5F99E2E3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01B-26E0-4E64-84CF-659A62BD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9B28-A473-4515-9A99-87171986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940-8CC2-410F-9C1C-157B16F5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C22-3268-442D-A4A3-F6DD2F51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1F6-4A9B-42EE-9EA7-91A35F44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A4D6-3889-4B4D-B5E5-3D71D970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46CA-7D49-4135-AA50-65EBAFA0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DD98-2507-4B9D-B1FC-92DB3972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F8E-C118-4EE5-BABB-D7F011E6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DB84-7E63-4DC8-9FE8-118EB9E6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EA41-1AB0-43E3-872A-07114104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A0AE-DBEF-4190-A72E-9FBECFEE7C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apítulo 10: Análisis Financi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rmalmente se consideran las siguientes familias de rat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quidez: Ayudan a evaluar la capacidad de la empresa para pagar oportunamente sus obligaciones de cort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deudamiento: Ayudan a evaluar la importancia de la deuda y su estructura como proporción de los recursos totales empleados por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: Ayudan a evaluar el uso de los activos y las políticas de pago y cob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ntabilidad: Miden la ganancia en relación a la inver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enzaremos viendo los tres primeros grup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534960" y="189000"/>
            <a:ext cx="813600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 Análisis a través de Rat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os de Liquid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55640" y="1484280"/>
                <a:ext cx="57610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lación de Liquide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 Circulant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sivo Circulant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55640" y="3068640"/>
                <a:ext cx="6624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ueba ácid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 Circulante - Existencia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sivo Circulant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84360" y="4508640"/>
                <a:ext cx="830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bertura de Gast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ía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 Circulante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o de explo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 Ad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y 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os de Endeudamiento o solv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900000" y="1557360"/>
                <a:ext cx="4969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de endeudamient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sivo Tot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900000" y="2997360"/>
                <a:ext cx="4969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Deuda/Patrimon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sivo Tot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trimoni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900000" y="4365720"/>
                <a:ext cx="583272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Estructura Deud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sivo Largo Plaz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sivo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71640" y="5589720"/>
                <a:ext cx="7777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Cobertura de Interese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sultado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Gastos Financier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astos Financiero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47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os de Activ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755640" y="1341360"/>
                <a:ext cx="61927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ación de existencia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to de Explotació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istencia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55640" y="2349360"/>
                <a:ext cx="56894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ías de Existencia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istencias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o de Explotació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4360" y="3429000"/>
                <a:ext cx="66243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íodo medio de cobr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uentas por cobrar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greso de la explotació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84360" y="5516640"/>
                <a:ext cx="64087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ación de activo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gresos de la explotació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4360" y="4437000"/>
                <a:ext cx="75546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íodo medio de pag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uentas por pagar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o explotación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d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y 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1628640"/>
            <a:ext cx="828648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ntiende por rentabilidad la ganancias que produce un activo en relación al monto invert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rentabilidad sobre el patrimonio mide las ganancias que reciben los dueños del patrimonio de la empresa en relación a su propia inversión, es dec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ado del Ejerc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476280"/>
            <a:ext cx="8351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ción y Análisis de la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822780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rentabilidad sobre activos, en cambio, mide las ganancias que reciben todos los que tienen intereses en la empresa (pasivo y patrimonio) en relación a los montos invertidos, es dec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ado del Ejercicio + Gast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s To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414360"/>
            <a:ext cx="8351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ción y Análisis de la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805520" cy="60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Riesgo y Rentabi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320" y="1557000"/>
            <a:ext cx="9066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hay dos empresas con igual rentabilidad esperada, pero una es más riesgosa que la otra, entonces un inversionista averso al riesgo preferiría la menos riesg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enar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presa A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presa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nt.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bb.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nt.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b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5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5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15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(R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v. Estánd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.53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4.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riesgo de un activo se mide por la desviación estándar de los retornos que gen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supuesto básico de las finanzas es que los inversionistas tienen aversión al riesgo. Es decir, si tuvieran que elegir entre las empresas A y B elegirían la A, pues para una misma rentabilidad esperada tiene menos ries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ello es que los activos más riesgosos tiene mayores rentabilidades esperadas (por ejemplo, acciones versus pagarés del Banco Centr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7805520" cy="60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Riesgo y Rentabi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64680" y="1701720"/>
            <a:ext cx="852804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entras mayor es el endeudamiento de una empresa, mayor es la rentabilidad del patrimonio y mayor es el riesgo que asumen los accionistas. Esto es lo que se conoce como “Apalancamiento Financier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ongamos que una empresa tiene activos por 10.000 y su resultado operacional puede ser -1.000, +1.000 o +3.000 con iguales probabilidades. Veamos cómo cambia la rentabilidad del patrimonio y su desviación estándar en función del nivel de endeudamiento. Supondremos que la empresa se endeuda al 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440" y="2060640"/>
            <a:ext cx="81342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1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8000" y="3314880"/>
            <a:ext cx="8893080" cy="2346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8046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analizar los estados financieros de una empresa se busca evaluar tanto el desempeño económica como el desempeño financi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análisis de los estados financieros es de interés tanto para la administración de una empresa como para agentes externos a el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ción: En qué medida se están cumpliendo los objetivos tra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gentes Externos: Bancos y acreedores (evaluar la capacidad de pago); y accionistas (rentabilidad versus riesg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784692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8000" y="3141720"/>
            <a:ext cx="9036000" cy="2382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125440"/>
            <a:ext cx="8207280" cy="94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280" y="3500280"/>
            <a:ext cx="8893440" cy="2345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207280" cy="9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3549600"/>
            <a:ext cx="8821800" cy="2327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64680" y="1773000"/>
            <a:ext cx="8528040" cy="44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 = Patrimonio; D = Deuda; U = Utilidad del ejercicio; Rd = tasa de interés de la de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(Utilidad + Intereses)/(Activ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(Rp*P + Rd*D)/(D+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Rp*P/(D+P) + Rd*D/(P+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p = Ra + (Ra -Rd)*D/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cir, a mayor deuda mayor rentabilidad del patrimonio, siempre que Ra &gt; 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1841040"/>
            <a:ext cx="8353440" cy="468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s de Renta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24000" y="1268280"/>
                <a:ext cx="73436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Activ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I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 Total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95280" y="3419640"/>
                <a:ext cx="77756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Activ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I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 Total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374760" y="2540160"/>
            <a:ext cx="76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RAII: Resultado antes de impuestos e inter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8360" y="4992840"/>
                <a:ext cx="81360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Activ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rgen Explotación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Rotación Activ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 flipH="1">
            <a:off x="4858920" y="4292640"/>
            <a:ext cx="2890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93080" y="4365720"/>
            <a:ext cx="3585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s de Renta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9640" y="1484280"/>
                <a:ext cx="71280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Patrimonio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sultado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trimoni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187280" y="2852640"/>
                <a:ext cx="64468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sultado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trimoni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9640" y="4734000"/>
                <a:ext cx="799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rgen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Rotación Activos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Apalancamien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 flipH="1">
            <a:off x="2339640" y="3933720"/>
            <a:ext cx="8636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643280" y="3860640"/>
            <a:ext cx="144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32720" y="386064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BIT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3416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BITDA (Earnings Before Interest, taxes, depreciation and amortization) =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sultado Operacional + Depreciación del Ejerc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una estimación de la caja generada por las actividades operacionales (del gir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suele construir razones usando el EBIT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BITDA / 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BITDA /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BITDA / Gast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7630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aciones del uso de razones financier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212256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ólo usa información co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iempre los valores contables reflejan valores de mercado. Es bueno complementar el análisis con información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282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de cuentas por cobrar que es recupe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282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ál es el estado de las ex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282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ál es el valor de mercado de los activos fi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a datos históricos. Es bueno complementarlo con información que permita proyec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álisis Patrimon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43912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e al análisis de los valores que muestra el Balance Gene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busca evaluar aspectos tales co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ción de liquidez o capacidad de p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dad y cantidad del endeud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ión de los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técnicas de análisis más comunes son el análisis estático, el análisis dinámico y el análisis de rat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 Análisis Patrimonial Está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1444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un año determinado, se calcula qué porcentaje representa cada grupo patrimonial del total del a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nalizan sólo las grandes agrupaciones de los activos y pas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e una visión general de la composición de activos y la estructura de financia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maño del activo circulante en relación al pasivo circul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ón entre capital propio y de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ón entre activos fijos y financiamiento de larg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640720" cy="2503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 Análisis Patrimonial Est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3963960"/>
            <a:ext cx="86407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Análisis Patrimonial Diná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84836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naliza la evolución de los principales grupos patrimoniales a través de los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e una visión general los cambios de tendencias en cuanto a la composición de activos y la estructura de financi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mente se analiza la evolución en unidades monetarias, en porcentaje respecto al total de activos y en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260280"/>
            <a:ext cx="82296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Análisis Patrimonial 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97708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260280"/>
            <a:ext cx="82296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Análisis Patrimonial 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1395360"/>
            <a:ext cx="604836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 Análisis a través de Rat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9476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siste en la comparación de ratios o razones calculadas a partir de los valores de los estados financi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ongamos que una empresa tiene una rentabilidad de 10%. ¿Es esto bueno o ma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a poder responder esa pregunta se debe usar Patrones de Compar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o estándare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volución histó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medios secto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atios de los competidore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Michel</cp:lastModifiedBy>
  <cp:lastPrinted>1999-03-18T21:04:13Z</cp:lastPrinted>
  <dcterms:modified xsi:type="dcterms:W3CDTF">2007-09-10T23:46:59Z</dcterms:modified>
  <cp:revision>14</cp:revision>
  <dc:subject/>
  <dc:title>Análisis Financiero</dc:title>
</cp:coreProperties>
</file>