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8E0D-717C-4CCA-AEA3-CAA99431B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C410-6020-468C-B80D-00D4D31C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5863-E0BA-4413-8D1A-80C06AE3C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244E-BBFE-4630-B9A0-962E032FD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413D-F284-40E1-BCA3-FDC52B9D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AB21-64D9-4924-8311-540B6528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1706-0686-4DA7-8742-55FB8352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E247-6550-41E6-ABE4-B985C45F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9478-26B7-48C6-97F7-184B48EC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761C-79DC-4850-A354-D1759A09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8F41-14C0-4E89-AD5E-52C80303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B1A5-B512-42AC-A2B4-CE9326CE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DAEF-7D35-49D1-BBA5-62ED15F2E8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Arial"/>
              </a:rPr>
              <a:t>Sistemas de Costeo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Un sistema de costeo intenta responder a preguntas tales com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Cuánto le cuesta a una fábrica de pintura producir una lata de pintur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Cuanto le cuesta a una empresa auditora auditar a un client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Cuánto le cuesta a un supermercado vender un pack de seis bebida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tas preguntas se formulan con múltiples propósitos, diseñar estrategias, tomar decisiones de fijación de precios y administración de costos, y cumplir con los requisitos de presentación de informes extern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457200"/>
            <a:ext cx="85341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sumen de costos del producto 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PD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0*300 + 10*1.00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2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OD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00*200 + 100*40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8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7.143 + 166.667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223.81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328.8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sto Unitari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5,76 $/un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457200"/>
            <a:ext cx="85341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sumen de costos del producto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PD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00*300 + 5*1.00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6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OD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00*200 + 50*40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2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42.857 + 83.333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26.19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411.19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sto Unitari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411,19 $/un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a empresa se dedica a la fabricación de pernos, a través de dos proces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 el primer departamento se fabrica la cabeza del perno, a partir de un cilindro metálico que es la materia prim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 el segundo proceso o departamento, se toman las unidades provenientes del proceso anterior y se les fabrica el “hilo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sabe que los costos de conversión del primer departamento son de $600.000 por concepto de mano de obra directa y $300.000 por concepto de costos indirect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costo de la materia prima es de $40 la unidad y durante el período se procesaron y terminaron 30.000 unidad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oniendo que no hay inventarios de productos en proceso, determine el valor del producto a la salida del primer proces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26028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ffff"/>
                </a:solidFill>
                <a:latin typeface="Arial"/>
              </a:rPr>
              <a:t>Ejemplo de Costeo por Proces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609480"/>
            <a:ext cx="8458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Solució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sto de Conversió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00.000 + 300.00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90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sto de Conversión Unitari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900.000 / 3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30 $/un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Valor del Producto al salir del primer proces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$40 + $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70 $/un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Asignación de Costos Indirectos: Método Convenciona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Objetivo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Asignar todos los costos indirectos incurridos en el período a los productos fabricados. Para ello se debe seleccionar una 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Base de Asignación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Base de Asignación: es un método sistemático de relacionar un determinado costo o grupo de costos con un objetivo de costos. La selección de la base de asignación debe ser guiada po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propósito persegui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costo o esfuerzo necesario para la asign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s bases de asignación más utilizadas s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Horas de mano de obra direc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de la  mano de obra direc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Horas máqu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de la materia prima o costo pri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uperficie o espacio utiliz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n una fábrica exist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partamentos Produc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partamentos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demás se tien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I de Plan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I de Departamentos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I de Departamentos de Produ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 conveniente departamentalizar los CI, puesto que un determinad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ducto no necesariamente requiere de la participación de todos l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partamen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33520" y="1413000"/>
            <a:ext cx="8153280" cy="51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Unidad que realiza una función específica, que es responsable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terminados costos y que ocupa un espacio físico determin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rocedimient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signar CI a Departamentos de Produ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292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tribución Prim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292480" indent="-5652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tribución Secund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292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signar CI de los Departamentos de Producción a los produc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Centro de Cost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404640"/>
            <a:ext cx="87631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763120" cy="2590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" y="3284640"/>
            <a:ext cx="78487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Arial"/>
              </a:rPr>
              <a:t>Sistema de Costeo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 un conjunto de registros, procedimientos y equipos utilizados para recopilar, en forma rutinaria, la información de los costos de un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sistemas de costeo acumulan costos para facilitar decisiones. Nos centraremos en particular en las decisiones relacionadas con el costeo de produc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teresa medir los costos por objeto de costos (no en un saco). Típicamente, departamentos o produc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333360"/>
            <a:ext cx="8534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" y="333360"/>
            <a:ext cx="86104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4920" y="1413000"/>
            <a:ext cx="85341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907920"/>
            <a:ext cx="861048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8600" y="765000"/>
            <a:ext cx="853452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765000"/>
            <a:ext cx="86108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8600" y="692280"/>
            <a:ext cx="876312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Arial"/>
              </a:rPr>
              <a:t>Sistemas de costeo básicos</a:t>
            </a:r>
            <a:r>
              <a:rPr b="0" lang="es-ES_tradnl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xisten dos sistemas de costeo básico para asignar los costos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ductos o servici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eo por Órdenes de Traba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eo por Proce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Arial"/>
              </a:rPr>
              <a:t>Costeo por Ordenes de Trabajo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Objeto del Costo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es una unidad individual, un lote o un servicio individual denominado trabajo. Orden de Trabaj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usa en empresas que producen a pedido o cuando hay centros de producción que fabrican muchos productos (ej: imprentas, constructoras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hoja de costos acompaña al lote de producción, y en ella se registran los costos incurridos en cada departamento (MPD, MOD, C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sto Unitario Lote i: MPDi + MODi + CIi / Tamaño Lote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Arial"/>
              </a:rPr>
              <a:t>Costeo por Proceso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Objeto del Costo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el proceso, que fabrican un sólo producto en grandes canti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usa en empresas con producción en grandes cantidades y en forma continua   (Ej.: Productos químicos, textiles, acero, minería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n cada proceso se miden los costos de MPD, MOD, CI incurridos en un perío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uego se determina el costo promedio de pasar una unidad de producto a través del proce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Unitario Proceso i: MPD + MOD + CI / Nº de unidades procesa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5280" y="260280"/>
            <a:ext cx="778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ffff"/>
                </a:solidFill>
                <a:latin typeface="Arial"/>
              </a:rPr>
              <a:t>Ejemplo de Costeo por Órdenes de Trabaj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41300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a fábrica recibe durante un determinado período dos órdenes de trabajo, para fabricar 5.000 unidades del producto X y 1.000 unidades del producto Y, respectivament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 hojas de costos muestran la siguiente informació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Orden de Fabricación Producto 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pto. A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teria Prima Direct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50 kg de PVC (300$/k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no de Obra Direct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00 hrs (200$/hr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pto. B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teria Prima Direct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10 kg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átex (1.000$/k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no de Obra Direct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00 hrs (400$/hr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Orden de Fabricación Producto 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pto. 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teria Prima Direct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00 kg de PVC (300$/k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no de Obra Direct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00 hrs (200$/hr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pto. B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teria Prima Direct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5 kg de látex (1.000$/k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no de Obra Direct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0 hrs (400$/hr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emás, los costos indirectos de los departamentos A y B son de $200 mil y $250 mil, respectivam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 pide determinar el costo unitario de los productos X e 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457200"/>
            <a:ext cx="85341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Solució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 distribuir los costos indirectos usaremos como base de asignación las horas de mano de ob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 los Costos Indirectos del Depto. 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Horas de MOD utilizad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7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ota de Costos Indirectos 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I / Base   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00.000 / 700 =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85,71 $/h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I asignados a X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85,71*20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57.1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I asignados a Y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85,71*50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42.85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457200"/>
            <a:ext cx="85341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 los Costos Indirectos del Depto. B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Horas de MOD utilizad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ota de Costos Indirectos 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I / Base  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50.000 / 150 = 1.666,7 $/h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I asignados a X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.666,7*10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66.66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I asignados a Y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.666,7*5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83.3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23:42:58Z</dcterms:created>
  <dc:creator>ivan.alvarez</dc:creator>
  <dc:description/>
  <dc:language>en-US</dc:language>
  <cp:lastModifiedBy>Ivan Alvarez</cp:lastModifiedBy>
  <dcterms:modified xsi:type="dcterms:W3CDTF">2007-05-03T01:35:14Z</dcterms:modified>
  <cp:revision>20</cp:revision>
  <dc:subject/>
  <dc:title>Diapositiva 1</dc:title>
</cp:coreProperties>
</file>