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6E9-57E1-40BB-8215-8AD67792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42E-AE4B-4FC2-B2ED-8A57498B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0FF-1CD1-4F39-B510-66BEDD62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4BF-E533-432A-8A34-F537F6A2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83AD-422A-4F7E-B829-2E411B2A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A976-0848-453F-B77D-713999F0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4949-C907-43C2-B7A3-FC98FA63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B13E-01DC-41FE-88F4-AB50865C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5503-3B1B-4A3F-885D-60EDB3BC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421C-EBC0-4201-A5B6-FF510EAD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031E-5FCA-4D15-87C6-042D7079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6DB-E599-40EB-B729-73D70138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32AE-D31C-4032-B68E-98B663FB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012D-9BA3-40AF-AA66-1F73EEAD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04AE-320B-4164-A987-F995AE10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EC5B-2785-4338-A9D3-75515849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7290-8451-43AB-9348-9BB4BC3A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921-E087-4D9A-9643-5023BEA6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476-EF1E-4525-85F4-51CDBDC7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BDC-11F7-4D05-A0EC-D98A2929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8D3-1427-4656-8215-6A7F7A58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2C4-1A14-45B0-ADBD-4D3A0BED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DD8-EE98-4300-860D-E118CBE7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70F-4032-4956-840F-AD25AB13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DA1E-F4D8-4448-901B-A3B084F908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7B3B-C5B8-40A1-AB7E-4736158B9C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Calculo de Cost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tiene la siguiente información de costos de una empres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7993080" cy="1297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373680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371628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calcul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Costos unitarios y Estad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Costo total usando método conve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Costo total usando método A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) Costos unitarios y 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) Costo total usando método convencional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abricación: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ministración: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primarios asignables a la primera sección de fabricación son de $ 3.000 y a la segunda de $1.5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de la sección de administración son de $1.350. Se asignan a las secciones de fabricación en la misma proporción de los costos prim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unidad de obra de las secciones de fabricación es la mano de obra. La primera sección consume 300 hrs. y la segunda100 h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5761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6769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) Costo total usando el método A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842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lección de induc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maquinad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las horas de funcionamiento de las máqui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los pedi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el número de pedidos gestio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gestión de client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el número de clientes que gestion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1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0:37:20Z</dcterms:created>
  <dc:creator>Ivan Alvarez</dc:creator>
  <dc:description/>
  <dc:language>en-US</dc:language>
  <cp:lastModifiedBy>Ivan Alvarez</cp:lastModifiedBy>
  <dcterms:modified xsi:type="dcterms:W3CDTF">2007-10-17T01:06:57Z</dcterms:modified>
  <cp:revision>10</cp:revision>
  <dc:subject/>
  <dc:title>Diapositiva 1</dc:title>
</cp:coreProperties>
</file>