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AFC-C351-42CF-AA51-C5A5B5BB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E53-89AD-4362-9AD1-3E697C53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CB2-B94E-4252-854D-F9E96CAF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AD5-FDE6-495C-9D55-8C53B46B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4E51-1EAC-44B7-B74E-CD47BFB9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2BCA-CFF6-49F4-942B-42DECDF2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11DE-C72B-4539-ADE7-9C69BE49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E6C2-F9A8-4557-B832-A19D1B25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C5E1-20DD-4125-9270-E4A879CD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D2FF-2EE4-4A69-B513-27338507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9F5C-190F-4C5C-8398-F71C897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20C-340B-449B-9695-A1B922AD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A0ED-E0CB-496B-B04F-2D197C4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B617-646C-4671-BE5A-C0342D6B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1A48-3FA0-4F23-9718-72725B12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8C07-341F-429B-94ED-27BA31DF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C108-D698-49D2-AD20-0AFEE31D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9C9-E7B6-453E-B2D1-A5D48F98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260-C2D6-414B-8F4E-F3A4A97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4C3-4AD3-4353-9D73-0EF7E093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3FF-14A0-4EE3-9A54-F49CAAF4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3C4-0F77-4B91-8754-650E8E4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8FB-0CFE-4472-9FB4-DB8024E0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6DA-8D5A-40AB-866E-F23EA406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999B-CEAB-40C6-AEA6-B3B0DF5943C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9E55-18DC-49A6-8739-32B5EB604AE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ntrol Presupuestario y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8880" indent="-758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58880" indent="-758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nálisis de Desvi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58880" indent="-758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Entonces habrán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Anfersa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Anfersa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Anfersa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nfersa 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Anfersa SA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Plan Estratégico: define la dirección de un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de la 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Industri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estancado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progresivo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único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revisado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flexible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1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upuesto y Ciclo Presupues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presupuesto es la expresión en términos monetarios de los pla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acción que una empresa tiene previsto llevar a cabo a lo largo de un período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s el proceso por el cual una empresa elab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resupuesto para un determinado período. En él se definen tres concep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lanes de acción y sus respectivos progr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ultados previstos de los planes de a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495680"/>
            <a:ext cx="7199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s Financier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228600"/>
            <a:ext cx="72388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1337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026800"/>
            <a:ext cx="15238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lan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3720" y="1432440"/>
            <a:ext cx="19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Nivel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026800"/>
            <a:ext cx="13716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941200"/>
            <a:ext cx="14749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286488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M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627000"/>
            <a:ext cx="1474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M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46508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GF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31640" y="143244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Nivel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3702960"/>
            <a:ext cx="14954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E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yec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2484000"/>
            <a:ext cx="158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de Caja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484596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yec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20440" y="1356120"/>
            <a:ext cx="233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Resultado Cont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</a:t>
            </a: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Proyect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286000"/>
            <a:ext cx="3049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666880"/>
            <a:ext cx="0" cy="30492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3200400"/>
            <a:ext cx="38124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3200400"/>
            <a:ext cx="0" cy="15238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3962520"/>
            <a:ext cx="380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4724280"/>
            <a:ext cx="380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362320"/>
            <a:ext cx="4680" cy="27954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362320"/>
            <a:ext cx="20574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5181480"/>
            <a:ext cx="4572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3200400"/>
            <a:ext cx="15264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4800600"/>
            <a:ext cx="15264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0" y="2708280"/>
            <a:ext cx="36036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3962520"/>
            <a:ext cx="5335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1676520"/>
            <a:ext cx="60948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1676520"/>
            <a:ext cx="60984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4480" y="26028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3573360"/>
            <a:ext cx="0" cy="3603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3933720"/>
            <a:ext cx="720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novación A.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mento capa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lance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ado de Resul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ujo de Ca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5-28T00:29:07Z</dcterms:modified>
  <cp:revision>38</cp:revision>
  <dc:subject/>
  <dc:title>Sin título de diapositiva</dc:title>
</cp:coreProperties>
</file>