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E64-5D44-4C42-B786-A7552EE9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CEB-C62A-46D8-BF68-CE8E5E96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F02-06CA-4BDC-8D5B-789C3728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B95-D2DB-4957-B135-6BA6CEFA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2ABF-1E65-4DBB-9194-26026B84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2C58-03B7-419D-A660-A85FCF6F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ABAA-4FBD-456B-9BEC-396B2295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C178-B206-483E-98C8-B6DD512B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650E-1649-4F2E-9982-E62392FB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3BA8-9F5B-47CD-BFEA-D29FBFC6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B627-6185-466C-B495-79FFFE52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E9B-9E03-4287-805D-CF07A8C4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BE47-5049-4045-86A7-C2B5A2F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03CD-9F4C-46CB-8B76-DEEFB448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CDCE-7A17-47DA-9A46-65241583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3372-F315-498C-A783-7A7AC11B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9E43-22EE-4D26-81C8-84009B30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21E-AF99-4ACE-9BBC-EA599870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2D7-3779-423B-9FCD-AD44D217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AF5-56DE-442D-B5A6-F0587662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739-07BD-4F87-8239-FB468D2B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F36-301B-45D8-B2F2-66FAA182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7D9-7291-40D4-9E91-A22D0050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6EC-391A-4388-A032-95CCEF9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4FDD-7F39-44B1-ACA7-61539C34D04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66A8-26C2-41FA-B1B2-F2601A089CF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trol Presupuestario y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8880" indent="-758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58880" indent="-758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58880" indent="-758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Anfersa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Anfersa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Anfersa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nfersa 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Anfersa SA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 Estratégico: define la dirección de un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la 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Industri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estancado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progresivo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único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revisado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flexible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1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upuesto y Ciclo Presupues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presupuesto es la expresión en términos monetarios de los pla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acción que una empresa tiene previsto llevar a cabo a lo largo de un período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 el proceso por el cual una empresa elab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resupuesto para un determinado período. En él se definen tres concep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anes de acción y sus respectivos progr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ultados previstos de los planes de a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495680"/>
            <a:ext cx="7199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s Financier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228600"/>
            <a:ext cx="72388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1337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026800"/>
            <a:ext cx="15238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lan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720" y="1432440"/>
            <a:ext cx="19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Nivel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026800"/>
            <a:ext cx="13716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941200"/>
            <a:ext cx="14749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286488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M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627000"/>
            <a:ext cx="1474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M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46508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GF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31640" y="143244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Nivel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3702960"/>
            <a:ext cx="14954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E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yec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2484000"/>
            <a:ext cx="158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de Caja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484596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yec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20440" y="1356120"/>
            <a:ext cx="233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Resultado Cont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</a:t>
            </a: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Proyect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286000"/>
            <a:ext cx="3049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666880"/>
            <a:ext cx="0" cy="3049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3200400"/>
            <a:ext cx="38124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3200400"/>
            <a:ext cx="0" cy="15238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3962520"/>
            <a:ext cx="380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4724280"/>
            <a:ext cx="380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362320"/>
            <a:ext cx="4680" cy="27954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362320"/>
            <a:ext cx="20574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5181480"/>
            <a:ext cx="4572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3200400"/>
            <a:ext cx="15264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4800600"/>
            <a:ext cx="15264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0" y="2708280"/>
            <a:ext cx="36036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3962520"/>
            <a:ext cx="5335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1676520"/>
            <a:ext cx="6094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1676520"/>
            <a:ext cx="60984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4480" y="26028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3573360"/>
            <a:ext cx="0" cy="3603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3933720"/>
            <a:ext cx="720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novación A.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mento capa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lance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ado de Resul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ujo de C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5-28T00:29:07Z</dcterms:modified>
  <cp:revision>38</cp:revision>
  <dc:subject/>
  <dc:title>Sin título de diapositiva</dc:title>
</cp:coreProperties>
</file>