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FB4-DD7F-47B7-8A36-572DC9CA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10B-4487-46A1-A691-7ABC289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BF0-2FFB-4289-A809-9C57CF69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63A-457C-48F3-8965-E6902835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4C0-DEC8-4D4B-A606-4308BE1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60B7-C4EF-46B2-BA7E-14E11BD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BB8C-9F3F-48F6-8694-BFBBD056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3795-C1C6-4DDD-A9C1-8C2FEC06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CE8-FC7E-488F-811D-CB3B8160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5A80-31AE-4BF4-8B12-98004B6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2C6-F2BF-4241-A4E0-3004AD5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E72-DD36-43C7-A99B-9BFA6EC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00E-52B7-4F1D-B2B2-2351AE3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9BA-C455-442D-828D-F64C3B7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45E0-0266-4728-995D-6A083DF4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9D23-F99E-49E6-974E-02086862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763D-5FD9-4460-B78C-EA44BAF3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271-77AC-475A-BAF9-94253FB6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9B9-F396-4C61-86A5-212A7045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A7E-BFBB-47FC-82B4-CAE17E59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FE1-90AD-434E-A00F-6B67A10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5EA-5B77-482D-A5BB-42391E1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05B-B0F1-496E-8BF6-F14191B6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794-2200-48AD-A7A4-E822867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D57-D9C7-4E29-9C97-3978A6CA1F9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F8E-B514-4BE8-9D92-2B83AED7609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7:03Z</dcterms:modified>
  <cp:revision>38</cp:revision>
  <dc:subject/>
  <dc:title>Sin título de diapositiva</dc:title>
</cp:coreProperties>
</file>