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2B8B-EDE4-4E97-B60C-2F7D2A49E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18BA-8F21-4199-9B2E-65A2699A8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B4BE-104F-4A9B-9D4F-92D459976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8864-EF95-492E-A468-2159B63D1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B213C-C555-4B08-AC4F-D1A300334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5DD38-E325-48C5-A266-9E23CB65C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C460D-0B19-462A-B4DA-A5790463D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E4E04-D69C-4C63-B042-B5AF74E1B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5838F-7893-4F5E-A428-EA1442EF4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991EE-67FA-47A7-B90F-85D79E479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A7EFA-9680-4EAC-8E37-04C5D5DD4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2F83-D476-4AE8-AF66-59F4E669F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87ABE-FFAE-48E2-B4EC-D3E892FE6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E447A-678E-459C-B858-198AE2CB4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B5CD8-B969-4AEE-8356-F88F5884D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8F735-3EF6-4AC4-A6A0-947221758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844F3-2D89-4731-93AC-3283B0901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D9C1-559B-4149-9D2C-2381A1EED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715A-AD47-468E-9635-B04FA03D3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1CE2-2365-46BD-B5AF-1F0825BCD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64BE-86FD-4598-AB46-379FFD3B9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7140-627A-4214-BF2A-9601FC709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B994-D2CE-447E-965E-E9E46B6AC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7890-DC1B-4EE8-8595-06B8E23D7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D55F4-FBAE-46D6-931D-E595933E6B8C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9C66B-5CB5-4638-ABC8-731728D490E7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jemplo: Elaboración de Presupues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1048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Una empresa comercial se encuentra en el proceso de elaboración 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esupuesto Maestro para los primeros cuatro meses de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2006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, para l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ual dispone de la siguiente informació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88400" indent="-78840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romanUcPeriod"/>
              <a:tabLst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Opera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88400" indent="-788400">
              <a:lnSpc>
                <a:spcPct val="9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ronóstico de venta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proyecta vender las siguien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ntidades de mercaderí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28600" y="3933720"/>
            <a:ext cx="8915400" cy="8924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324000" y="4842000"/>
            <a:ext cx="8515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s ventas en diciembre pasado alcanzaron a las 4.000 unidade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l precio de venta es de $10 por unidad y se espera que no cambie en el futuro. Las ventas se efectúan 60% al contado y el resto pagadero al mes siguien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5905440" cy="47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28600" y="404640"/>
            <a:ext cx="873612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osto de ventas y niveles de existenc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 empresa vende con un Margen de Explotación del 30%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desea mantener existencias de $20.000 como base más un 80% del costo de venta del mes siguien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s mercaderías se compran pagando un 50% al contado y el resto al mes siguien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95280" y="549360"/>
            <a:ext cx="8424720" cy="43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Gastos de Administración y Vent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Remuneracion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 pagan cada 15 días, en el período sigui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l que son ganadas, ascendiendo a $2.500 por m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omisiones sobre venta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scienden al 15% de las ventas y 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agan de la misma forma que las remuneraciones fij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tros gastos variables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lcanzan al 5% de las ventas y se pagan 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ntad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Otros gastos de administración y ventas fijo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ebe pagar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$2.000 al mes por concepto de arriendo, se consumen seguros por $200 y la depreciación se calcula en $400 al m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380520" y="457200"/>
            <a:ext cx="8458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Invers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proyecta realizar una inversión de $3.000, al contado, durante el primer mes, en un vehículo que se destinará al transporte de mercadería. Este se deprecia en 30 me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aja y 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desea mantener, por motivos de seguridad, un saldo de caja mínimo de $10.000 a fines de cada m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 casos de déficit de caja, la empresa dispone de una línea de crédito, cuya tasa de interés es del 2% mensual. Las amortizaciones y el pago de intereses pueden efectuarse cuando la empresa lo dese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24000" y="533520"/>
            <a:ext cx="8362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IV.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Balance general al 31 de diciembre de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2005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88124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8893080" cy="50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891540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6598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52280" y="139680"/>
            <a:ext cx="8686800" cy="64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10T16:31:30Z</dcterms:created>
  <dc:creator>mmv</dc:creator>
  <dc:description/>
  <cp:keywords/>
  <dc:language>en-US</dc:language>
  <cp:lastModifiedBy>Ivan Alvarez</cp:lastModifiedBy>
  <cp:lastPrinted>1999-04-29T23:00:42Z</cp:lastPrinted>
  <dcterms:modified xsi:type="dcterms:W3CDTF">2007-05-28T00:27:03Z</dcterms:modified>
  <cp:revision>38</cp:revision>
  <dc:subject/>
  <dc:title>Sin título de diapositiva</dc:title>
</cp:coreProperties>
</file>