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785-E85B-4FB0-BF08-C62DB0C8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333-1D19-47CC-82D3-F556F7E1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566-5613-4FCB-8C51-B4602DB1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A59-CF38-48EF-9F7F-917883F9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2A9C-3215-44AE-B9CF-FC158628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BBEB-F4F9-4DE6-9F85-AF3107A2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AE4B-E792-4871-A01F-5A96A285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C749-DC46-41C1-8DC5-9B022A07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B757-76CA-489F-B5BC-CC715F0B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0786-609D-47FA-B7EE-0C716F5D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77F1-B5DF-4080-8B3C-AF63896C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4A9-893F-464E-BB23-182F526B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84A0-6766-4663-81F8-D31CF6BF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1266-4258-48B9-898B-2B535AA7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F049-56E3-45CB-A6F1-28C344ED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D141-DF1E-4327-A66C-B049FA41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2BD8-36E8-49E5-BE9A-A6528788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12A-2CC3-4911-8704-C6FF4C94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0D9-C15C-4FF6-A617-68A15C6F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FE0-B8C3-43D7-832E-FBC6F592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C6C-BAB8-4D7F-86DC-7167ED8F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AC5-5609-4075-A58B-41AF6E35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3F7-89CE-4982-8BA5-2C3358ED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EC0-308A-468D-A1B1-6062FEDC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0751-6B3B-44C8-BCD4-1E6EB4EECB1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4F46-7B8F-4A56-9380-7FC093BB591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ntrol Presupuestario y </a:t>
            </a:r>
            <a:br>
              <a:rPr sz="3600"/>
            </a:b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nálisis de Desviac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Costos Estánd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n costos preestablecidos, se calculan antes de comenzar las op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7989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500x800 – 550x800) x 6 = -2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 Presupuestario y Análisis de Desvi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trol Presupues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sviació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5 x 800 x 40 – 26,25 x 800 x 45 = 800.000 – 945.000 = -14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25x800 – 26,25x800) x 40 = -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40 - 45) x 26,25 x 800 = - 10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tro 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er archivo Excel: “Presupuesto Flexible” adju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26000" y="121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sumen del Análisis de Variaciones </a:t>
            </a:r>
            <a:br>
              <a:rPr sz="28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Ver archivo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“Presupuesto Flexible”)</a:t>
            </a: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95280" y="1706400"/>
            <a:ext cx="8365320" cy="3958560"/>
            <a:chOff x="395280" y="1706400"/>
            <a:chExt cx="8365320" cy="3958560"/>
          </a:xfrm>
        </p:grpSpPr>
        <p:cxnSp>
          <p:nvCxnSpPr>
            <p:cNvPr id="195" name="_s68616"/>
            <p:cNvCxnSpPr>
              <a:stCxn id="196" idx="0"/>
              <a:endCxn id="197" idx="2"/>
            </p:cNvCxnSpPr>
            <p:nvPr/>
          </p:nvCxnSpPr>
          <p:spPr>
            <a:xfrm flipV="1" rot="16200000">
              <a:off x="4238640" y="3462840"/>
              <a:ext cx="222840" cy="1678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68617"/>
            <p:cNvCxnSpPr>
              <a:stCxn id="199" idx="0"/>
              <a:endCxn id="197" idx="2"/>
            </p:cNvCxnSpPr>
            <p:nvPr/>
          </p:nvCxnSpPr>
          <p:spPr>
            <a:xfrm flipH="1" flipV="1" rot="5400000">
              <a:off x="2561400" y="3463200"/>
              <a:ext cx="222840" cy="1678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0" name="_s68618"/>
            <p:cNvCxnSpPr>
              <a:stCxn id="201" idx="0"/>
              <a:endCxn id="202" idx="2"/>
            </p:cNvCxnSpPr>
            <p:nvPr/>
          </p:nvCxnSpPr>
          <p:spPr>
            <a:xfrm flipV="1" rot="16200000">
              <a:off x="5760360" y="1534320"/>
              <a:ext cx="222840" cy="2592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3" name="_s68619"/>
            <p:cNvCxnSpPr>
              <a:stCxn id="197" idx="0"/>
              <a:endCxn id="202" idx="2"/>
            </p:cNvCxnSpPr>
            <p:nvPr/>
          </p:nvCxnSpPr>
          <p:spPr>
            <a:xfrm flipH="1" flipV="1" rot="5400000">
              <a:off x="3932280" y="2297880"/>
              <a:ext cx="222840" cy="1065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02" name="_s68620"/>
            <p:cNvSpPr/>
            <p:nvPr/>
          </p:nvSpPr>
          <p:spPr>
            <a:xfrm>
              <a:off x="2846520" y="1706400"/>
              <a:ext cx="3460320" cy="10134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Presupuesto Estáti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98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92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_s68621"/>
            <p:cNvSpPr/>
            <p:nvPr/>
          </p:nvSpPr>
          <p:spPr>
            <a:xfrm>
              <a:off x="1919160" y="2941920"/>
              <a:ext cx="3184560" cy="1249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Presupuesto Flexi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21,6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38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59,6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_s68622"/>
            <p:cNvSpPr/>
            <p:nvPr/>
          </p:nvSpPr>
          <p:spPr>
            <a:xfrm>
              <a:off x="5576040" y="2941920"/>
              <a:ext cx="3184560" cy="1249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Volumen de Venta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120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32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152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_s68623"/>
            <p:cNvSpPr/>
            <p:nvPr/>
          </p:nvSpPr>
          <p:spPr>
            <a:xfrm>
              <a:off x="395280" y="4413960"/>
              <a:ext cx="2880720" cy="12510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en Pre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44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18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26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_s68624"/>
            <p:cNvSpPr/>
            <p:nvPr/>
          </p:nvSpPr>
          <p:spPr>
            <a:xfrm>
              <a:off x="3747960" y="4413960"/>
              <a:ext cx="2880000" cy="12510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en Eficienc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6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20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8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1342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l análisis de las desviaciones es importante por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uestra si los responsables están cumpliendo o no con los objetivos especific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tituye un proceso de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11-14T01:36:19Z</dcterms:modified>
  <cp:revision>35</cp:revision>
  <dc:subject/>
  <dc:title>Sin título de diapositiva</dc:title>
</cp:coreProperties>
</file>