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915-65A5-477D-900A-7868567B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BFA-E15D-4E6F-B5E4-2B878E07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BC6-2472-479E-8C64-41B4CA03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1F1-A605-4D75-A249-2353CCFB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52E8-71C2-4A57-9C42-DC726FB8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28F7-64B9-40B0-B752-402B8651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37DD-CE5A-4132-A8D0-2A7943AC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DB5E-E7D5-4794-B453-4B175F4D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4D0E-8ABC-4EC1-BCAB-17EFE8E2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69CB-BB89-4FEF-A1B4-7AEE7273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44F4-D8F3-4422-BDA2-E5B7D864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946-3FB0-4D3B-9729-909D98C2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F66E-CB79-4324-AE73-71953F03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E990-FED2-4D99-8400-406F738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8927-BBEA-4615-822A-F8A7E661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0B5F-2987-4109-8D84-7ACB24F4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5317-B250-4ED6-B890-9E3DAB17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A90-3F08-4786-B5B8-BB7D82D9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4A1-1218-4AB1-A888-00F66106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39F-95E8-4C7A-9CC6-0F0DEAAF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9A0-ADF7-4FF9-8FF8-A108CAE7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48E-1881-428D-A3C2-0CED2E39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0CD-FA01-44E8-B090-E9D4F782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FF9-780B-461D-8CA5-4BEBB89A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C71D-5276-45A0-994F-3A3965AEC5A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E13E-888F-4972-AA3D-DAFC1B5BFE0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trol Presupuestario y 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nálisis de Desvi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n costos preestablecidos, se calculan antes de comenzar las op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7989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500x800 – 550x800) x 6 = -2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sviació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 x 800 x 40 – 26,25 x 800 x 45 = 800.000 – 945.000 = -14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25x800 – 26,25x800) x 40 = -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40 - 45) x 26,25 x 800 = - 10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tro 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er archivo Excel: “Presupuesto Flexible” adju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26000" y="121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sumen del Análisis de Variaciones </a:t>
            </a:r>
            <a:br>
              <a:rPr sz="28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Ver archivo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“Presupuesto Flexible”)</a:t>
            </a: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95280" y="1706400"/>
            <a:ext cx="8365320" cy="3958560"/>
            <a:chOff x="395280" y="1706400"/>
            <a:chExt cx="8365320" cy="3958560"/>
          </a:xfrm>
        </p:grpSpPr>
        <p:cxnSp>
          <p:nvCxnSpPr>
            <p:cNvPr id="195" name="_s68616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4238640" y="346284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68617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2561400" y="346320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0" name="_s68618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760360" y="1534320"/>
              <a:ext cx="222840" cy="259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3" name="_s68619"/>
            <p:cNvCxnSpPr>
              <a:stCxn id="197" idx="0"/>
              <a:endCxn id="202" idx="2"/>
            </p:cNvCxnSpPr>
            <p:nvPr/>
          </p:nvCxnSpPr>
          <p:spPr>
            <a:xfrm flipH="1" flipV="1" rot="5400000">
              <a:off x="3932280" y="2297880"/>
              <a:ext cx="222840" cy="106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2" name="_s68620"/>
            <p:cNvSpPr/>
            <p:nvPr/>
          </p:nvSpPr>
          <p:spPr>
            <a:xfrm>
              <a:off x="2846520" y="1706400"/>
              <a:ext cx="3460320" cy="10134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Está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98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92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_s68621"/>
            <p:cNvSpPr/>
            <p:nvPr/>
          </p:nvSpPr>
          <p:spPr>
            <a:xfrm>
              <a:off x="191916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Flexi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21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59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_s68622"/>
            <p:cNvSpPr/>
            <p:nvPr/>
          </p:nvSpPr>
          <p:spPr>
            <a:xfrm>
              <a:off x="557604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Volumen de Vent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120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15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_s68623"/>
            <p:cNvSpPr/>
            <p:nvPr/>
          </p:nvSpPr>
          <p:spPr>
            <a:xfrm>
              <a:off x="395280" y="4413960"/>
              <a:ext cx="288072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Pre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44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1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26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_s68624"/>
            <p:cNvSpPr/>
            <p:nvPr/>
          </p:nvSpPr>
          <p:spPr>
            <a:xfrm>
              <a:off x="3747960" y="4413960"/>
              <a:ext cx="288000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Eficienc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6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20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8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1342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uestra si los responsables están cumpliendo o no con los objetivos especifi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tituye un proceso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11-14T01:36:19Z</dcterms:modified>
  <cp:revision>35</cp:revision>
  <dc:subject/>
  <dc:title>Sin título de diapositiva</dc:title>
</cp:coreProperties>
</file>