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0639E-4AF2-40B7-B954-4C4144D8B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217FE-5B8F-4CDA-A0B7-754793002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21125-1E9B-410F-BEC6-49FAF265B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62E66-0027-4667-BDA5-79A6DD577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960AA-D8F0-4509-A668-C664DD60E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D395B-3D62-46EF-870C-165180980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42570-8F8C-4FB2-85A0-6A797B13E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3DA99-9954-4E3E-BED4-40746AAA1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CBFA2-8BA9-48CD-9378-AA955FA55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D6DB2-2053-415A-B89D-27A9B09EF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F7E7A-8144-47DA-89EE-C82116039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8E1B1-D502-4BC9-AABC-C4C628F49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F10EA-20CE-4142-8FBC-D29973AF6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76C40-2419-46A8-86EB-43F368025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7A7B1-088B-48CB-91D9-EA99123D8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05D75-7DAE-4F4D-B467-8C31180E0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FACA61-D92F-4D21-8B14-D6E3F56BB8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C5E9A-F1B1-4B70-A57C-7E31D95B4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831A7-369B-4DD4-9B4F-A21B3E9B5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B447E-CF00-4257-AA78-0B3771664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C27C9-2CA4-459B-B7D5-D1B4892EB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C84A7-3A18-46DD-B031-2AEF75FF1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D75A3-D296-4714-BD3D-C34215351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77440-937C-4111-832D-7A8455C32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9A87-9C07-44EE-8998-8E4F0D90B9F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1AAF4-4195-429C-88F7-A26AB6506553}"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99"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6"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4.000)</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0"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todas las rentas percibidas en el año.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4"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36"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2.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40"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42"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43"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44"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45"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47"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48"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49"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50"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55"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59"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63"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64"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ago de IVA</a:t>
            </a:r>
            <a:r>
              <a:rPr b="0" lang="en-US" sz="2400" spc="-1" strike="noStrike">
                <a:solidFill>
                  <a:srgbClr val="000000"/>
                </a:solidFill>
                <a:latin typeface="Times New Roman"/>
              </a:rPr>
              <a:t>	</a:t>
            </a:r>
            <a:r>
              <a:rPr b="0" lang="en-US"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68"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mario</a:t>
            </a:r>
            <a:endParaRPr b="0" lang="en-US" sz="4400" spc="-1" strike="noStrike">
              <a:solidFill>
                <a:srgbClr val="333399"/>
              </a:solidFill>
              <a:latin typeface="Tahoma"/>
            </a:endParaRPr>
          </a:p>
        </p:txBody>
      </p:sp>
      <p:sp>
        <p:nvSpPr>
          <p:cNvPr id="101"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72"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74"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76"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77"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79"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8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8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8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03"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07"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0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13"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14"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18"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20"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4"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cp:keywords/>
  <dc:language>en-US</dc:language>
  <cp:lastModifiedBy>Michel</cp:lastModifiedBy>
  <cp:lastPrinted>1999-03-18T21:02:27Z</cp:lastPrinted>
  <dcterms:modified xsi:type="dcterms:W3CDTF">2007-08-28T01:57:21Z</dcterms:modified>
  <cp:revision>24</cp:revision>
  <dc:subject/>
  <dc:title>Primera Parte: Contabilidad Financiera</dc:title>
</cp:coreProperties>
</file>