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289-81A2-4D0D-8B6F-71E0F542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604-CFE8-4BD3-A3D6-2445A470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056-A4A9-4F03-80ED-BA96E2E0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AF0-75DF-496E-AF6B-00D5596C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EEF3-B6AB-4E46-A4C7-AC24D10E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F6D5-16E9-4375-9866-A9CBC461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DB86-478C-4C34-B556-5C246F47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201F-429F-4C64-B4C7-F964C4F1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653F-A116-434F-9E77-118D1659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9F02-5286-430D-BBCC-00F5E532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2C84-8498-43F6-B24A-98DC06DD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349-6237-494D-A7AF-9117E795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DCEE-6B15-49FB-8F13-CC5B8A0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12CD-E352-43EA-9F58-9C180101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44CE-F1B7-43B3-BCEE-BCC60D7E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B155-C604-4201-9A38-CB752175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2263-F8AA-42EA-8894-22212ECE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127-50CB-4119-B46C-6C7AAE08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015-2D3E-4A9E-A617-7C849488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C4D-1191-49C1-81A4-43CF8174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2FA-10E8-4EC1-BC6D-BAF80F9B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1CD-C1A9-4FF0-8301-10B76A0B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EB9-1502-4278-854F-87288F75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962-B262-4113-9FCD-F7A5E714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42C2-CC3E-4A0D-B133-8EC956B6313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AE2A-FFF2-4E7F-AA2C-4769507DF3B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1254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mera Part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bilidad Financie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38541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ítulo 8: 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960" y="2266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000*1.1 + 10 = 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  =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22590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2259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8684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5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32568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3164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25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49360"/>
            <a:ext cx="7793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2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ahora el activo está formado por un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3840" y="2205000"/>
            <a:ext cx="65358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lance Final Corregido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332856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rimonio Inic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0524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4719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3452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405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4216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jemplo 3: ahora hay una deuda reajustable (en UF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203328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Inicial Actualizado = 1000*1.1          =   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 Final Actualizado   = 1510 - 500*1,1 =     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  =   (14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0336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0336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0243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188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5575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081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03364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55752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960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3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canismo de la Corrección Monet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alorizar el Patrimonio Final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sivos Revalorizables (No Monetari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6880" y="17892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ósitos a Plazo Reajustab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, Ac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tas.por Cobrar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asivos no monetario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792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án auto protegidos de la Inflació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u valor real permanece constante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en 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pactadas en moneda extranjer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lquier deuda pactada con cláusula de reajustabil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amortiza en pesos y luego se hace C.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227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ctivos y Pasivos monetari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9720" y="212256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aquellos pasivos y activos cuyo valor nominal permanece constante, pero no el r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udas no reajus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ses de la Corrección Monet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el Capital Inicial 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portes y Retiros de Capit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Act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rregir Pasivos No Mone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1974600"/>
            <a:ext cx="87040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PC,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se usa para corregi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osto de Reposición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el valor de las exist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efine como el valor de la última unidad comp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fines tributarios se considera el precio más alto pagado en el ejerc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1400" y="585360"/>
            <a:ext cx="70866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es de correc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2252160"/>
            <a:ext cx="87631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las deudas o depósitos pactados en moneda extranj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Cláusulas de Reaju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Según como se haya establecido o pact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usa para corregir deudas o depósitos pactados con las respectivas cláusula (la más usual es la Unidad de Fomento (UF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¿Qué es la Corrección Monetaria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5000"/>
            <a:ext cx="807876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 mecanismo para reflejar en los estados financieros la pérdida de poder adquisitivo de la mone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34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243180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empresa tiene los siguientes estados financieros a fines del ejercicio de 200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xtranj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A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tal Pas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99640" y="41400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3240" y="1893600"/>
            <a:ext cx="777240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greso por Vent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de Adm.y Vta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dad de Ejercic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0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414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217188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más, se tiene la siguiente inform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 a Noviembre de 2002 = 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ción tipo de camb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85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2152800"/>
            <a:ext cx="8686800" cy="43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Capital Inicial (como IPC de diciembre se conoce en Enero, se usa el de noviembr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C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  1= 25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 Reval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000*1.25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210456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Activos No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Revalorizad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500*1.25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96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556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202896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alorización Pasivos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. Revaloriz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600* 1.3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M.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monio Final Revalorizado : (Activo- Pasiv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900 + 960 + 625- 780 - 400 = 140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l Patrimonio Inicial Revalorizado es 125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15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1973160"/>
            <a:ext cx="845172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ientos de Corrección Moneta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uda M.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41400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228760"/>
            <a:ext cx="5305320" cy="4368960"/>
          </a:xfrm>
          <a:prstGeom prst="rect">
            <a:avLst/>
          </a:prstGeom>
          <a:noFill/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tado de Resultados Correg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Adm. y Ven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ción Monetar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140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2266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alance Corregi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SIVO Y PATRIMON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lig. en M.E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udores por Vt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tas. por Pag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6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y Reserv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25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 Fij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625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5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58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ongamos una economía donde existe un único bien (manzanas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0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0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período 1 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1$/un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onces, inflación = 10%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 una persona dispone de $1000, y tiene la alternativa de depositar al 20%, la utilidad que obtendrá será la sigui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920" y="2168640"/>
            <a:ext cx="8839080" cy="4356000"/>
          </a:xfrm>
          <a:prstGeom prst="rect">
            <a:avLst/>
          </a:prstGeom>
          <a:noFill/>
          <a:ln w="127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MANZ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INI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0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NOMI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0 - 1000 = 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 cada añ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,09*11 = 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n $ del año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62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calcular la utilidad real obtenida en un depósito, lo que hacemos es comparar el dinero obtenido a la fecha del vencimiento con el capital depositado originalmente, pero actualizado según la variación del Índice de Precios al Consumidor (IPC)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dad real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= 1200 – 1000*(1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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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200 – 1000*1,1 = 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930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1 Concepto de Poder Adquisitiv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s de la inf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Valor de Activos y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orsiona Relación entre Ingresos y Ga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ción Moneta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pagar impuestos sobre utilidades re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e comparar estados financieros de distintos perío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determinar la utilidad real en una empresa, es decir, con corrección monetaria, se aplica un procedimiento conceptualmente similar a cuando se obtiene la utilidad real de un depósito bancario (ejemplo anteri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, se debe comparar el patrimonio inicial actualizado con el patrimonio final, también actualiz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6984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8.2 Inflación y Estados Financie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7920" y="195228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I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.F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dad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upuesto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flación 1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utilidad es producto de una prestación de servicios que se paga al con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8488440" y="25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644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3600" y="252900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3600" y="2503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3600" y="2960640"/>
            <a:ext cx="63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06800" y="25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3600" y="3537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63600" y="454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36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0" y="3537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jemplo 1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empresa cuyo único activo es caja y no tiene pasiv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75040"/>
            <a:ext cx="8839440" cy="42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Utilidad Nominal  =  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Inicial Actualizado = 1000*1.1=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onio Final Actualizado (Act. - Pas.) = 1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UTILIDAD REAL (PFA - PIA)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  =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Balance Final Correg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j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trim. Inicia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érdida del ej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(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18148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51814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cp:keywords/>
  <dc:language>en-US</dc:language>
  <cp:lastModifiedBy>Michel</cp:lastModifiedBy>
  <cp:lastPrinted>1999-03-18T21:02:27Z</cp:lastPrinted>
  <dcterms:modified xsi:type="dcterms:W3CDTF">2007-08-28T02:00:45Z</dcterms:modified>
  <cp:revision>23</cp:revision>
  <dc:subject/>
  <dc:title>Primera Parte: Contabilidad Financiera</dc:title>
</cp:coreProperties>
</file>