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A7009-5E61-4781-8D40-98192A1CD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2174-7E48-466F-87D5-3A38315F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0225-C10D-48A0-8994-0DE176C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52F2-4CDE-48CA-9D63-B69556F408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93B78-A100-4143-B8C5-6C35D187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20CC-0026-4411-8457-BD175824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5767-695B-4709-A35E-B29F7CC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D16F3-9ABA-498A-A74B-A1211F6F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34427-1275-406F-9649-663B885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8A7B1-5EA5-4620-A4A7-B4A770F5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E165-C393-4CDA-B211-A8937D2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62C3-9A4C-445B-9AC9-BC656126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25B8B-E0E1-49C8-BD2C-A1B344F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F767-4F35-4B6C-8587-BC6FB279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670EE-EF5E-4D12-962E-503732B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F755C-483F-47E0-9D20-E097C06F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D6290-1EA4-40CF-8A9D-7BF2D561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7B1C-7C36-412D-A45C-4B9915B8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86BC-A5E4-4DE2-99BC-BD7E1795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3B88-8EAC-48B1-BE23-AE3ED3F5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22BD-D49E-43D0-B251-4A6A296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E23B-E05C-430C-94FA-A074FB07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012C-2C65-41B1-9423-07651E2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BAAF-61C8-4912-9B53-69C8150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CFED-AF36-4629-8248-437B6D4C0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0" y="5943600"/>
            <a:ext cx="9144000" cy="380880"/>
          </a:xfrm>
          <a:prstGeom prst="rect">
            <a:avLst/>
          </a:prstGeom>
          <a:gradFill rotWithShape="0">
            <a:gsLst>
              <a:gs pos="0">
                <a:srgbClr val="46465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67320" y="1752480"/>
            <a:ext cx="4576680" cy="413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1690560"/>
            <a:ext cx="7467480" cy="2652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F4B5-E66D-437C-9B3C-FBDD81BAD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20640"/>
            <a:ext cx="2971800" cy="370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837760" y="3026160"/>
            <a:ext cx="431640" cy="6164280"/>
          </a:xfrm>
          <a:prstGeom prst="rect">
            <a:avLst/>
          </a:prstGeom>
          <a:gradFill rotWithShape="0">
            <a:gsLst>
              <a:gs pos="0">
                <a:srgbClr val="9e9ece"/>
              </a:gs>
              <a:gs pos="100000">
                <a:srgbClr val="99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5445000"/>
            <a:ext cx="6192720" cy="71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2492280"/>
          <a:ext cx="7416720" cy="3095640"/>
        </p:xfrm>
        <a:graphic>
          <a:graphicData uri="http://schemas.openxmlformats.org/drawingml/2006/table">
            <a:tbl>
              <a:tblPr/>
              <a:tblGrid>
                <a:gridCol w="639720"/>
                <a:gridCol w="4832280"/>
                <a:gridCol w="19447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te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cl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egun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11280" y="177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tructura típica de una pres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n otras palabr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, lo que tu vas a dec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rl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uego decir justo lo que intentaste dec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989000"/>
            <a:ext cx="6985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aludar a la aud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roducir los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una mirada general a la estructura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instrucción sobre l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ten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73360"/>
            <a:ext cx="79200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s la presentación en sí, es importante mostrar dominio y confianza en lo que se d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uidar los tiempos, ni rápido, ni l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onservar la 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er enfático y entusi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ntener contacto visual con toda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dular la v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emarcar los hitos de la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Lucir amistoso y político si se abordan temas confli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989000"/>
            <a:ext cx="6985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sumir lo dic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ar recomendaciones, si es aprop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gradecer a la audi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vitar a realizar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- Pregu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916280"/>
            <a:ext cx="792000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ena oportunidad para interactuar con tu audi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eparar las respuestas a posible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scuchar atentamente a quién pregunta, mostrar inter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es posible reformular la preg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 veces puedes responder con otra pregunta o abrir la respuesta a la asambl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La Presentación – otras recomend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628640"/>
            <a:ext cx="8532720" cy="0"/>
          </a:xfrm>
          <a:prstGeom prst="line">
            <a:avLst/>
          </a:prstGeom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773360"/>
            <a:ext cx="79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nsayar la presentación. (6 ve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ctitud d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prenderse muy bien los primeros dos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Usar frases prec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 humor es bienvenido, mantiene el interés de la audi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i se usa material audiovisual es muy importante chequear con anticipación el funcionamiento de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aber cuando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arar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de hablar, manejar muy bien el tiempo. Cuidar no ser re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8:26:19Z</dcterms:created>
  <dc:creator>Sebastian Depolo</dc:creator>
  <dc:description/>
  <dc:language>en-US</dc:language>
  <cp:lastModifiedBy>cobregon</cp:lastModifiedBy>
  <dcterms:modified xsi:type="dcterms:W3CDTF">2007-08-21T12:29:14Z</dcterms:modified>
  <cp:revision>334</cp:revision>
  <dc:subject/>
  <dc:title>Plantilla i+d</dc:title>
</cp:coreProperties>
</file>