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B3F0-FD58-4AB8-9743-E25E1C7AE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B852-E49F-4856-A976-7517940ED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78566-FD5D-400D-A28D-579851C20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C976-4142-4128-B9E3-8F89DC37F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D7394-FE4C-4726-9130-AB613DDB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EC499-33DB-47EC-A49A-FF87EC11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71F2B-161F-4EA3-82C9-01129E6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37470-2A10-416B-AADE-1F652358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9372-8676-490D-92B6-C52F979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21D02-82AC-430D-850F-D0FE681B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D80D2-5EB7-4062-B5E5-9D0EF9E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63BC-1852-4F52-B51E-79982A03F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023F1-4F38-4D47-9328-05CFCA00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23D38-B557-4A7F-8F39-2C77655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C2C46-3149-4DC9-8604-2DC7EB0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D6D5-20FC-452D-BEB5-D731E5FB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335A6-273C-4DC6-A468-70071255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FDD1-351B-47B7-8C6F-A5F44A623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6E38-0FC2-4545-8028-2718282A7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D638-2156-456D-BBFF-3F8104DE8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1750-CB6A-473F-94FD-B8A7D84F8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98D7-A01E-43F7-B9F6-DBF1652EA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0E5F-6570-4150-AD61-C70EE3FA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1387-E676-42A3-BE99-59E6E9E8D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945-120F-49A0-9021-2850EE03328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5D55-6D7A-4FAF-964E-5F82C6ADF40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505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6:Decisiones sobre Insta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CA17-921E-46EF-A74F-816EF323F8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A5B9-A7CA-466B-824F-5A8B09570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998A-E57A-4499-A510-7C95B53C4B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A031-7D3A-4166-9A8E-D00358EAA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de la demanda, (merc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uto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028A-8B48-4728-B600-6CD59D60FD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C1E4-A78F-498A-A7CB-EAD24DBA6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CAE0-7F0F-46EB-BD7B-4FBEC2D47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2B04-7B5D-4651-B7C3-6C25D87E0A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6A86-838D-4CDC-9B8B-D43E194D61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B2D1-8B4F-44C7-A9DB-2EBA008535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2043-6BED-41EA-AF76-1CFCF6A63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C8A6-D4FA-4CC7-9465-1A65770C7C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60B3-622D-4F86-8F99-6B7B247A3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F5B1-566B-4543-8A23-04EFCD7948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FCE2-5404-4CEB-BB38-D8761F702A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 : cadena de jardines infantiles puede ser compli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8C32-153F-4352-8441-1ABAA17527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F2F1-F9CD-4EA3-ABF9-75B5A7CEA9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16FB-0D5B-4CAD-B332-7A9220D0AC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970D-DA31-4C54-909C-578CB9FBCB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625F-1AAA-47EC-8A7A-253F181CA8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220E-A7E9-4EEE-A245-DCBAED2C21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9043-8253-442E-B16C-750C712EB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E2C1-3BED-4A88-B875-14614DDFA6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98EC-0EA9-40B0-B64E-3950D47987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7E8B-2DEF-4AEC-8CB5-B804D84639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E884-1991-435E-90B8-03C1322285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A1E3-27C8-4300-8D1A-A81CBC3B11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9358-A909-4ABF-A8E5-97F0763D14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96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da clientes asociado a una pla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8120" y="2133720"/>
                <a:ext cx="35049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3735360"/>
                <a:ext cx="342900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ij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si es cliente j  asociado a planta i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Demanda   máxima  j </m:t>
                        </m:r>
                        <m:r>
                          <m:t xml:space="preserve">⋅</m:t>
                        </m:r>
                        <m:r>
                          <m:t xml:space="preserve">valignl</m:t>
                        </m:r>
                        <m:sSub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</m:eqArr>
                          </m:e>
                          <m:sub/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vij</m:t>
                    </m:r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D909-D0DF-4043-803C-177D746897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2154-083B-4A49-9409-4831F7C4C1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D261-2844-4ADF-A5AE-64AB1559EA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B398-4149-471B-9A4C-4DE6DD35DD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D052-E73C-482A-B028-9AEBE88975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6BFC-1864-4D6D-8902-E044EC81AB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898C-AECC-41CA-AEC3-B4DB6A294F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B52C-9D53-48C2-91B7-3AADFA8980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 Si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 Número de mes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Número de av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B0BB-798E-43BF-AF38-FB714D23E6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4822-B5BB-497A-9AE1-91F3FD0E6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9055A-7A8B-4D11-94ED-7D1C2CF24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4A93-20ED-49D5-953A-48E43CEA3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3568-D7D3-474A-A418-6B091B6F4A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1-08-09T02:32:34Z</cp:lastPrinted>
  <dcterms:modified xsi:type="dcterms:W3CDTF">2004-03-29T21:48:39Z</dcterms:modified>
  <cp:revision>169</cp:revision>
  <dc:subject/>
  <dc:title>Comercio Electrónico</dc:title>
</cp:coreProperties>
</file>