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C08C1-8F5F-4E73-8A38-C5D6B0DFB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A5F1E-715C-4A92-A5EE-2D3036D36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7E1D-A1D4-4FD0-8AB8-0695AC7CF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9C3D-7394-49B9-9D85-F6C4B269A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1B544-DEF8-40C4-9804-35669476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1E88D-ED22-4E54-BB86-026AE8B7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FF6E8-1D6B-4306-A0B2-37FB67AA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E4A75-CF8C-46AF-A86A-44731A22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5AF00-0553-4B43-839E-1BC2938A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02ACA-621D-47A4-9597-2E72511B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22AA0-E613-4683-97AB-45348F5F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8A32-4A70-4934-B3FD-758A3AE2F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74CE8-6EB7-45F4-A727-608ACF07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0CE4C-94A5-4CF8-AB7A-A39965FD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024F4-9890-40D2-80AB-C5C320CC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5262C-A9E0-4935-9764-8B82D7ED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FCEC6-EB1E-45FE-921F-3939C20A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6272-0CB9-4E76-84AC-665E841C4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CF14-14AA-4BA5-A9E5-20269584B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F211-477F-4485-8009-0D8B5D9F8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6595-55EB-47AD-8DC7-E377C9AB5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F47E-1D7C-4B82-AEA0-508E69262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9FD6-5240-4FEA-B807-3A8340846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8538-23AF-4DD0-AE4C-C7B7F872A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710D-1823-42D7-8ED5-2A933E9A1BD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A41C-B1EA-4800-99AA-86D110599FF0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130B-88CC-403C-832B-69FF14B8D0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A7C8-0114-4AED-9012-46E625BA23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9EAE-43AB-4C21-9958-190D6B21F3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134E-8442-4B9C-8227-36DC67F8E1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57D7-A7FA-4985-9D7A-51937E5B9E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2D21-1E56-478B-BDAB-C88EC368D8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5656-B601-484A-9290-588086C92A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7F10-1573-4FAD-8A30-30A212C8C6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F724-5ECB-4A37-8AB4-D6CC23C214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B93F-7871-4C4B-BFD6-020CE9E589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87EA-36A5-4BCA-8399-7FD0FD3F42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B75A-5BFC-4A70-BA6A-FC2C714D36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</cp:lastModifiedBy>
  <cp:lastPrinted>2002-04-16T09:14:48Z</cp:lastPrinted>
  <dcterms:modified xsi:type="dcterms:W3CDTF">2006-04-03T22:21:56Z</dcterms:modified>
  <cp:revision>159</cp:revision>
  <dc:subject/>
  <dc:title>Comercio Electrónico</dc:title>
</cp:coreProperties>
</file>