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D8A7-0838-4BF4-88BF-D8B1D43F7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3D88-000B-43D1-B472-13405783B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A554-EEB2-4F65-86C1-DA038A37F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7E78-0C36-4491-92D0-180B69187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D774F-05B8-4421-9383-072D6B77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F5BE5-CC8A-4AE4-819B-6BF2D3EF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A6BC4-C919-4A07-85A3-FB99299D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7FE29-D8CA-4582-A9FE-778BB444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35DE2-208B-45A3-A2B1-817C18EB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F8522-EB45-4D86-B2E8-8CDC7D89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B5CA5-3D0B-451A-BE71-C427BEC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908F-665B-493B-8171-A4221AB22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C419F-5DC4-491D-97F9-5EBE4E5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12319-6419-417D-A133-ECD17E1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3B3DB-F3DC-4303-AE19-6B3F567B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41F5C-0187-4918-A69B-ED4F7CB2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C8E9-F004-4E1B-A305-2190D040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EB2B-8E14-4CCA-811A-902E3722D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8611-7DEE-4B6D-8C8C-94DE5B9B7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D9EC-B51B-4076-886B-85CFD66D7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FB62-BF7C-4743-AC46-7362A9A66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DFDE-C5C0-4E81-AC19-24091390A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3DA1-45DF-4EDE-A760-4CF8453E2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635B-0457-4522-A650-00FC908A2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8797-4088-4A96-B871-3210BAB8F52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A076-9BF4-46FC-8212-91E0916B9735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2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AF35-726C-4D26-B8F7-13B161E32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92BF-58B1-49B9-919C-497BAAFAFA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57A7-055F-4227-B902-354C2ABABA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D866-E717-46A9-848F-315BDF0CFD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27D1-28F6-4835-8C3F-F1C0B986DF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8055-4510-431E-A077-B08E75568A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0E2C-B0A6-4130-91FE-41BA107C60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52B0-E32B-43D8-99B9-83CC39AAE9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4037-8B79-47A6-ADD2-7DBBCA18D2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E206-461C-423B-B53B-3930E6388E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sh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4252-B651-4B15-B221-3801BD1BCB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088D-4A05-4178-A94E-DECC97C989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4E42-4A8C-4F67-83B0-3DDCA54683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2B9D-ADE4-479B-85C9-5431687B77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5BB6-1F93-4D60-AC80-5876F96755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ADFA-D49F-456D-BA62-9678B50152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46D5-EFDA-45F4-B655-912BCD8BC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23C1-38CC-4F7E-8304-3AF27EBFE6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FB41-20EB-46A0-9247-A65051D6F5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D68F-023E-466F-8253-D2B715201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D2A0-FED1-4A7E-9F00-1388124749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rancisco Tubino</cp:lastModifiedBy>
  <cp:lastPrinted>2001-08-09T21:48:07Z</cp:lastPrinted>
  <dcterms:modified xsi:type="dcterms:W3CDTF">2006-10-16T19:06:00Z</dcterms:modified>
  <cp:revision>89</cp:revision>
  <dc:subject/>
  <dc:title>Modelamiento Físico de Interfaces</dc:title>
</cp:coreProperties>
</file>