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950C-C3B5-42DE-B5D0-3F625C9B1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FA0B-FA2C-435F-A9B4-3B22B9C89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F2C0-C342-4A9C-AE46-6B4C36D44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D17A-5DF6-4B59-B701-579E57879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C14F9-E56A-45DF-B9D0-B52F54BF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B0800-7076-4E1B-99AE-E2EA40A9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CCD9C-F324-4A68-BF92-DF89D51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C3686-F829-4DE4-9CB3-F5C3E5C9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B87B9-538E-4365-BFB4-2EDE05DB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68C42-ABD0-441D-A345-1F811384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74DE5-CF62-4378-99D8-126F5FDC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A3C0-7046-496A-9C52-0DA5ABD30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A2B69-795D-4A93-96ED-0833D764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38837-3A19-469E-BB78-BF5FBCAD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16778-D982-4AFE-A4E2-C6A944F9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2A378-9118-44F4-822A-0FD2CDDC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1D7AF-B6EA-4254-AE04-A04B8D42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CA49-47E2-4B4D-9EFD-9C5236355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65C1-DFCA-4C13-B8DE-97EA54484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01624-5261-46C0-A2C2-AE7E57B27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A1FD-170B-45CF-A51E-800A24521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029B-483E-4285-827E-E54B66564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06D9-DA09-42FC-992C-4A0F1BB4F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27F5-DD27-49FB-8A5F-638AEB986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40008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3917-C9D3-4751-BB42-A9D3719A8DB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A583-5BEE-4263-BE47-1B57AE4EB6B3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053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3: Manufactura Justo a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do un recipiente se vacía en B (área de salida), el recipiente vacío y las tarjetas de retiro van al centro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, la tarjeta de producción de un recipiente lleno se quita y se sustituye por la tarjeta de reti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tarjeta de producción es colocada en el punto de recepción del centro A, autorizando la producción de otro recip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recipiente vacío se deja en el centro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recipiente lleno de partes y su tarjeta de retiro van al centro B y se colocan en el área de ent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do este recipiente es utilizado se lleva, junto a su tarjeta de retiro, de regreso al centro A, y el ciclo se rep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350D-46C6-44DB-84E9-5D30B1D037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número total de recip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asa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amaño del recip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iempo que toma al recipiente completa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una vuel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ó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81080" y="5005440"/>
                <a:ext cx="14479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1205-5804-4173-AD49-384A08E1EC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 = 2 parte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 = 25 un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 = 100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30320" y="1905120"/>
                <a:ext cx="52326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ntario</m:t>
                    </m:r>
                    <m:r>
                      <m:rPr>
                        <m:lit/>
                        <m:nor/>
                      </m:rPr>
                      <m:t xml:space="preserve">Máxi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981080" y="5064120"/>
                <a:ext cx="43434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 recipiente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1B4F-1823-4CC0-AA26-E42E6FE726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reducir el inventario hay que reducir 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minuyendo tiempos de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minuyendo tiempos de acarre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General Mo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 los tiempos de cambio de dados en las prensas de 6 horas a 18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 inventario de 1 millón a 100 mil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00200" y="1905120"/>
                <a:ext cx="6916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ntario</m:t>
                    </m:r>
                    <m:r>
                      <m:rPr>
                        <m:lit/>
                        <m:nor/>
                      </m:rPr>
                      <m:t xml:space="preserve">Máximo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·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   unidade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9C91-A9FB-4FB9-90B0-D02E83F0D6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chas empresas disminuyen los tiempos de preparación en dos 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vidiendo las preparaciones en externas e internas, dependiendo de si requieren parar la máquina o 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ndo las preparaciones externa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33CF-DF29-4681-BF56-7CE1AB2E56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secu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JIT causa cambios 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la planta y equip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imina bodegas de 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 de producción fluida, rápida y flex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s pequeños en cad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ad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fun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peración de varias máqui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cen ajus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C4EB-FA52-4A54-A4C5-EF2087CF8F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secu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d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gración a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oyo mutu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l papel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DDB6-F70A-40DB-8E48-B889BE8B8B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06360" y="1571760"/>
            <a:ext cx="702324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E4F8-1CF0-43F1-853C-E83E0F8F25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06360" y="1549440"/>
            <a:ext cx="7023240" cy="39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D35C-E7CE-4BAB-92A5-6C825B261B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onsid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IT es mejor para producción repeti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RP es mejor para producción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mbinar ambos sistemas para el caso semi-repeti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RP para planear mater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IT para el control de piso del t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general JIT es muy difícil de implementar (como acrobacia sin r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107D-8624-4589-AAEF-CC09301064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losof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sca eliminar todas las fuentes de desperdicio, cualquier cosa que no agregue valor en las actividade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fall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 en Toyo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B532-0C7D-4278-B13D-CA430850CF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quer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romiso de la alta ger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laboración de la fuerza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nufactura flex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nivel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tender el sistema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52D6-AAAF-43CC-A2D2-CDD6B6B0F4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y ligada a Calidad To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lica mucha flexibilidad y discipli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queña producción diaria de cada parte y producto final requiere de producción flexible (FM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a con un programa maestro estable en el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lanea en conjunto con los proveedores (cooperación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gas hasta 4 veces a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óptimo es la un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110C-29E3-4546-95CE-F83914B73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mbios en la distribución de las pla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nores espa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ntarios ba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a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23AD-FE63-43F0-BA57-DE77B4BE7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se produce la cuota di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umple antes de las 8 horas se pa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no se cumple se utiliza sobre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ción del sistema Kanban (tarjeta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 de autorización de producción y movimiento de mate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 propósito es indicar cuando se deben fabricar partes adicional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1969-6CC6-41EB-AA0B-F536801307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8920" y="571500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38680" y="1724040"/>
            <a:ext cx="8219520" cy="4022640"/>
            <a:chOff x="238680" y="1724040"/>
            <a:chExt cx="8219520" cy="40226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8001000" cy="39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908720" y="172404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8680" y="179064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0640" y="5292720"/>
              <a:ext cx="12567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55440" y="44038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2480" y="2806560"/>
              <a:ext cx="546120" cy="702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0560" y="2844720"/>
              <a:ext cx="54612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18320" y="3295800"/>
              <a:ext cx="6224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17640" y="3270240"/>
              <a:ext cx="6224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7520" y="259092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97280" y="2832120"/>
              <a:ext cx="5461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59800" y="2857680"/>
              <a:ext cx="5461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D8CB-A2DD-402D-9593-669910C040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xisten 8 recipientes entre los centros de trabajo A y B (A provee a B) y que en cada recipiente caben exactamente 20 par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máximo que puede existir entre estos dos centros de trabajo es 160 unidades (8·20) dado que la producción en el centro de trabajo A se detendrá cuando todos los recipientes estén lle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B28D-17A5-48E6-AB23-CD2C0BB544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figura los 8 recipientes están distribuidos de la siguiente mane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 recipientes se encuentran en el centro de trabajo A, los cuales a la salida se llenan con 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siendo llenado en el centro de trabajo A por l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lleno se mueve de A a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 recipientes llenos  se sitúan en el área de entrada del centro de trabajo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está siendo utilizado por el centro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91FF-C41B-42EA-914D-777E52DBFE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controlar el movimiento de los recipientes se utilizan dos tipos de tarjetas Kanba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rjeta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rjetas de reti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tarjetas pueden ser de papel, plástico o metal, y toman el lugar de los documentos de trabajo que se utilizan en la manufactura repetitiva tradi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 forma de utilización es la sigu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32827-6A7B-479A-AED7-FA59DCF865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dii</cp:lastModifiedBy>
  <cp:lastPrinted>2001-08-09T22:22:50Z</cp:lastPrinted>
  <dcterms:modified xsi:type="dcterms:W3CDTF">2006-10-16T19:55:29Z</dcterms:modified>
  <cp:revision>97</cp:revision>
  <dc:subject/>
  <dc:title>Modelamiento Físico de Interfaces</dc:title>
</cp:coreProperties>
</file>