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86993-57C2-411D-BFCB-50B4EA5089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A3B4D-D2BC-42BA-8DA4-949A0FC457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26111-FC8D-4AEE-B2C4-E08DA3FD20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F360E-F7A0-4BED-BA46-0948220EB0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841536-18B2-496B-984D-1D71FBD26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4AC15F-049E-4483-962E-7E47C93A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3BC15-3256-4C57-9306-052CB595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F1356-BCB8-4B3B-B70F-8E0E71AE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1AF5A-E2AB-47B0-AC2A-6C539277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B76C2-0DFE-4750-99E2-52B679E8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0D3F1-03D2-4715-A20D-43B77719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D9505-F725-41ED-9799-B43BF42AFA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75A35E-B1C0-4A89-9C60-0AB6C822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3E2AD-F6C8-4C5E-8E72-DBB04767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0CBC6F-AEE8-4BA3-AECA-616DD964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885EC-C7A2-4BC1-8C9E-53E91087F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B28B2A-DA29-4C5D-A7B9-4D24459C6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08B94-708D-41E7-965D-5A80BC5F50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93F6A-DF48-47A4-9A7D-C369E5436A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DDCDF-4B89-4BB8-962E-7E12A77BC2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D83ED-D103-4EBD-801C-AFD79FFE6D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4B53D-9DB2-4E51-8177-B6ECF33928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9E93A-FB82-491B-A73A-99E2C53B8E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A1CD9-02EE-451D-9720-F8CE7D4AA4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4723560" y="62784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7EB4-CEC1-4AE4-950F-44F82A958E3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6F97-CDBD-474A-B0F2-1D872F18FE88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350532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 : Programación de Proye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di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 determinar la ruta crítica y las holguras además hay que defini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550880" y="2932200"/>
                <a:ext cx="7145280" cy="30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Cma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tiempo de comienzo máximo de la actividad x si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atrasar el proyect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Fma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tiempo de fin máximo de la actividad x sin atrasa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el proyect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TCma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Fma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Fma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Cmax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 sucesor de 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480CD-A741-4B61-85A0-33BD8913758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di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 el 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587600" y="2755800"/>
                <a:ext cx="7035840" cy="275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Fmax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Fmax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Fmax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Fmax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TFmax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Cmax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Cmax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3,2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724280" y="2754360"/>
                <a:ext cx="2805120" cy="18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Cmax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Cmax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Cmax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Cmax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F23CB-F90E-483A-BA1C-7290AAF7F8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di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 esta maner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ruta crítica esta definida por las actividades en que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TCmax(x)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TCmin(x)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-C-D-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holgura de la actividad x estará dada por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TFmax(x)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TFmin(x)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TCmax(x)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TCmin(x)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olgura de B = 1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64AE2-CDD0-420D-93DE-4F26ACB694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di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 pueden hacer los cálculos directamente en la mall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133720" y="3421080"/>
            <a:ext cx="5257800" cy="1608120"/>
            <a:chOff x="2133720" y="3421080"/>
            <a:chExt cx="5257800" cy="1608120"/>
          </a:xfrm>
        </p:grpSpPr>
        <p:sp>
          <p:nvSpPr>
            <p:cNvPr id="151" name=""/>
            <p:cNvSpPr/>
            <p:nvPr/>
          </p:nvSpPr>
          <p:spPr>
            <a:xfrm>
              <a:off x="3733920" y="3505320"/>
              <a:ext cx="457200" cy="4572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95680" y="4572000"/>
              <a:ext cx="457200" cy="4572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34120" y="3505320"/>
              <a:ext cx="457200" cy="4572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34320" y="3505320"/>
              <a:ext cx="457200" cy="4572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33720" y="3505320"/>
              <a:ext cx="457200" cy="4572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90920" y="37339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91120" y="37339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91320" y="37339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02200" y="3949560"/>
              <a:ext cx="457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902120" y="3936600"/>
              <a:ext cx="5335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96080" y="342108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2,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50240" y="342432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,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69400" y="398952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7,7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783680" y="342432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6,7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66160" y="397656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2,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23360" y="456732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4,4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48840" y="342432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7,7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37480" y="342432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2,3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32640" y="456732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4,4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71280" y="342432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9,9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32120" y="3772080"/>
              <a:ext cx="54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(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29800" y="3772080"/>
              <a:ext cx="54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(4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58800" y="3755880"/>
              <a:ext cx="53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(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70920" y="429264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(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14960" y="4290840"/>
              <a:ext cx="566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(3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C1C09-F37F-4643-B93C-5CE0497E94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di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idades artificia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¿Qué pasa si agregamos una actividad A’ que precede a B pero no a C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 necesario definir una actividad artificial con tiempo de duración igual a ce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4191120" y="4191120"/>
            <a:ext cx="457200" cy="45720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52880" y="5257800"/>
            <a:ext cx="457200" cy="45720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91320" y="4191120"/>
            <a:ext cx="457200" cy="45720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91520" y="4191120"/>
            <a:ext cx="457200" cy="45720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90920" y="4191120"/>
            <a:ext cx="457200" cy="45720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48120" y="4419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648320" y="4419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248520" y="4419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359320" y="462240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490200" y="405612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3800" y="4056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32280" y="404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88600" y="54752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56680" y="480204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29000" y="5257800"/>
            <a:ext cx="457200" cy="45720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809880" y="463500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7180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5486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6280" y="48150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24880" y="4815000"/>
            <a:ext cx="6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(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CF9D4-5282-49D5-BB26-6682290794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di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precede a D y 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 precede a 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 precede a 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657600" y="3429000"/>
            <a:ext cx="2819520" cy="2590920"/>
            <a:chOff x="3657600" y="3429000"/>
            <a:chExt cx="2819520" cy="2590920"/>
          </a:xfrm>
        </p:grpSpPr>
        <p:sp>
          <p:nvSpPr>
            <p:cNvPr id="201" name=""/>
            <p:cNvSpPr/>
            <p:nvPr/>
          </p:nvSpPr>
          <p:spPr>
            <a:xfrm>
              <a:off x="4800600" y="4494240"/>
              <a:ext cx="457200" cy="4572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00600" y="5562720"/>
              <a:ext cx="457200" cy="4572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19920" y="4494240"/>
              <a:ext cx="457200" cy="4572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0060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57600" y="4494240"/>
              <a:ext cx="457200" cy="4572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4114800" y="4722840"/>
              <a:ext cx="685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038480" y="4876920"/>
              <a:ext cx="762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5257800" y="4800600"/>
              <a:ext cx="7621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264200" y="439596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10920" y="391176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57320" y="5270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201560" y="52722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523480" y="391176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4114800" y="3809520"/>
              <a:ext cx="7621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181480" y="3809880"/>
              <a:ext cx="83844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029200" y="49528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29200" y="38862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010480" y="5043600"/>
              <a:ext cx="426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99680" y="4038480"/>
              <a:ext cx="426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427B3-F89F-48E6-AAC3-EAF0E7684C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rta Gant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estra cuánto tiempo se necesita para cada actividad y cuándo tendrá lugar la mis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ver el uso de recursos en el tiemp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674000" y="3657240"/>
            <a:ext cx="4208760" cy="2669400"/>
            <a:chOff x="1674000" y="3657240"/>
            <a:chExt cx="4208760" cy="2669400"/>
          </a:xfrm>
        </p:grpSpPr>
        <p:sp>
          <p:nvSpPr>
            <p:cNvPr id="223" name=""/>
            <p:cNvSpPr/>
            <p:nvPr/>
          </p:nvSpPr>
          <p:spPr>
            <a:xfrm flipV="1">
              <a:off x="2072880" y="3657240"/>
              <a:ext cx="0" cy="228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72880" y="5943240"/>
              <a:ext cx="380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454120" y="586728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835000" y="586728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15880" y="586728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597120" y="586728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78000" y="586728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358880" y="586728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740120" y="586728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21000" y="586728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501880" y="586728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694520" y="38858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687680" y="426708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74000" y="46479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686240" y="502884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688760" y="541008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72880" y="5600520"/>
              <a:ext cx="76176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35000" y="4876560"/>
              <a:ext cx="76176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35000" y="5257440"/>
              <a:ext cx="152352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597120" y="4419360"/>
              <a:ext cx="114264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740120" y="4038480"/>
              <a:ext cx="76140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43280" y="60195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05400" y="60195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67160" y="60195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229280" y="60195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610160" y="60195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372280" y="60195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5972400" y="3641760"/>
            <a:ext cx="219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Carta Gantt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l Ejemplo 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19966-72C2-4E8E-AEB8-1F8B5EDBA17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étodo PE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Qué pasa si los tiempos de las actividades no son determinístico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la actividad de programación puede demorar entre 3 y 5 semanas, el proyecto podría demorar de 9 a 11 seman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Cuáles son las actividades crítica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l es el tiempo que demora cada actividad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EDE1A-350E-4166-B799-24FB7E5BF3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étodo PE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cedimien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supone una distribución beta para el tiempo que demoran las activ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fine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tiempo optimis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tiempo pesimis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tiempo med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ahoma"/>
              </a:rPr>
              <a:t>e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Tiempo esperado para cada activ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Va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varianza de cada activ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tiempo total de terminación del proye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E(T)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valor esperado para 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Var(T)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variación de 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ACC68-E6EB-4B4B-8272-FA0FA8F9B0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étodo PE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 supone que los tiempos optimistas y pesimistas cubren seis desviaciones estándar en la distribución be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2438280" y="2362320"/>
                <a:ext cx="2514600" cy="20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a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6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8F49B-8D4D-4A31-8ACE-770CE81F72F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ues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programación de proyectos asume que los proyectos están divididos en etapas independientes con claras relaciones de preced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ción de un edifi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ación de un equi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ción de una máquin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yecto del cur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FC756-8580-47F3-A582-699B357EB2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étodo PE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 esta manera, considerando que T es el tiempo total de terminación del proyecto, se pueden calcul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 asume independenc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2362320" y="3200400"/>
                <a:ext cx="2743200" cy="16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ut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rític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ut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rític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a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66604-D285-4990-B3DA-2FEAD8F7DA1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étodo PE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busca la probabilidad de que T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a solución exacta es compleja en redes no trivi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o alternativa se puede utilizar simulación. Si se hacen n experiment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.- Determinar T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para la actividad x, al aza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2.- Determinar T y ruta crític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n = 1000 y en 800 experimentos T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, se puede decir que la probabilidad que el proyecto demore a lo más T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es 0,8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la actividad x aparece en la ruta crítica 600 veces, se puede decir que la probabilidad que x esté en la ruta crítica es 0,6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E3FFF-04B2-4C33-BE91-5544CD76A3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étodo CP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 posible incrementar o disminuir el tiempo de las actividades a un mayor cos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911960" y="3124080"/>
            <a:ext cx="4586760" cy="3085560"/>
            <a:chOff x="1911960" y="3124080"/>
            <a:chExt cx="4586760" cy="3085560"/>
          </a:xfrm>
        </p:grpSpPr>
        <p:sp>
          <p:nvSpPr>
            <p:cNvPr id="266" name=""/>
            <p:cNvSpPr/>
            <p:nvPr/>
          </p:nvSpPr>
          <p:spPr>
            <a:xfrm flipV="1">
              <a:off x="2743200" y="335268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43200" y="563868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05320" y="3733920"/>
              <a:ext cx="1600200" cy="12189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147840" y="5689440"/>
              <a:ext cx="81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ínim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639320" y="5676840"/>
              <a:ext cx="810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rm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028600" y="3581280"/>
              <a:ext cx="695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s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ími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911960" y="4648320"/>
              <a:ext cx="810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s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rm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505320" y="3733920"/>
              <a:ext cx="0" cy="1904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105520" y="49528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43200" y="495288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2742840" y="37339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407320" y="3124080"/>
              <a:ext cx="65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s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688720" y="5486400"/>
              <a:ext cx="81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5799240" y="3276720"/>
            <a:ext cx="27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Compensación C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tre Tiempo y Co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26A3D-F255-4A2E-9B72-4D16539E2F9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étodo CP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209680" y="3429000"/>
            <a:ext cx="5257800" cy="1674360"/>
            <a:chOff x="2209680" y="3429000"/>
            <a:chExt cx="5257800" cy="1674360"/>
          </a:xfrm>
        </p:grpSpPr>
        <p:sp>
          <p:nvSpPr>
            <p:cNvPr id="283" name=""/>
            <p:cNvSpPr/>
            <p:nvPr/>
          </p:nvSpPr>
          <p:spPr>
            <a:xfrm>
              <a:off x="3809880" y="3579480"/>
              <a:ext cx="457200" cy="45684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72000" y="4646520"/>
              <a:ext cx="457200" cy="45684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410080" y="3579480"/>
              <a:ext cx="457200" cy="45684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010280" y="3579480"/>
              <a:ext cx="457200" cy="45684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09680" y="3579480"/>
              <a:ext cx="457200" cy="45684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666880" y="38080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267080" y="38080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67280" y="38080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178160" y="4024080"/>
              <a:ext cx="45720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4978440" y="4011480"/>
              <a:ext cx="5335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08440" y="3444840"/>
              <a:ext cx="59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506120" y="3444840"/>
              <a:ext cx="59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(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136920" y="342900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747240" y="4206600"/>
              <a:ext cx="59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91640" y="419076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(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1427040" y="2514600"/>
            <a:ext cx="310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Malla de Activ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CD43C-D444-4EEA-A974-5CA8F3E38E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étodo CP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mio por terminar antes 4 por seman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"/>
          <p:cNvSpPr/>
          <p:nvPr/>
        </p:nvSpPr>
        <p:spPr>
          <a:xfrm>
            <a:off x="1394640" y="2243160"/>
            <a:ext cx="42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abla de Acortar Activ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2209680" y="3094200"/>
            <a:ext cx="5410440" cy="163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65C77-B12C-4297-A083-3F4631C81D0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étodo CP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¿Qué conviene hace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ortar A en una semana a costo 1 </a:t>
            </a:r>
            <a:r>
              <a:rPr b="0" lang="en-US" sz="2000" spc="-1" strike="noStrike">
                <a:solidFill>
                  <a:srgbClr val="333399"/>
                </a:solidFill>
                <a:latin typeface="Monotype Sorts"/>
                <a:ea typeface="Monotype Sorts"/>
              </a:rPr>
              <a:t>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ortar C en una semana a costo 2 </a:t>
            </a:r>
            <a:r>
              <a:rPr b="0" lang="en-US" sz="2000" spc="-1" strike="noStrike">
                <a:solidFill>
                  <a:srgbClr val="333399"/>
                </a:solidFill>
                <a:latin typeface="Monotype Sorts"/>
                <a:ea typeface="Monotype Sorts"/>
              </a:rPr>
              <a:t>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 generan dos rutas críticas A-B-E, A-C-D-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ortar simultáneamente B y D aun costo 5 </a:t>
            </a:r>
            <a:r>
              <a:rPr b="0" lang="en-US" sz="2000" spc="-1" strike="noStrike">
                <a:solidFill>
                  <a:srgbClr val="333399"/>
                </a:solidFill>
                <a:latin typeface="Monotype Sorts"/>
                <a:ea typeface="Monotype Sorts"/>
              </a:rPr>
              <a:t>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vale la pen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66EC2-98EE-4886-A5EF-4E6C4226F18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étodo CP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"/>
          <p:cNvSpPr/>
          <p:nvPr/>
        </p:nvSpPr>
        <p:spPr>
          <a:xfrm>
            <a:off x="2724840" y="5367240"/>
            <a:ext cx="38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osto y Tiempo para C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115360" y="2057400"/>
            <a:ext cx="5373720" cy="2973960"/>
            <a:chOff x="2115360" y="2057400"/>
            <a:chExt cx="5373720" cy="2973960"/>
          </a:xfrm>
        </p:grpSpPr>
        <p:sp>
          <p:nvSpPr>
            <p:cNvPr id="308" name=""/>
            <p:cNvSpPr/>
            <p:nvPr/>
          </p:nvSpPr>
          <p:spPr>
            <a:xfrm flipV="1">
              <a:off x="2819520" y="236232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819520" y="4648320"/>
              <a:ext cx="380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00400" y="4572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581280" y="4572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962520" y="4572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343400" y="4572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724280" y="4572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105520" y="4572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486400" y="4572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867280" y="4572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248520" y="4572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486400" y="3581280"/>
              <a:ext cx="380880" cy="76212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867280" y="4343400"/>
              <a:ext cx="381240" cy="30492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89920" y="47242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356800" y="47242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118920" y="47242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738040" y="47242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115360" y="2057400"/>
              <a:ext cx="65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s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679080" y="4495680"/>
              <a:ext cx="81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43200" y="43434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743200" y="39625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43200" y="35812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86880" y="41911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475720" y="38098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488320" y="34290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19520" y="4343400"/>
              <a:ext cx="3047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819520" y="358128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86400" y="358128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867280" y="4343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3B1E8-9C1A-4D6E-8503-9496A6EDDDF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ifica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ursos requeri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zos en forma glob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ación de actividad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tividades específic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zos detall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D7E96-0D68-40C4-B83C-EF8CA11B22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das de contro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mplimiento de plaz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o de recurs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15D4F-229A-4687-9615-E78F86F39B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362320" y="2297160"/>
            <a:ext cx="5356080" cy="15890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117080" y="1676520"/>
            <a:ext cx="29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royecto del Curs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7760" y="4191120"/>
            <a:ext cx="51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Relaciones de Precedencia Direc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362320" y="4815000"/>
            <a:ext cx="2514600" cy="12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17490-D89C-40BF-950B-31F8862917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09680" y="2744640"/>
            <a:ext cx="5257800" cy="1675080"/>
            <a:chOff x="2209680" y="2744640"/>
            <a:chExt cx="5257800" cy="1675080"/>
          </a:xfrm>
        </p:grpSpPr>
        <p:sp>
          <p:nvSpPr>
            <p:cNvPr id="113" name=""/>
            <p:cNvSpPr/>
            <p:nvPr/>
          </p:nvSpPr>
          <p:spPr>
            <a:xfrm>
              <a:off x="3809880" y="2895480"/>
              <a:ext cx="457200" cy="4572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72000" y="3962520"/>
              <a:ext cx="457200" cy="4572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10080" y="2895480"/>
              <a:ext cx="457200" cy="4572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10280" y="2895480"/>
              <a:ext cx="457200" cy="4572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09680" y="2895480"/>
              <a:ext cx="457200" cy="4572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666880" y="31240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67080" y="31240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867280" y="31240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8160" y="3340080"/>
              <a:ext cx="457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978440" y="3327120"/>
              <a:ext cx="5335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08440" y="2760840"/>
              <a:ext cx="59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06120" y="2760840"/>
              <a:ext cx="59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(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36920" y="274464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47240" y="3522600"/>
              <a:ext cx="59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291640" y="350676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(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1121040" y="1905120"/>
            <a:ext cx="31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Malla de Activida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33800" y="4648320"/>
            <a:ext cx="7317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 definen actividades en el tiempo: cuando una a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termina, la(s) actividad(es) que la sucede(n) puede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comenz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- En la malla los nodos corresponden a eventos y los arco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activida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8D450-DE7E-452C-B3AD-8071CB01B4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¿Cuánto demora el proyect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 proyecto de mora 9 seman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¿Cuál es la ruta crític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 ruta crítica es A-C-D-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 esta ruta cualquier actividad es cuello de botell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¿Qué holguras existe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a actividad presenta holgura si se puede retras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 el ejemplo la actividad B tiene una holgura de una seman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77124-8BC7-463A-A182-F319F77083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di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 resolver este problema se defin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600200" y="2590920"/>
                <a:ext cx="6781680" cy="25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tiempo que demora la actividad 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Cmi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tiempo de comienzo mínimo de la actividad 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Fmi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tiempo de fin mínimo de la actividad 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TFmi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Cmi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Cmi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Fmin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 predecesor inmediato de 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8D2F6-EA87-413E-B562-FB198EE8B8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di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 el 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600200" y="2755800"/>
                <a:ext cx="7010280" cy="275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Cmin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Cmin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Fmin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Cmin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Fmin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Cmin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TCmin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Fmin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Fmin</m:t>
                            </m:r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6,7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5867280" y="2678040"/>
                <a:ext cx="2727360" cy="18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Fmin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Fmin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Fmin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Fmin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BB327-ED5B-4003-8010-9AC733D262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8T21:58:16Z</dcterms:created>
  <dc:creator>Antoine Sauré Valenzuela</dc:creator>
  <dc:description/>
  <dc:language>en-US</dc:language>
  <cp:lastModifiedBy>.................</cp:lastModifiedBy>
  <dcterms:modified xsi:type="dcterms:W3CDTF">2007-11-19T19:59:27Z</dcterms:modified>
  <cp:revision>26</cp:revision>
  <dc:subject/>
  <dc:title>Gestión de Operaciones</dc:title>
</cp:coreProperties>
</file>