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59D-E2BC-4E08-BB13-A0D1D8971DA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E06-0C4A-4E20-81CD-D4EAA33B923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02C-C283-4A58-87A0-95D309F8553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5700-96E1-4196-93E3-495697BA5FE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FFA-64CB-4C5C-AD20-6FD599B9022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0CAC-A698-4B2B-8314-A0D8DEF7FE8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 1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vera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5264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UGEOT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5345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16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EUGEOT-2" descr=""/>
          <p:cNvPicPr/>
          <p:nvPr/>
        </p:nvPicPr>
        <p:blipFill>
          <a:blip r:embed="rId1"/>
          <a:stretch/>
        </p:blipFill>
        <p:spPr>
          <a:xfrm>
            <a:off x="119160" y="1028880"/>
            <a:ext cx="890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836280"/>
            <a:ext cx="74689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in embargo tenemos muchas otras necesidades que también tratamos de resolver a través de nuestras compr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prender, Entretenernos, Socializ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Y aún más, quere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tac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er Apreciado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ener Pode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1341360"/>
            <a:ext cx="324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5157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Times New Roman"/>
              </a:rPr>
              <a:t>Prioridad para el    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765000"/>
            <a:ext cx="718920" cy="4392720"/>
          </a:xfrm>
          <a:prstGeom prst="upArrow">
            <a:avLst>
              <a:gd name="adj1" fmla="val 50000"/>
              <a:gd name="adj2" fmla="val 152754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5157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5050"/>
                </a:solidFill>
                <a:latin typeface="Times New Roman"/>
              </a:rPr>
              <a:t>Abstracción de la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3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4572000" y="765000"/>
            <a:ext cx="792000" cy="4321440"/>
          </a:xfrm>
          <a:prstGeom prst="downArrow">
            <a:avLst>
              <a:gd name="adj1" fmla="val 50000"/>
              <a:gd name="adj2" fmla="val 13640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6000" y="1282680"/>
            <a:ext cx="3887640" cy="4353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33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 y la definición de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2276640"/>
            <a:ext cx="1765440" cy="2852640"/>
          </a:xfrm>
          <a:custGeom>
            <a:avLst/>
            <a:gdLst/>
            <a:ahLst/>
            <a:rect l="l" t="t" r="r" b="b"/>
            <a:pathLst>
              <a:path w="1094" h="2030">
                <a:moveTo>
                  <a:pt x="69" y="1894"/>
                </a:moveTo>
                <a:cubicBezTo>
                  <a:pt x="109" y="1955"/>
                  <a:pt x="59" y="1894"/>
                  <a:pt x="137" y="1933"/>
                </a:cubicBezTo>
                <a:cubicBezTo>
                  <a:pt x="149" y="1939"/>
                  <a:pt x="155" y="1954"/>
                  <a:pt x="166" y="1962"/>
                </a:cubicBezTo>
                <a:cubicBezTo>
                  <a:pt x="205" y="1988"/>
                  <a:pt x="317" y="2004"/>
                  <a:pt x="362" y="2011"/>
                </a:cubicBezTo>
                <a:cubicBezTo>
                  <a:pt x="410" y="2019"/>
                  <a:pt x="508" y="2030"/>
                  <a:pt x="508" y="2030"/>
                </a:cubicBezTo>
                <a:cubicBezTo>
                  <a:pt x="578" y="2021"/>
                  <a:pt x="642" y="2000"/>
                  <a:pt x="703" y="1962"/>
                </a:cubicBezTo>
                <a:cubicBezTo>
                  <a:pt x="751" y="1932"/>
                  <a:pt x="776" y="1883"/>
                  <a:pt x="830" y="1864"/>
                </a:cubicBezTo>
                <a:cubicBezTo>
                  <a:pt x="863" y="1831"/>
                  <a:pt x="903" y="1791"/>
                  <a:pt x="947" y="1777"/>
                </a:cubicBezTo>
                <a:cubicBezTo>
                  <a:pt x="980" y="1713"/>
                  <a:pt x="977" y="1709"/>
                  <a:pt x="967" y="1630"/>
                </a:cubicBezTo>
                <a:cubicBezTo>
                  <a:pt x="985" y="1578"/>
                  <a:pt x="998" y="1526"/>
                  <a:pt x="1016" y="1474"/>
                </a:cubicBezTo>
                <a:cubicBezTo>
                  <a:pt x="1020" y="1463"/>
                  <a:pt x="1030" y="1455"/>
                  <a:pt x="1035" y="1445"/>
                </a:cubicBezTo>
                <a:cubicBezTo>
                  <a:pt x="1051" y="1413"/>
                  <a:pt x="1056" y="1372"/>
                  <a:pt x="1064" y="1337"/>
                </a:cubicBezTo>
                <a:cubicBezTo>
                  <a:pt x="1061" y="1314"/>
                  <a:pt x="1055" y="1292"/>
                  <a:pt x="1055" y="1269"/>
                </a:cubicBezTo>
                <a:cubicBezTo>
                  <a:pt x="1055" y="1184"/>
                  <a:pt x="1077" y="1270"/>
                  <a:pt x="1055" y="1201"/>
                </a:cubicBezTo>
                <a:cubicBezTo>
                  <a:pt x="1068" y="1075"/>
                  <a:pt x="1085" y="955"/>
                  <a:pt x="1094" y="830"/>
                </a:cubicBezTo>
                <a:cubicBezTo>
                  <a:pt x="1087" y="781"/>
                  <a:pt x="1084" y="719"/>
                  <a:pt x="1064" y="673"/>
                </a:cubicBezTo>
                <a:cubicBezTo>
                  <a:pt x="1044" y="627"/>
                  <a:pt x="1013" y="585"/>
                  <a:pt x="996" y="537"/>
                </a:cubicBezTo>
                <a:cubicBezTo>
                  <a:pt x="983" y="450"/>
                  <a:pt x="990" y="415"/>
                  <a:pt x="947" y="351"/>
                </a:cubicBezTo>
                <a:cubicBezTo>
                  <a:pt x="935" y="299"/>
                  <a:pt x="927" y="288"/>
                  <a:pt x="879" y="263"/>
                </a:cubicBezTo>
                <a:cubicBezTo>
                  <a:pt x="855" y="216"/>
                  <a:pt x="822" y="193"/>
                  <a:pt x="791" y="146"/>
                </a:cubicBezTo>
                <a:cubicBezTo>
                  <a:pt x="785" y="137"/>
                  <a:pt x="702" y="115"/>
                  <a:pt x="684" y="107"/>
                </a:cubicBezTo>
                <a:cubicBezTo>
                  <a:pt x="671" y="101"/>
                  <a:pt x="657" y="96"/>
                  <a:pt x="645" y="88"/>
                </a:cubicBezTo>
                <a:cubicBezTo>
                  <a:pt x="631" y="79"/>
                  <a:pt x="621" y="65"/>
                  <a:pt x="606" y="58"/>
                </a:cubicBezTo>
                <a:cubicBezTo>
                  <a:pt x="553" y="31"/>
                  <a:pt x="448" y="12"/>
                  <a:pt x="391" y="0"/>
                </a:cubicBezTo>
                <a:cubicBezTo>
                  <a:pt x="347" y="7"/>
                  <a:pt x="306" y="14"/>
                  <a:pt x="264" y="29"/>
                </a:cubicBezTo>
                <a:cubicBezTo>
                  <a:pt x="241" y="95"/>
                  <a:pt x="274" y="17"/>
                  <a:pt x="215" y="88"/>
                </a:cubicBezTo>
                <a:cubicBezTo>
                  <a:pt x="201" y="105"/>
                  <a:pt x="198" y="128"/>
                  <a:pt x="186" y="146"/>
                </a:cubicBezTo>
                <a:cubicBezTo>
                  <a:pt x="169" y="211"/>
                  <a:pt x="168" y="278"/>
                  <a:pt x="147" y="342"/>
                </a:cubicBezTo>
                <a:cubicBezTo>
                  <a:pt x="144" y="446"/>
                  <a:pt x="142" y="550"/>
                  <a:pt x="137" y="654"/>
                </a:cubicBezTo>
                <a:cubicBezTo>
                  <a:pt x="130" y="782"/>
                  <a:pt x="79" y="915"/>
                  <a:pt x="39" y="1035"/>
                </a:cubicBezTo>
                <a:cubicBezTo>
                  <a:pt x="31" y="1104"/>
                  <a:pt x="14" y="1163"/>
                  <a:pt x="0" y="1230"/>
                </a:cubicBezTo>
                <a:cubicBezTo>
                  <a:pt x="2" y="1264"/>
                  <a:pt x="30" y="1424"/>
                  <a:pt x="10" y="1484"/>
                </a:cubicBezTo>
                <a:cubicBezTo>
                  <a:pt x="62" y="1560"/>
                  <a:pt x="49" y="1757"/>
                  <a:pt x="49" y="1757"/>
                </a:cubicBezTo>
                <a:cubicBezTo>
                  <a:pt x="29" y="1814"/>
                  <a:pt x="35" y="1786"/>
                  <a:pt x="49" y="1884"/>
                </a:cubicBezTo>
                <a:cubicBezTo>
                  <a:pt x="51" y="1897"/>
                  <a:pt x="47" y="1917"/>
                  <a:pt x="59" y="1923"/>
                </a:cubicBezTo>
                <a:cubicBezTo>
                  <a:pt x="68" y="1928"/>
                  <a:pt x="66" y="1904"/>
                  <a:pt x="69" y="1894"/>
                </a:cubicBezTo>
                <a:close/>
              </a:path>
            </a:pathLst>
          </a:custGeom>
          <a:gradFill rotWithShape="0">
            <a:gsLst>
              <a:gs pos="0">
                <a:srgbClr val="ffff00">
                  <a:alpha val="24313"/>
                </a:srgbClr>
              </a:gs>
              <a:gs pos="100000">
                <a:srgbClr val="757500">
                  <a:alpha val="70196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3357720"/>
            <a:ext cx="2736720" cy="1977840"/>
          </a:xfrm>
          <a:custGeom>
            <a:avLst/>
            <a:gdLst/>
            <a:ahLst/>
            <a:rect l="l" t="t" r="r" b="b"/>
            <a:pathLst>
              <a:path w="1386" h="1972">
                <a:moveTo>
                  <a:pt x="0" y="1836"/>
                </a:moveTo>
                <a:cubicBezTo>
                  <a:pt x="50" y="1819"/>
                  <a:pt x="49" y="1772"/>
                  <a:pt x="58" y="1719"/>
                </a:cubicBezTo>
                <a:cubicBezTo>
                  <a:pt x="66" y="1673"/>
                  <a:pt x="72" y="1617"/>
                  <a:pt x="87" y="1572"/>
                </a:cubicBezTo>
                <a:cubicBezTo>
                  <a:pt x="118" y="1477"/>
                  <a:pt x="98" y="1579"/>
                  <a:pt x="117" y="1504"/>
                </a:cubicBezTo>
                <a:cubicBezTo>
                  <a:pt x="117" y="1502"/>
                  <a:pt x="133" y="1423"/>
                  <a:pt x="136" y="1416"/>
                </a:cubicBezTo>
                <a:cubicBezTo>
                  <a:pt x="146" y="1392"/>
                  <a:pt x="164" y="1371"/>
                  <a:pt x="175" y="1348"/>
                </a:cubicBezTo>
                <a:cubicBezTo>
                  <a:pt x="182" y="1266"/>
                  <a:pt x="190" y="1225"/>
                  <a:pt x="205" y="1152"/>
                </a:cubicBezTo>
                <a:cubicBezTo>
                  <a:pt x="143" y="1063"/>
                  <a:pt x="221" y="1191"/>
                  <a:pt x="195" y="1084"/>
                </a:cubicBezTo>
                <a:cubicBezTo>
                  <a:pt x="191" y="1068"/>
                  <a:pt x="176" y="1058"/>
                  <a:pt x="166" y="1045"/>
                </a:cubicBezTo>
                <a:cubicBezTo>
                  <a:pt x="173" y="952"/>
                  <a:pt x="181" y="868"/>
                  <a:pt x="214" y="781"/>
                </a:cubicBezTo>
                <a:cubicBezTo>
                  <a:pt x="229" y="741"/>
                  <a:pt x="220" y="718"/>
                  <a:pt x="263" y="703"/>
                </a:cubicBezTo>
                <a:cubicBezTo>
                  <a:pt x="283" y="644"/>
                  <a:pt x="307" y="601"/>
                  <a:pt x="351" y="557"/>
                </a:cubicBezTo>
                <a:cubicBezTo>
                  <a:pt x="373" y="492"/>
                  <a:pt x="403" y="430"/>
                  <a:pt x="439" y="371"/>
                </a:cubicBezTo>
                <a:cubicBezTo>
                  <a:pt x="451" y="351"/>
                  <a:pt x="465" y="332"/>
                  <a:pt x="478" y="313"/>
                </a:cubicBezTo>
                <a:cubicBezTo>
                  <a:pt x="485" y="303"/>
                  <a:pt x="498" y="283"/>
                  <a:pt x="498" y="283"/>
                </a:cubicBezTo>
                <a:cubicBezTo>
                  <a:pt x="527" y="195"/>
                  <a:pt x="555" y="103"/>
                  <a:pt x="634" y="49"/>
                </a:cubicBezTo>
                <a:cubicBezTo>
                  <a:pt x="660" y="11"/>
                  <a:pt x="677" y="11"/>
                  <a:pt x="722" y="0"/>
                </a:cubicBezTo>
                <a:cubicBezTo>
                  <a:pt x="849" y="3"/>
                  <a:pt x="976" y="4"/>
                  <a:pt x="1103" y="10"/>
                </a:cubicBezTo>
                <a:cubicBezTo>
                  <a:pt x="1171" y="13"/>
                  <a:pt x="1249" y="42"/>
                  <a:pt x="1318" y="49"/>
                </a:cubicBezTo>
                <a:cubicBezTo>
                  <a:pt x="1328" y="56"/>
                  <a:pt x="1341" y="59"/>
                  <a:pt x="1347" y="69"/>
                </a:cubicBezTo>
                <a:cubicBezTo>
                  <a:pt x="1354" y="79"/>
                  <a:pt x="1376" y="157"/>
                  <a:pt x="1386" y="176"/>
                </a:cubicBezTo>
                <a:cubicBezTo>
                  <a:pt x="1376" y="318"/>
                  <a:pt x="1370" y="457"/>
                  <a:pt x="1288" y="576"/>
                </a:cubicBezTo>
                <a:cubicBezTo>
                  <a:pt x="1275" y="632"/>
                  <a:pt x="1261" y="672"/>
                  <a:pt x="1220" y="713"/>
                </a:cubicBezTo>
                <a:cubicBezTo>
                  <a:pt x="1213" y="734"/>
                  <a:pt x="1198" y="751"/>
                  <a:pt x="1191" y="772"/>
                </a:cubicBezTo>
                <a:cubicBezTo>
                  <a:pt x="1174" y="823"/>
                  <a:pt x="1190" y="820"/>
                  <a:pt x="1171" y="859"/>
                </a:cubicBezTo>
                <a:cubicBezTo>
                  <a:pt x="1143" y="915"/>
                  <a:pt x="1098" y="971"/>
                  <a:pt x="1054" y="1016"/>
                </a:cubicBezTo>
                <a:cubicBezTo>
                  <a:pt x="1043" y="1048"/>
                  <a:pt x="1040" y="1083"/>
                  <a:pt x="1025" y="1113"/>
                </a:cubicBezTo>
                <a:cubicBezTo>
                  <a:pt x="1014" y="1134"/>
                  <a:pt x="983" y="1165"/>
                  <a:pt x="966" y="1182"/>
                </a:cubicBezTo>
                <a:cubicBezTo>
                  <a:pt x="939" y="1260"/>
                  <a:pt x="908" y="1347"/>
                  <a:pt x="849" y="1406"/>
                </a:cubicBezTo>
                <a:cubicBezTo>
                  <a:pt x="827" y="1490"/>
                  <a:pt x="857" y="1403"/>
                  <a:pt x="810" y="1474"/>
                </a:cubicBezTo>
                <a:cubicBezTo>
                  <a:pt x="789" y="1506"/>
                  <a:pt x="814" y="1505"/>
                  <a:pt x="781" y="1533"/>
                </a:cubicBezTo>
                <a:cubicBezTo>
                  <a:pt x="770" y="1542"/>
                  <a:pt x="754" y="1545"/>
                  <a:pt x="742" y="1553"/>
                </a:cubicBezTo>
                <a:cubicBezTo>
                  <a:pt x="731" y="1561"/>
                  <a:pt x="722" y="1572"/>
                  <a:pt x="712" y="1582"/>
                </a:cubicBezTo>
                <a:cubicBezTo>
                  <a:pt x="691" y="1650"/>
                  <a:pt x="641" y="1715"/>
                  <a:pt x="585" y="1758"/>
                </a:cubicBezTo>
                <a:cubicBezTo>
                  <a:pt x="564" y="1826"/>
                  <a:pt x="447" y="1926"/>
                  <a:pt x="380" y="1943"/>
                </a:cubicBezTo>
                <a:cubicBezTo>
                  <a:pt x="367" y="1946"/>
                  <a:pt x="354" y="1949"/>
                  <a:pt x="341" y="1953"/>
                </a:cubicBezTo>
                <a:cubicBezTo>
                  <a:pt x="322" y="1959"/>
                  <a:pt x="283" y="1972"/>
                  <a:pt x="283" y="1972"/>
                </a:cubicBezTo>
                <a:cubicBezTo>
                  <a:pt x="278" y="1971"/>
                  <a:pt x="112" y="1955"/>
                  <a:pt x="107" y="1953"/>
                </a:cubicBezTo>
                <a:cubicBezTo>
                  <a:pt x="96" y="1949"/>
                  <a:pt x="94" y="1934"/>
                  <a:pt x="87" y="1924"/>
                </a:cubicBezTo>
                <a:cubicBezTo>
                  <a:pt x="69" y="1863"/>
                  <a:pt x="58" y="1869"/>
                  <a:pt x="58" y="1797"/>
                </a:cubicBezTo>
                <a:lnTo>
                  <a:pt x="80" y="1727"/>
                </a:lnTo>
              </a:path>
            </a:pathLst>
          </a:custGeom>
          <a:solidFill>
            <a:srgbClr val="ff5050">
              <a:alpha val="22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1628640"/>
            <a:ext cx="2376360" cy="3456000"/>
          </a:xfrm>
          <a:custGeom>
            <a:avLst/>
            <a:gdLst/>
            <a:ahLst/>
            <a:rect l="l" t="t" r="r" b="b"/>
            <a:pathLst>
              <a:path w="1664" h="2220">
                <a:moveTo>
                  <a:pt x="37" y="2211"/>
                </a:moveTo>
                <a:cubicBezTo>
                  <a:pt x="421" y="2083"/>
                  <a:pt x="0" y="2220"/>
                  <a:pt x="1189" y="2192"/>
                </a:cubicBezTo>
                <a:cubicBezTo>
                  <a:pt x="1242" y="2191"/>
                  <a:pt x="1377" y="2142"/>
                  <a:pt x="1412" y="2100"/>
                </a:cubicBezTo>
                <a:cubicBezTo>
                  <a:pt x="1466" y="2036"/>
                  <a:pt x="1454" y="1955"/>
                  <a:pt x="1514" y="1895"/>
                </a:cubicBezTo>
                <a:cubicBezTo>
                  <a:pt x="1523" y="1841"/>
                  <a:pt x="1534" y="1798"/>
                  <a:pt x="1551" y="1747"/>
                </a:cubicBezTo>
                <a:cubicBezTo>
                  <a:pt x="1561" y="1716"/>
                  <a:pt x="1579" y="1654"/>
                  <a:pt x="1579" y="1654"/>
                </a:cubicBezTo>
                <a:cubicBezTo>
                  <a:pt x="1588" y="1573"/>
                  <a:pt x="1595" y="1571"/>
                  <a:pt x="1616" y="1505"/>
                </a:cubicBezTo>
                <a:cubicBezTo>
                  <a:pt x="1625" y="1417"/>
                  <a:pt x="1641" y="1339"/>
                  <a:pt x="1662" y="1254"/>
                </a:cubicBezTo>
                <a:cubicBezTo>
                  <a:pt x="1650" y="1101"/>
                  <a:pt x="1664" y="818"/>
                  <a:pt x="1625" y="697"/>
                </a:cubicBezTo>
                <a:cubicBezTo>
                  <a:pt x="1638" y="477"/>
                  <a:pt x="1637" y="570"/>
                  <a:pt x="1625" y="288"/>
                </a:cubicBezTo>
                <a:cubicBezTo>
                  <a:pt x="1621" y="196"/>
                  <a:pt x="1620" y="50"/>
                  <a:pt x="1523" y="0"/>
                </a:cubicBezTo>
                <a:cubicBezTo>
                  <a:pt x="1455" y="16"/>
                  <a:pt x="1492" y="30"/>
                  <a:pt x="1467" y="84"/>
                </a:cubicBezTo>
                <a:cubicBezTo>
                  <a:pt x="1450" y="122"/>
                  <a:pt x="1423" y="155"/>
                  <a:pt x="1412" y="195"/>
                </a:cubicBezTo>
                <a:cubicBezTo>
                  <a:pt x="1403" y="228"/>
                  <a:pt x="1403" y="264"/>
                  <a:pt x="1393" y="297"/>
                </a:cubicBezTo>
                <a:cubicBezTo>
                  <a:pt x="1390" y="308"/>
                  <a:pt x="1379" y="315"/>
                  <a:pt x="1374" y="325"/>
                </a:cubicBezTo>
                <a:cubicBezTo>
                  <a:pt x="1347" y="379"/>
                  <a:pt x="1328" y="445"/>
                  <a:pt x="1309" y="502"/>
                </a:cubicBezTo>
                <a:cubicBezTo>
                  <a:pt x="1301" y="559"/>
                  <a:pt x="1309" y="584"/>
                  <a:pt x="1263" y="613"/>
                </a:cubicBezTo>
                <a:cubicBezTo>
                  <a:pt x="1251" y="650"/>
                  <a:pt x="1240" y="666"/>
                  <a:pt x="1207" y="687"/>
                </a:cubicBezTo>
                <a:cubicBezTo>
                  <a:pt x="1185" y="721"/>
                  <a:pt x="1179" y="780"/>
                  <a:pt x="1151" y="808"/>
                </a:cubicBezTo>
                <a:cubicBezTo>
                  <a:pt x="1141" y="818"/>
                  <a:pt x="1126" y="821"/>
                  <a:pt x="1114" y="827"/>
                </a:cubicBezTo>
                <a:cubicBezTo>
                  <a:pt x="1094" y="890"/>
                  <a:pt x="1074" y="936"/>
                  <a:pt x="1012" y="966"/>
                </a:cubicBezTo>
                <a:cubicBezTo>
                  <a:pt x="959" y="1070"/>
                  <a:pt x="1034" y="936"/>
                  <a:pt x="956" y="1031"/>
                </a:cubicBezTo>
                <a:cubicBezTo>
                  <a:pt x="950" y="1039"/>
                  <a:pt x="953" y="1051"/>
                  <a:pt x="947" y="1059"/>
                </a:cubicBezTo>
                <a:cubicBezTo>
                  <a:pt x="925" y="1087"/>
                  <a:pt x="880" y="1108"/>
                  <a:pt x="854" y="1133"/>
                </a:cubicBezTo>
                <a:cubicBezTo>
                  <a:pt x="835" y="1192"/>
                  <a:pt x="838" y="1215"/>
                  <a:pt x="780" y="1245"/>
                </a:cubicBezTo>
                <a:cubicBezTo>
                  <a:pt x="753" y="1298"/>
                  <a:pt x="770" y="1310"/>
                  <a:pt x="715" y="1338"/>
                </a:cubicBezTo>
                <a:cubicBezTo>
                  <a:pt x="704" y="1368"/>
                  <a:pt x="668" y="1421"/>
                  <a:pt x="668" y="1421"/>
                </a:cubicBezTo>
                <a:cubicBezTo>
                  <a:pt x="649" y="1481"/>
                  <a:pt x="674" y="1416"/>
                  <a:pt x="631" y="1477"/>
                </a:cubicBezTo>
                <a:cubicBezTo>
                  <a:pt x="588" y="1538"/>
                  <a:pt x="641" y="1495"/>
                  <a:pt x="585" y="1533"/>
                </a:cubicBezTo>
                <a:cubicBezTo>
                  <a:pt x="537" y="1604"/>
                  <a:pt x="602" y="1522"/>
                  <a:pt x="529" y="1570"/>
                </a:cubicBezTo>
                <a:cubicBezTo>
                  <a:pt x="509" y="1583"/>
                  <a:pt x="501" y="1610"/>
                  <a:pt x="482" y="1626"/>
                </a:cubicBezTo>
                <a:cubicBezTo>
                  <a:pt x="438" y="1663"/>
                  <a:pt x="399" y="1715"/>
                  <a:pt x="352" y="1747"/>
                </a:cubicBezTo>
                <a:cubicBezTo>
                  <a:pt x="305" y="1843"/>
                  <a:pt x="369" y="1732"/>
                  <a:pt x="297" y="1802"/>
                </a:cubicBezTo>
                <a:cubicBezTo>
                  <a:pt x="290" y="1809"/>
                  <a:pt x="293" y="1822"/>
                  <a:pt x="287" y="1830"/>
                </a:cubicBezTo>
                <a:cubicBezTo>
                  <a:pt x="277" y="1842"/>
                  <a:pt x="262" y="1849"/>
                  <a:pt x="250" y="1858"/>
                </a:cubicBezTo>
                <a:cubicBezTo>
                  <a:pt x="236" y="1902"/>
                  <a:pt x="205" y="1952"/>
                  <a:pt x="167" y="1979"/>
                </a:cubicBezTo>
                <a:cubicBezTo>
                  <a:pt x="154" y="2015"/>
                  <a:pt x="136" y="2043"/>
                  <a:pt x="111" y="2072"/>
                </a:cubicBezTo>
                <a:cubicBezTo>
                  <a:pt x="96" y="2090"/>
                  <a:pt x="73" y="2104"/>
                  <a:pt x="64" y="2127"/>
                </a:cubicBezTo>
                <a:cubicBezTo>
                  <a:pt x="53" y="2154"/>
                  <a:pt x="46" y="2183"/>
                  <a:pt x="37" y="2211"/>
                </a:cubicBezTo>
                <a:close/>
              </a:path>
            </a:pathLst>
          </a:custGeom>
          <a:gradFill rotWithShape="0">
            <a:gsLst>
              <a:gs pos="0">
                <a:srgbClr val="ccff33">
                  <a:alpha val="18039"/>
                </a:srgbClr>
              </a:gs>
              <a:gs pos="100000">
                <a:srgbClr val="5e7517">
                  <a:alpha val="62352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851280" y="2276640"/>
            <a:ext cx="4684320" cy="4031280"/>
            <a:chOff x="3851280" y="2276640"/>
            <a:chExt cx="4684320" cy="4031280"/>
          </a:xfrm>
        </p:grpSpPr>
        <p:sp>
          <p:nvSpPr>
            <p:cNvPr id="134" name=""/>
            <p:cNvSpPr/>
            <p:nvPr/>
          </p:nvSpPr>
          <p:spPr>
            <a:xfrm>
              <a:off x="3851280" y="2621880"/>
              <a:ext cx="4684320" cy="36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7080" y="45802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36280" y="31978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9320" y="53866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2280" y="53866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64520" y="4465440"/>
              <a:ext cx="102420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5320" y="31978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1440" y="31978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3080" y="4349880"/>
              <a:ext cx="117144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022000" y="4349880"/>
              <a:ext cx="117072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1432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9308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3880" y="2737440"/>
              <a:ext cx="102492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14680" y="3312720"/>
              <a:ext cx="1755720" cy="1612080"/>
              <a:chOff x="5314680" y="3312720"/>
              <a:chExt cx="1755720" cy="1612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31468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19236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61200" y="3773880"/>
                <a:ext cx="0" cy="80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61200" y="4579560"/>
                <a:ext cx="11703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31560" y="3658320"/>
                <a:ext cx="43884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192360" y="3312720"/>
                <a:ext cx="87804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460840" y="3313080"/>
                <a:ext cx="731160" cy="46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51280" y="2276640"/>
              <a:ext cx="4684320" cy="34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Hi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920" y="44280"/>
            <a:ext cx="3816000" cy="3744360"/>
            <a:chOff x="34920" y="44280"/>
            <a:chExt cx="3816000" cy="3744360"/>
          </a:xfrm>
        </p:grpSpPr>
        <p:sp>
          <p:nvSpPr>
            <p:cNvPr id="157" name=""/>
            <p:cNvSpPr/>
            <p:nvPr/>
          </p:nvSpPr>
          <p:spPr>
            <a:xfrm>
              <a:off x="34920" y="365040"/>
              <a:ext cx="3816000" cy="342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080" y="2077200"/>
              <a:ext cx="83412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920" y="900000"/>
              <a:ext cx="83412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24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160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6920" y="207720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9080" y="90000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5920" y="47232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600" y="1328040"/>
              <a:ext cx="71532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42920" y="1328040"/>
              <a:ext cx="715320" cy="64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3280" y="1970280"/>
              <a:ext cx="95364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88200" y="1970280"/>
              <a:ext cx="9543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227240" y="1970280"/>
              <a:ext cx="71532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3280" y="1970280"/>
              <a:ext cx="59580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20" y="44280"/>
              <a:ext cx="3816000" cy="3207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Tienda de Descu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03880" y="900000"/>
              <a:ext cx="834840" cy="1818720"/>
              <a:chOff x="1703880" y="900000"/>
              <a:chExt cx="834840" cy="181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04240" y="1969920"/>
                <a:ext cx="714960" cy="74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419200" y="2103840"/>
                <a:ext cx="119160" cy="61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42920" y="900000"/>
                <a:ext cx="595800" cy="12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920" y="900000"/>
                <a:ext cx="0" cy="10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823040" y="900000"/>
                <a:ext cx="119160" cy="9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03880" y="1862640"/>
                <a:ext cx="1191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687960" y="4952880"/>
            <a:ext cx="21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Adaptado de: McKinsey &amp;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476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fecto “Cliente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0" y="1268280"/>
            <a:ext cx="3887280" cy="4752720"/>
            <a:chOff x="4572000" y="1268280"/>
            <a:chExt cx="3887280" cy="4752720"/>
          </a:xfrm>
        </p:grpSpPr>
        <p:sp>
          <p:nvSpPr>
            <p:cNvPr id="183" name=""/>
            <p:cNvSpPr/>
            <p:nvPr/>
          </p:nvSpPr>
          <p:spPr>
            <a:xfrm>
              <a:off x="4572000" y="126828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68280"/>
              <a:ext cx="3816000" cy="1152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3280" y="486864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414936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72000" y="242064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68360" y="1374840"/>
            <a:ext cx="38163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quiere entender que es lo que lleva a un consumidor preferir una marca sobr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arcas son descritas por atributos, o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Beneficios son las consecuencias que percibe el consumidor le producen los atributo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valores son emociones y necesidades esenciales de l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40" y="33336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: cómo es una entrevist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Usted dijo que  BCC era importante para usted. Porqué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Consumir lo menos posible. Causa menos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odría explicarme porqué le importa a usted generar poca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Hay que preocuparse del aire.  Tengo que hacer mi aporte. Todos debiéramos procuparn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Y si no se preocupa?, que le suced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Siento que es un problema ético. Todos tenemos una obligación de no contaminar por la futuras genera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 Pero porqué es importante ésto para usted? Que gana con és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e hace sentir bien!!. Soy más feliz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or ejemplo se ha determinado que el bajo consumo de combustible (BCC) es el atributo más importante para una persona al comprar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6021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jemplo de  R. Kennet de KPA Lt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79640" y="331920"/>
            <a:ext cx="3527280" cy="6192360"/>
            <a:chOff x="1979640" y="331920"/>
            <a:chExt cx="3527280" cy="6192360"/>
          </a:xfrm>
        </p:grpSpPr>
        <p:sp>
          <p:nvSpPr>
            <p:cNvPr id="194" name=""/>
            <p:cNvSpPr/>
            <p:nvPr/>
          </p:nvSpPr>
          <p:spPr>
            <a:xfrm>
              <a:off x="2554200" y="5587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Atrib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umode Combust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2560" y="4363920"/>
              <a:ext cx="295308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Menos p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11280" y="1700280"/>
              <a:ext cx="2952720" cy="936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Obligación c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generación Sigu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8200" y="331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Va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Sentirse 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9640" y="547560"/>
              <a:ext cx="215640" cy="5760720"/>
            </a:xfrm>
            <a:prstGeom prst="upArrow">
              <a:avLst>
                <a:gd name="adj1" fmla="val 50000"/>
                <a:gd name="adj2" fmla="val 667863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Tengo que hacer mi a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0920" y="2276640"/>
            <a:ext cx="1655280" cy="2304720"/>
            <a:chOff x="250920" y="2276640"/>
            <a:chExt cx="1655280" cy="2304720"/>
          </a:xfrm>
        </p:grpSpPr>
        <p:sp>
          <p:nvSpPr>
            <p:cNvPr id="202" name=""/>
            <p:cNvSpPr/>
            <p:nvPr/>
          </p:nvSpPr>
          <p:spPr>
            <a:xfrm>
              <a:off x="250920" y="2276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" y="314928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1160" y="4022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17360" y="367380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17360" y="283536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156360" y="5734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CC es muy importante para 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4360" y="4508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r lo menos posible. Causa menos p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62560" y="314172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ay que preocuparse del aire.  Tengo que hacer mi aporte. Todos debiéramos procupa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1700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ento que es un problema ético. Todos tenemos una obligación de no contaminar por la futuras ge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76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 hace sentir bien!!. Soy más fe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292720" y="764640"/>
            <a:ext cx="7192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92360" y="2276640"/>
            <a:ext cx="431640" cy="7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363640" y="3573360"/>
            <a:ext cx="863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435640" y="4868640"/>
            <a:ext cx="79200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8720" y="6093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43040" y="115920"/>
            <a:ext cx="58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de Laddering: Buscar información en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63440" y="4289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sla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120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36360" y="3281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0" y="5873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3640" y="762120"/>
            <a:ext cx="8477640" cy="5563080"/>
            <a:chOff x="323640" y="762120"/>
            <a:chExt cx="8477640" cy="5563080"/>
          </a:xfrm>
        </p:grpSpPr>
        <p:sp>
          <p:nvSpPr>
            <p:cNvPr id="223" name=""/>
            <p:cNvSpPr/>
            <p:nvPr/>
          </p:nvSpPr>
          <p:spPr>
            <a:xfrm>
              <a:off x="42321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óm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2000" y="4100400"/>
              <a:ext cx="99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uedo hacer más cosas / activida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70600" y="5332320"/>
              <a:ext cx="117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horro 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3440" y="529740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ayores conocimien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443640" y="2274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2000" y="27068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oy más compet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48400" y="3676680"/>
              <a:ext cx="1300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ejores traba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101080" y="49370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3440" y="44956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omo mejores decis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70600" y="198612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tosufic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101080" y="4144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78200" y="29034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ener tema de convers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2200" y="1968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y interes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6473520" y="3209400"/>
              <a:ext cx="428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38560" y="3336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43280" y="7621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oest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698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ri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00360" y="6018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onó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03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56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33480" y="453240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tisfacer curiosidad e inquietu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56000" y="4505400"/>
              <a:ext cx="99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me tengo que trasl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0360" y="53704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ás barato que la forma tradi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906560" y="5082840"/>
              <a:ext cx="14292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878360" y="50101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82920" y="3929040"/>
              <a:ext cx="12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t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338560" y="4245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7824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0600" y="461340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formación gratu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338560" y="2688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4500360" y="3641760"/>
              <a:ext cx="21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35280" y="32814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antienes archivos electrón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378240" y="5081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492360" y="36417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96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292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ibert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86680" y="76212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torealizació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5280" y="464976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aerse, Entretene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2560" y="5261040"/>
              <a:ext cx="180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ocer culturas, lugares, cosas interesa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1114200" y="50101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332000" y="4578120"/>
              <a:ext cx="1443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14560" y="42894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elaja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23640" y="457812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0200" y="29941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quil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900000" y="1120680"/>
              <a:ext cx="21600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62200" y="2400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ulto/Seg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08000" y="145260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ena ima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38560" y="22572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067280" y="2777760"/>
              <a:ext cx="219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71640" y="112032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5462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5928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600" y="3929040"/>
              <a:ext cx="115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tienes que imprim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6156360" y="1120680"/>
              <a:ext cx="216000" cy="86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101080" y="328104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1234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1640" y="5189400"/>
              <a:ext cx="129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igo todo en un solo lug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0200" y="3605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nos st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985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3840" y="241776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90560" y="3668760"/>
              <a:ext cx="12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prender /Enriquecimiento intelect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7600" y="234468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oy más organiz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54192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96360" y="21286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pers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51640" y="2768760"/>
              <a:ext cx="129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nocimiento profes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884720" y="1120680"/>
              <a:ext cx="1429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35280" y="1589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ntirme bi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087800" y="20574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800520" y="112032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101080" y="25653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378240" y="44337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930920" y="42894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98560" y="27046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82920" y="1697040"/>
              <a:ext cx="142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516720" y="472104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08720" y="537048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56577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000" y="4002120"/>
              <a:ext cx="21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24000" y="400212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4422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Ejemplo de Larián Hernández, IESA , Venezu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85800"/>
            <a:ext cx="807732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RTAMIENTO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762120"/>
            <a:ext cx="76197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QUEDA DE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85800"/>
            <a:ext cx="83055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TEORIAS CON INFLUENCIA EN LA COMPRENSION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762120"/>
            <a:ext cx="83055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76212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enci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200400"/>
            <a:ext cx="990720" cy="2743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9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200400"/>
            <a:ext cx="838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971800" y="1371600"/>
            <a:ext cx="5181480" cy="4572000"/>
            <a:chOff x="2971800" y="1371600"/>
            <a:chExt cx="5181480" cy="4572000"/>
          </a:xfrm>
        </p:grpSpPr>
        <p:sp>
          <p:nvSpPr>
            <p:cNvPr id="63" name=""/>
            <p:cNvSpPr/>
            <p:nvPr/>
          </p:nvSpPr>
          <p:spPr>
            <a:xfrm>
              <a:off x="2971800" y="13716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ECES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22860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BUSQUED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27672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MAC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RCEP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426708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EFER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52578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CI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2438280"/>
              <a:ext cx="990720" cy="34290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5638680"/>
              <a:ext cx="1447560" cy="1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4952880"/>
              <a:ext cx="1440" cy="304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714640" y="36576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714640" y="464832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714640" y="27432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64" idx="2"/>
              <a:endCxn id="65" idx="0"/>
            </p:cNvCxnSpPr>
            <p:nvPr/>
          </p:nvCxnSpPr>
          <p:spPr>
            <a:xfrm>
              <a:off x="4343040" y="2971440"/>
              <a:ext cx="1080" cy="305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5" name=""/>
            <p:cNvCxnSpPr>
              <a:stCxn id="63" idx="2"/>
              <a:endCxn id="64" idx="0"/>
            </p:cNvCxnSpPr>
            <p:nvPr/>
          </p:nvCxnSpPr>
          <p:spPr>
            <a:xfrm>
              <a:off x="4343040" y="2057040"/>
              <a:ext cx="1080" cy="2293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6" name=""/>
            <p:cNvCxnSpPr>
              <a:stCxn id="65" idx="2"/>
              <a:endCxn id="66" idx="0"/>
            </p:cNvCxnSpPr>
            <p:nvPr/>
          </p:nvCxnSpPr>
          <p:spPr>
            <a:xfrm>
              <a:off x="4343040" y="3962520"/>
              <a:ext cx="1080" cy="30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77" name=""/>
          <p:cNvSpPr txBox="1"/>
          <p:nvPr/>
        </p:nvSpPr>
        <p:spPr>
          <a:xfrm>
            <a:off x="1219320" y="457200"/>
            <a:ext cx="6162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ceso de Decisión de Compra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81080" y="2286000"/>
            <a:ext cx="6629400" cy="4267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286000"/>
            <a:ext cx="0" cy="4267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49568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59800" y="16002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0200" y="160020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93960" y="2022480"/>
            <a:ext cx="20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44956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0120" y="228600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4600" y="2286000"/>
            <a:ext cx="29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7880" y="449568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00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004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410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410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160" y="33177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3520" y="32418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80988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05720" y="365724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42680" y="39243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3560" y="39625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0840" y="56037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60199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58672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0720" y="5583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1760" y="601992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4920" y="601992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ción del Proceso 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685800"/>
            <a:ext cx="70102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VESTIGACION DE LAS NECE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Detergentes con 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os consumidores tienes NECESIDADES que deben satisfacer a través de sus compr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án las Necesidades bás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limen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ranspor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edicarse…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cademico</cp:lastModifiedBy>
  <cp:lastPrinted>2000-09-11T22:03:08Z</cp:lastPrinted>
  <dcterms:modified xsi:type="dcterms:W3CDTF">2007-07-31T15:19:10Z</dcterms:modified>
  <cp:revision>153</cp:revision>
  <dc:subject/>
  <dc:title>Sin título de diapositiva</dc:title>
</cp:coreProperties>
</file>