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E573-1C5C-4AEC-B72A-24FA11A961A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DA4B-3E09-4C39-8339-A4E6D02334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F792-F6A2-44CC-AEE7-7B09D466E2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54D4-1C69-4540-83F3-3CD6C5975F4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67BC-56FC-4695-9FB7-26DE006BE2E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8C9F-276A-416F-B34C-DAC25EF8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F82-47E0-4FFF-B354-7434C2C6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5D8-F1E5-4A52-AFF0-68B28F45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BAF8-1B09-4231-A619-5C682C2DE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A5BF-666A-4D8A-A29F-B762A2AF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5E28-3582-4714-8D53-E9605769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9AA2-1A1E-44A9-954A-FA08D0E1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6F58-2A03-4190-9A93-FAEA1D6F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E644-A380-40EA-85C5-9A2FD097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46BD-F803-4A15-BF55-8A822D0C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56E5-2C1A-4BE7-A06B-976F6B5E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0E7-1337-42D2-99F7-6791259C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1128-13C6-4316-8A8D-E294E884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065F-8572-4532-97F3-85ABF943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1D27-C47B-4211-A10C-AEC4F888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3CEE-3363-4B8B-AC2B-7BCBA853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952A-8908-4C4D-99A7-F0CA6875A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33F-95E7-4852-81D0-4D7A0329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C56-7940-4B0C-B8E7-9AE225CD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03E-74E1-49F3-9A85-96C3E298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687-7D87-4C74-8E64-F4737F5A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B3BD-ED96-43C1-9E94-C147E50C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0DB6-0E70-4E73-A06B-E6BA9E92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E36D-67A3-4157-8C18-B61AE64F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72C4-3276-4850-8B65-70D6B4110DE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8C5E-8370-42D7-B7C8-D3CA7941FE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ueba de Conceptos con Análisis Conju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2340000" y="3716280"/>
            <a:ext cx="6095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uxiliar: Paola Nahum 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Basado en “Adventures in Conjoint Analysis”, Wharton School, Paul Green y Abba Krieger, Marzo 2004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puntes M. Bosc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XILIAR 2: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0066"/>
                </a:solidFill>
                <a:latin typeface="Tahoma"/>
              </a:rPr>
              <a:t>¿Cómo funciona AC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Se varían las características del producto (variables independientes) para construir muchos (usualmente 12 o más) conceptos de productos (productos hipotéticos) .</a:t>
            </a:r>
            <a:br>
              <a:rPr sz="24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Los encuestados le ponen nota o rankean esos concep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Con las evaluaciones de los sujetos estimamos cual es el “valor parcial ” (utilidad) de cada atribu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(Esto se logra “regresionando” la variable dependiente (input del sujeto) contra la descripción en atributos del perfil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Un atributo de mayor importancia : el preci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valor se modela como una función matemática multiatributada.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f (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, ..........., 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n</a:t>
            </a:r>
            <a:r>
              <a:rPr b="0" lang="es-ES_tradnl" sz="3200" spc="-1" strike="noStrike" baseline="30000">
                <a:solidFill>
                  <a:srgbClr val="40458c"/>
                </a:solidFill>
                <a:latin typeface="Tahoma"/>
              </a:rPr>
              <a:t>i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La forma más usada es la llamad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Valor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40458c"/>
                </a:solidFill>
                <a:latin typeface="Tahoma"/>
              </a:rPr>
              <a:t>Función de valor parci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 algn="ctr">
              <a:lnSpc>
                <a:spcPct val="90000"/>
              </a:lnSpc>
              <a:spcBef>
                <a:spcPts val="799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1" lang="es-ES_tradnl" sz="4000" spc="-1" strike="noStrike">
                <a:solidFill>
                  <a:srgbClr val="40458c"/>
                </a:solidFill>
                <a:latin typeface="Symbol"/>
                <a:ea typeface="Symbol"/>
              </a:rPr>
              <a:t>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jk 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*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1" lang="es-ES_tradnl" sz="3200" spc="-1" strike="noStrike" baseline="-25000">
                <a:solidFill>
                  <a:srgbClr val="40458c"/>
                </a:solidFill>
                <a:latin typeface="Tahoma"/>
              </a:rPr>
              <a:t>ijk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     en 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jk 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 si el atributo j está presente al nivel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k en el producto 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           </a:t>
            </a: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0 en caso contrario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w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jk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=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mportancia relativa del nivel k del atributo 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110000"/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40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i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=</a:t>
            </a:r>
            <a:r>
              <a:rPr b="0" lang="es-ES_tradnl" sz="32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alor del producto i para el consumid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"/>
          <p:cNvSpPr/>
          <p:nvPr/>
        </p:nvSpPr>
        <p:spPr>
          <a:xfrm>
            <a:off x="179280" y="5734080"/>
            <a:ext cx="86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La estimación de estas funciones se realiza mediante técnicas estadística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79640" y="2492280"/>
            <a:ext cx="287280" cy="1368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5562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Concepto de Niv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"/>
          <p:cNvSpPr/>
          <p:nvPr/>
        </p:nvSpPr>
        <p:spPr>
          <a:xfrm>
            <a:off x="1143000" y="2476440"/>
            <a:ext cx="2057400" cy="171468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464832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029200" y="2571840"/>
            <a:ext cx="2057400" cy="1714320"/>
          </a:xfrm>
          <a:prstGeom prst="cube">
            <a:avLst>
              <a:gd name="adj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676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rc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752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amañ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nd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447920" y="2514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Chev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19520" y="2871720"/>
            <a:ext cx="282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81480" y="26668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57800" y="342900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 cilindr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32004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48120" y="4724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15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718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18000" y="525780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 Producto = 1 nivel de cada atribu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5120" y="2666880"/>
            <a:ext cx="1904760" cy="3429000"/>
            <a:chOff x="1905120" y="2666880"/>
            <a:chExt cx="1904760" cy="3429000"/>
          </a:xfrm>
        </p:grpSpPr>
        <p:sp>
          <p:nvSpPr>
            <p:cNvPr id="269" name=""/>
            <p:cNvSpPr/>
            <p:nvPr/>
          </p:nvSpPr>
          <p:spPr>
            <a:xfrm>
              <a:off x="1905120" y="2666880"/>
              <a:ext cx="1904760" cy="3429000"/>
            </a:xfrm>
            <a:prstGeom prst="cube">
              <a:avLst>
                <a:gd name="adj" fmla="val 25000"/>
              </a:avLst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05120" y="41148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5120" y="5029200"/>
              <a:ext cx="1447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276720" y="3428640"/>
              <a:ext cx="53316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52680" y="4266720"/>
              <a:ext cx="457200" cy="8384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205740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For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4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4 cil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334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$20.00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gunas cosas básica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regunta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Qué prefiere usted?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. . 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210 Hp           o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140 Hp</a:t>
            </a:r>
            <a:br>
              <a:rPr sz="2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17 MPG                                    28 MPG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 escoge el de la izq., prefiere potencia.  Si elige el de la derecha, sus preferencias van por el ahorro de combusti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o esta forma de preguntarlo es mej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JEMPLO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2438280"/>
            <a:ext cx="6858000" cy="1981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PLANES TELEFÓNIC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979640" y="1773360"/>
          <a:ext cx="5335560" cy="1606320"/>
        </p:xfrm>
        <a:graphic>
          <a:graphicData uri="http://schemas.openxmlformats.org/drawingml/2006/table">
            <a:tbl>
              <a:tblPr/>
              <a:tblGrid>
                <a:gridCol w="674640"/>
                <a:gridCol w="2181240"/>
                <a:gridCol w="1434960"/>
                <a:gridCol w="1044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Red fija y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 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inut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 mensaje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468360" y="3860640"/>
            <a:ext cx="79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 perfiles posibles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4653000"/>
          <a:ext cx="8528040" cy="819000"/>
        </p:xfrm>
        <a:graphic>
          <a:graphicData uri="http://schemas.openxmlformats.org/drawingml/2006/table">
            <a:tbl>
              <a:tblPr/>
              <a:tblGrid>
                <a:gridCol w="3120840"/>
                <a:gridCol w="254160"/>
                <a:gridCol w="253800"/>
                <a:gridCol w="254160"/>
                <a:gridCol w="253800"/>
                <a:gridCol w="254160"/>
                <a:gridCol w="253800"/>
                <a:gridCol w="254160"/>
                <a:gridCol w="254160"/>
                <a:gridCol w="253800"/>
                <a:gridCol w="312120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5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20 Min. Red fija y Móviles misma 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70 Min. Móviles otras marca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9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30 Mensajes a cualquier Móvi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179280" y="5516640"/>
            <a:ext cx="8964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recomendable que al comparar perfiles, uno de estos no supere en todos los atributos al otro, para no producir una respuesta obvia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Diseño del Estudio a realiz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¿Qué atributos seleccionar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lo más importante para realizar un buen análisis posterior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n del objetivo del estudi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.: Si objetivo es intentar determinar qué atributos un producto debería te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=&gt; Incluyo sólo los atributos sobre los cuales voy a actua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Precio y marca =&gt; Incluir esos atributos (Pero deben ser independient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un Concepto o Perfil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2286000"/>
            <a:ext cx="7696080" cy="34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La descripción de un producto o servicio como un conjunto de característic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etapa anterior al “prototipo” usual en el diseño de producto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Generalmente una descripción multiatributada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Cuántos atributo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pende de ciertos factor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Objetivos del estu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Tiempo disponible para entrevista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Forma de AC que se utiliza para recolectar la inform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uchos atributos proveen de exceso de información a los entrevistados (6 a 8 es ideal en el caso de las “Tarjetas”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CA (Software de entrevista) acepta 30 atributos, pues como es guiado, sólo hace preguntas parciales, usando entre 6 y 8 de los atributos tot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Interacción entre atributo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udios asumen la no existencia de interacción entr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mpíricamente, se ha encontrado que muy pocos atributos interactúan entre s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xcepción important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ecio y Marc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Solución: Atributo compue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¿Qué niveles seleccionar?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 deben ser exclusiv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producto debe estar asociado a niveles únic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NO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se puede aplicar dos niveles de un atributo a un mismo produ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posible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interpolar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entre niveles, pero no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extrapolar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Rango de niveles debe ser amplio como para cubrir </a:t>
            </a:r>
            <a:r>
              <a:rPr b="0" lang="es-ES_tradnl" sz="3200" spc="-1" strike="noStrike">
                <a:solidFill>
                  <a:srgbClr val="ecd882"/>
                </a:solidFill>
                <a:latin typeface="Tahoma"/>
              </a:rPr>
              <a:t>TODO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los escenarios posib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Número de Niveles por atributo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spectos a tener en cuent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entrevista más extens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ás niveles implican medición más detalla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enos niveles =&gt; Lo contrar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ha comprobado que más niveles para un mismo intervalo =&gt; una mayor importancia relativa de ese atribu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d882"/>
                </a:solidFill>
                <a:latin typeface="Tahoma"/>
              </a:rPr>
              <a:t>Efecto se minimiza asignando igual número de niveles para todos los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Implementación del Estudio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Tamaño de la muestra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Nivel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dividual (Ej.: Preferencias para casa nuev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gmento de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Mercado comple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segmentos: Muestra se estabiliza con un Nº superior a 30-5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so de múltiples segmentos: Entre 200 y 400 entrevist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100" spc="-1" strike="noStrike">
                <a:solidFill>
                  <a:srgbClr val="660066"/>
                </a:solidFill>
                <a:latin typeface="Tahoma"/>
              </a:rPr>
              <a:t>Modalidad de recopilación de datos: Entrevistas</a:t>
            </a:r>
            <a:endParaRPr b="0" lang="en-US" sz="41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Todos los mecanismos de recolección son factibles, excepto las entrevistas telefónic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Hay 3 principales modalidad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1.- Ranking de trade-offs por pares de atribut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2.- Comparación de tarjet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3.- Análisis conjunto adaptativ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ide al entrevistado llenar una matriz con preferencias por pares de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jemplo de las pelotas de Golf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Alcance, duración, precio =&gt; 3 combinaciones a pregunt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Duración (Precio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lcance - Precio (Duración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uración - Precio (Alcance constant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228600" y="5257800"/>
            <a:ext cx="5715000" cy="13716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5943240" y="5867280"/>
            <a:ext cx="762120" cy="0"/>
          </a:xfrm>
          <a:prstGeom prst="line">
            <a:avLst/>
          </a:prstGeom>
          <a:ln w="4428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5257800"/>
            <a:ext cx="2057400" cy="1295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Matriz a llenar con preferencia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1.- Ranking de trade-offs por pares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Mecanismos de análisis matemático de matrices permiten obtener  “utilidades relativa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Procedimientos iterativos de ajuste con medidas de error que se deben minimizar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Modelo asume que atributos son independient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952880"/>
            <a:ext cx="121932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4952880"/>
            <a:ext cx="1219320" cy="60984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05520" y="4648320"/>
            <a:ext cx="2514600" cy="53316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No redundant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05520" y="5257800"/>
            <a:ext cx="251460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Sin interac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57913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Contra-ejemplo: Rojo - Negro vs. Limousine y Convert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2.- Comparación de tarjetas: Mecanismo de Ordena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un mecanismo realist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Genera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erfiles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o </a:t>
            </a:r>
            <a:r>
              <a:rPr b="0" i="1" lang="es-ES_tradnl" sz="3200" spc="-1" strike="noStrike">
                <a:solidFill>
                  <a:srgbClr val="ecd882"/>
                </a:solidFill>
                <a:latin typeface="Tahoma"/>
              </a:rPr>
              <a:t>productos ti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do hace ranking de esos perfi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5105520" cy="3047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819520" y="3657240"/>
            <a:ext cx="0" cy="68580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3657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2120" y="4038480"/>
            <a:ext cx="1295280" cy="5335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Perfi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600" y="5257800"/>
            <a:ext cx="1828800" cy="9907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rial"/>
              </a:rPr>
              <a:t>Atributos y nivel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4495680"/>
            <a:ext cx="0" cy="190512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64008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19520" y="6172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9436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54864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502920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19520" y="4495680"/>
            <a:ext cx="533160" cy="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57400" y="5715000"/>
            <a:ext cx="7621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057400"/>
            <a:ext cx="73911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Una técnica de estimación de funciones de preferencia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Se asume que las preferencias por un producto se descompone en las preferencias por las distintas características  del producto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Se desarrolla sobre perfiles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ahoma"/>
              </a:rPr>
              <a:t>Nºde tarjetas Min = NºNiveles - NºAtributos +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2362320"/>
            <a:ext cx="914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s-ES_tradnl" sz="3200" spc="-1" strike="noStrike">
                <a:solidFill>
                  <a:srgbClr val="ecd882"/>
                </a:solidFill>
                <a:latin typeface="Tahoma"/>
              </a:rPr>
              <a:t>Modelamiento por Elección Discreta (DCM)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 pregunta al entrevistado, para cada escenario, qué producto elegiría, y con que nivel de preferencia según una escala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ahoma"/>
              </a:rPr>
              <a:t>Ejemplo: Cadenas de hotele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Se elige de entre un paquete de opcion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ahoma"/>
              </a:rPr>
              <a:t>Es un proceso iterativo, con diferentes escenario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2.- Comparación de tarjetas: Modelamiento por Elección Discret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153280" cy="4952880"/>
          </a:xfrm>
          <a:prstGeom prst="rect">
            <a:avLst/>
          </a:prstGeom>
          <a:ln w="9360">
            <a:solidFill>
              <a:srgbClr val="ecd88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3.- Análisis conjunto adapt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Cada concepto muestra perfiles de no más de 5 atributos (Casi siempre, son 2 ó 3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Éstos son </a:t>
            </a:r>
            <a:r>
              <a:rPr b="0" i="1" lang="es-ES_tradnl" sz="3200" spc="-1" strike="noStrike">
                <a:solidFill>
                  <a:srgbClr val="40458c"/>
                </a:solidFill>
                <a:latin typeface="Tahoma"/>
              </a:rPr>
              <a:t>perfiles parci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ntrevista es sobre perfiles más relevant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Se pueden incluir hasta 30 atribu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 fácilmente realizable en un software, aunque no hay much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ecd882"/>
                </a:solidFill>
                <a:latin typeface="Tahoma"/>
              </a:rPr>
              <a:t>Análisis de los Datos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nterpretación de las Utilidad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0 = Menos preferi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ecd882"/>
                </a:solidFill>
                <a:latin typeface="Tahoma"/>
              </a:rPr>
              <a:t>=/=&gt; Utilidad = 0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El número en sí NO tiene significado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GAPS sí representan ganancias al cambiar niveles de atributo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SzPct val="1207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ecd882"/>
                </a:solidFill>
                <a:latin typeface="Tahoma"/>
              </a:rPr>
              <a:t>Utilidades sólo son válidas relativas a otras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3429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relativa de atribu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5981760" cy="44956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H="1">
            <a:off x="5181480" y="2971800"/>
            <a:ext cx="106704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48520" y="2286000"/>
            <a:ext cx="26668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(100 x 57)/ (57+84+46+47+78) = 18.30%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181120" y="4571640"/>
            <a:ext cx="1752840" cy="60948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0" y="4572000"/>
            <a:ext cx="1981080" cy="12952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Impacto en la decisión de compr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181120" y="5334120"/>
            <a:ext cx="1676520" cy="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181120" y="5486400"/>
            <a:ext cx="1676520" cy="685800"/>
          </a:xfrm>
          <a:prstGeom prst="line">
            <a:avLst/>
          </a:prstGeom>
          <a:ln w="47520">
            <a:solidFill>
              <a:srgbClr val="ecd8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8600" y="1523880"/>
            <a:ext cx="457200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Arial"/>
              </a:rPr>
              <a:t>Relativos a atributos y nive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800600" y="1752480"/>
            <a:ext cx="304920" cy="0"/>
          </a:xfrm>
          <a:prstGeom prst="line">
            <a:avLst/>
          </a:prstGeom>
          <a:ln w="475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1752480"/>
            <a:ext cx="0" cy="533520"/>
          </a:xfrm>
          <a:prstGeom prst="line">
            <a:avLst/>
          </a:prstGeom>
          <a:ln w="475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66"/>
                </a:solidFill>
                <a:latin typeface="Tahoma"/>
              </a:rPr>
              <a:t>Importancia de segmentar resultados, ejempl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4920" y="1371600"/>
            <a:ext cx="2743200" cy="12193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Se puede descubrir información importante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2743200"/>
            <a:ext cx="2362320" cy="11430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Notar diferencia en preferencia de atributo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rot="5400000">
            <a:off x="739440" y="4076640"/>
            <a:ext cx="1066680" cy="838440"/>
          </a:xfrm>
          <a:prstGeom prst="rightArrow">
            <a:avLst>
              <a:gd name="adj1" fmla="val 50000"/>
              <a:gd name="adj2" fmla="val 31805"/>
            </a:avLst>
          </a:prstGeom>
          <a:solidFill>
            <a:srgbClr val="00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920" y="5105520"/>
            <a:ext cx="2666880" cy="152388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40458c"/>
                </a:solidFill>
                <a:latin typeface="Arial"/>
              </a:rPr>
              <a:t>Hay que tener en cuenta el nivel de segmentación para el cual se harán recomendaciones</a:t>
            </a:r>
            <a:endParaRPr b="0" lang="en-US" sz="21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916360" y="1628640"/>
          <a:ext cx="6095880" cy="4943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Tod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Segmento 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tribut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Nivel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Utilida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Import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otenci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3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,5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,0 HP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ncho de corte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4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7''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Garantí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 añ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8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 años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Marc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Precio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1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22%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0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$25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Disponibilidad a pagar por atributo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Una forma de estimar la disponibilidad a pagar por pasar de un nivel de un atributo, a otro que proporciona mayor utilidad al individuo, se muestra en el siguiente ejempl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3276720" y="1341360"/>
          <a:ext cx="2423880" cy="5024520"/>
        </p:xfrm>
        <a:graphic>
          <a:graphicData uri="http://schemas.openxmlformats.org/drawingml/2006/table">
            <a:tbl>
              <a:tblPr/>
              <a:tblGrid>
                <a:gridCol w="1438200"/>
                <a:gridCol w="9856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si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Precio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"/>
          <p:cNvSpPr/>
          <p:nvPr/>
        </p:nvSpPr>
        <p:spPr>
          <a:xfrm>
            <a:off x="250920" y="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jemplo Hoteles: atributos y niveles considerados relevantes en este ejemplo son los siguiente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044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43200" y="1447920"/>
            <a:ext cx="900792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40458c"/>
                </a:solidFill>
                <a:latin typeface="Comic Sans MS"/>
              </a:rPr>
              <a:t>La primera comparación podría se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1.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xprese preferecias entre pares de produc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(hoteles- cuartos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125 cuartos, 2 piso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600 cuartos, 12 pis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lobby pequeño,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gran  lobby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salas de reuniones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varias salas de reun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iscina al aire libre, pequeña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Sin Pisci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moderno, atractivo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Edificio antiguo señorial, atractiv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80 doble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Precio: $110 dobl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4------3------2------1------0------1------2------3------4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Prefiere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Indiferente                                                 Prefi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Fuertemente 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40458c"/>
                </a:solidFill>
                <a:latin typeface="Comic Sans MS"/>
              </a:rPr>
              <a:t>             Fuertem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9280" y="2997360"/>
            <a:ext cx="381636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6000" y="2997360"/>
            <a:ext cx="4176720" cy="18716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3200" spc="-1" strike="noStrike">
                <a:solidFill>
                  <a:srgbClr val="660066"/>
                </a:solidFill>
                <a:latin typeface="Tahoma"/>
              </a:rPr>
              <a:t>Ejemplo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de </a:t>
            </a:r>
            <a:r>
              <a:rPr b="0" lang="es-ES" sz="3200" spc="-1" strike="noStrike">
                <a:solidFill>
                  <a:srgbClr val="660066"/>
                </a:solidFill>
                <a:latin typeface="Tahoma"/>
              </a:rPr>
              <a:t>Productos y sus Característica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Tarjeta de Crédito:</a:t>
            </a:r>
            <a:br>
              <a:rPr sz="2800"/>
            </a:br>
            <a:br>
              <a:rPr sz="2800"/>
            </a:b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Tasa de Interés + Cargo Anual + Límite de crédi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0458c"/>
                </a:solidFill>
                <a:latin typeface="Tahoma"/>
              </a:rPr>
              <a:t>Plan de Salu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40458c"/>
                </a:solidFill>
                <a:latin typeface="Tahoma"/>
              </a:rPr>
              <a:t>Marca + Nivel de Reembolso en Hospitalización+ en Ambulatorio+ Exámenes Médicos +Límites+ Limitaciones a la libre el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044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46280"/>
            <a:ext cx="868680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2. Luego de analizar las respuestas del los individuos en las diversas comparaciones, el  Modelo infiere las preferencias (“utilidades”) para varios atributos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7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1500" spc="-1" strike="noStrike">
                <a:solidFill>
                  <a:srgbClr val="40458c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03280" y="2225520"/>
          <a:ext cx="6416640" cy="4399200"/>
        </p:xfrm>
        <a:graphic>
          <a:graphicData uri="http://schemas.openxmlformats.org/drawingml/2006/table">
            <a:tbl>
              <a:tblPr/>
              <a:tblGrid>
                <a:gridCol w="108288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es de los encuestad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ortancia relativ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7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9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%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6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o total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90440" y="2286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ANÁLISIS CONJU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343080" y="609480"/>
            <a:ext cx="8458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Ejemplo: Hotel para cliente Z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3. Desarrolle una escala para cada cliente en función de sus preferencias y relativicelas respecto al preci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Comic Sans MS"/>
              </a:rPr>
              <a:t>Diferencia en Precio/Diferencia en Utilidad = Precio/Indice de Utilida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940360" y="2997360"/>
            <a:ext cx="302436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La diferencia en Precio es 30 US$ y en Utilidad es .50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30/.5=60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imes New Roman"/>
              </a:rPr>
              <a:t>Con esto quiere decir que para el individuo Z, el util vale US$ 60, de esta forma se hacen comparativos los atributos y se puede determinar cuanto está dispuesto a pagar Z por pasar de un nivel de un atributo, a otro nivel (independientemente del nivel en que se encuentren los otros atributos).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692360" y="2708280"/>
          <a:ext cx="3959280" cy="3881520"/>
        </p:xfrm>
        <a:graphic>
          <a:graphicData uri="http://schemas.openxmlformats.org/drawingml/2006/table">
            <a:tbl>
              <a:tblPr/>
              <a:tblGrid>
                <a:gridCol w="1082880"/>
                <a:gridCol w="762120"/>
                <a:gridCol w="1020600"/>
                <a:gridCol w="10936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ributo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vel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tilidad de Z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mañ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3*60 = 25.8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a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9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*60 =    3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bby 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*60 =    2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a reuniones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7*60 =    4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3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cin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1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ca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*60 =   8.4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nde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2*60 = 13.2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ifi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*60 =     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u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*60 =     6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cio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10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.25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371600" y="1770120"/>
          <a:ext cx="6477120" cy="38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70120"/>
                    <a:ext cx="64771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708120" y="754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440" bIns="4644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NÁLISIS CONJUN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660066"/>
                </a:solidFill>
                <a:latin typeface="Tahoma"/>
              </a:rPr>
              <a:t>Descomposición del Problema y Diseñ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40458c"/>
                </a:solidFill>
                <a:latin typeface="Tahoma"/>
              </a:rPr>
              <a:t>Si aprendemos como los consumidores valoran las características de un producto, estamos más capacitados para diseñar mejores produc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Alternativas simples a AC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acer preguntas directas: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Marca Prefiere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a tasa de interés alta (baja)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Qué es un cargo anual alto para usted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¿Cuás es un límite de crédito bueno/regular/malo para usted??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spuestas simples y triviales. Poco aprendizaj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ume independencia entre los atributos </a:t>
            </a:r>
            <a:r>
              <a:rPr b="0" lang="en-US" sz="2400" spc="-1" strike="noStrike">
                <a:solidFill>
                  <a:srgbClr val="40458c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Sesg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Otra Alternativa a C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eguntas directas sobre importancia</a:t>
            </a:r>
            <a:br>
              <a:rPr sz="2800"/>
            </a:b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mportancias Declarada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os Ratings de Importancia tienen poca capacidad discriminant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3880" y="2590920"/>
          <a:ext cx="6097680" cy="406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59092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¿Qué es Análisis conjunto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écnica de IM desarrollada en los 70`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de como los consumidores evalúan los productos, a través de la evaluación (CONJUNTA) de sus atributo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23:28:52Z</dcterms:created>
  <dc:creator> </dc:creator>
  <dc:description/>
  <dc:language>en-US</dc:language>
  <cp:lastModifiedBy>Paola Nahum</cp:lastModifiedBy>
  <dcterms:modified xsi:type="dcterms:W3CDTF">2007-09-01T21:21:50Z</dcterms:modified>
  <cp:revision>57</cp:revision>
  <dc:subject/>
  <dc:title>Prueba de Conceptos con Análisis Conjunto</dc:title>
</cp:coreProperties>
</file>