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B88-3E63-46CC-9609-8E5718AC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0D6-D527-46C6-A395-32D7DAB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5B2-F183-427C-A185-6A806E78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B5B-4433-4FD9-8B7F-8F38D591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A85-9D86-4361-B146-01C62E6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C9A-0F7B-4CA1-8E79-B0892B61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8F9-26E8-4F70-AFD9-CEE4F8A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106-9375-45A2-94B5-E95C3CF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F33-E718-47A5-A3B1-CF6D691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5B2-B36E-40E7-B638-98266F4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6A9-F985-459A-AF08-B8A485F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79B-D46A-4CF7-BC12-9440C9A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983-A017-42C9-8C7A-5FAB3726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baInd”y”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: odiomarkstrat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baInd5.dz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8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ben deszipearl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0000</cp:lastModifiedBy>
  <dcterms:modified xsi:type="dcterms:W3CDTF">2006-09-14T22:04:10Z</dcterms:modified>
  <cp:revision>14</cp:revision>
  <dc:subject/>
  <dc:title>Diapositiva 1</dc:title>
</cp:coreProperties>
</file>