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6DD-92AD-428A-BFAA-9C1AFE2D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798-F1BF-411D-A16E-434012D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892-14D2-4E12-9C2C-2C996E69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04E-4127-4DCC-B105-B9B16BD5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6F5-F3E1-4293-9AB6-66CC959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413-DE0D-487C-8579-FC1E07E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22E-0BAD-4675-ABE6-EF1FA2D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6D6-5C9D-4B49-BCB6-FE28528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506-A36A-4751-B7FD-E1DD3305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F69-5433-4087-B2E6-EF8494F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433-65B6-42E9-A28C-673E01D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C8A-69C0-42B4-B99B-3B57D0E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924-3133-440C-A0F8-DB2626EB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5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6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6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6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7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7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8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09480" y="1346040"/>
          <a:ext cx="3810240" cy="15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6040"/>
                    <a:ext cx="38102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609480" y="3733920"/>
          <a:ext cx="3886200" cy="150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3886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24280" y="1346040"/>
          <a:ext cx="3843360" cy="160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346040"/>
                    <a:ext cx="38433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648320" y="3733920"/>
          <a:ext cx="3995640" cy="1523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733920"/>
                    <a:ext cx="399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335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143000" y="762120"/>
          <a:ext cx="37339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3733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4864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793E-006 L -0.00781 -0.28063 E">
                                      <p:cBhvr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28063 L 0.06753 -0.34142 E">
                                      <p:cBhvr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47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4136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44429E-006 L 0.10833 -0.07328 E">
                                      <p:cBhvr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r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835E-007 L -0.10434 0.11535 E">
                                      <p:cBhvr>
                                        <p:cTn id="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3643E-006 L -0.10799 0.10911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1914E-007 L 0.16337 -2.21914E-007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58206E-007 L 0.18038 -0.05733 E">
                                      <p:cBhvr>
                                        <p:cTn id="11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4378E-007 L 0.1776 -0.04901 E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dii</cp:lastModifiedBy>
  <cp:lastPrinted>2000-03-10T16:13:12Z</cp:lastPrinted>
  <dcterms:modified xsi:type="dcterms:W3CDTF">2005-05-11T19:34:57Z</dcterms:modified>
  <cp:revision>28</cp:revision>
  <dc:subject/>
  <dc:title>Sin título de diapositiva</dc:title>
</cp:coreProperties>
</file>