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59FA-05FC-4A7C-B9D6-4BADB0B8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7BDB-9B6B-41BF-9757-391307F4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7221-4C99-4151-BFED-ADDF0180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8BB3-F520-4C5F-9872-CB316F1C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7897-3C4D-4A14-8954-3DDBD4E9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50D5-0DF0-4103-A563-03D886B2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54F9-9A8C-4A51-A606-7FF68256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4007-67F5-437B-BA75-CF66F98F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5518-4290-41E8-8B37-0537BB21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FCEA-3E4A-4B13-8CB7-CAAF6E63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4605-5A3F-4296-B3A2-4A61C361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07E6-8124-4CFF-8D6A-891EBFCD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BA2E-0EEB-4812-B532-8F1CCBFB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B8DA-1063-4A1B-88E3-302305C0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AA27-C870-49BE-9980-F2442789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9E13-69EC-43E0-A180-E36B119E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7625-86A5-4C7C-AF20-D722C8F8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2735B-4F6E-4510-9AF9-B8E83056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F41C3-3D99-42A5-A26C-E26B46C6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7523C-B1FC-4971-AED6-37BFC2F2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448DE-EFED-4446-B384-B9CC6227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7F89F-F0AF-4D64-9C9B-B267836B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EDB7-6972-4FB4-9BBC-5AB35702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45A56-09D5-42A7-A402-CD1D448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DC6B6-68A8-42CA-B9C1-F27B0AC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9FFC6-687A-4290-A816-5CB36271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9C363-549F-495A-9FC5-F81260C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DCFCA-743C-4199-B510-4255DA8B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4DF2D-332D-40CE-829B-DD282280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A6080-F6D2-4436-BF37-E7C00E3B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AD0AE-6442-47A5-9D2F-63713E0F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59C6-1A4D-4647-8996-60B8E21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A5DA-0EB6-42AF-A31B-E79C538A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2000-7D1D-417E-93BE-CD93E84F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6D0A-F400-451D-9A96-7D7AE562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38FC7-E0D1-433F-9903-227E1A1D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1F0C5-F971-4EC0-9F50-C7B07694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DB04-D045-4715-87A6-1DF4274D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0A1D-1D4D-47F0-9011-4C757664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5F41-3BE3-4EA6-ADF8-1B18D001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14DF0-3060-4363-A4EE-4A978AD3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98483-53AA-4279-9E80-8CB43AE8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788A-B2C6-4526-B3A4-59758EEF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2FCA-68F0-47E4-928E-8A8FB1A9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DF618-B2AD-4F26-B7B9-B4F135AF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3D7B-8336-466E-8FDF-8C5DAF90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6C8A-1956-4C0F-B60D-D4D0B22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DB36-4F0C-47C7-AD41-3E50B27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6F7B-6DA7-4E42-8A55-A2185104A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4230-11F5-4917-ABD3-1D3D66F30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387B-2B9D-4EF4-8DF0-B2B91B6A4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290F-C227-4172-9716-8AA39B8ED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awsft.net/~demo/aca/acalogn.htm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274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IN58B - Ingeniería de Marke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00356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ff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 que objeto 0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lke y Pessem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edición de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k=1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br>
              <a:rPr sz="36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Cómo medir las preferenci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 de pelotas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las funciones de utilidad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oductos “tipo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: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tradicional. Las comparaciones se hacen en una escala de interva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diga el grado de preferencia entre dos perfiles o por un producto compl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"/>
          <p:cNvCxnSpPr>
            <a:stCxn id="219" idx="2"/>
            <a:endCxn id="220" idx="0"/>
          </p:cNvCxnSpPr>
          <p:nvPr/>
        </p:nvCxnSpPr>
        <p:spPr>
          <a:xfrm>
            <a:off x="6362280" y="1851120"/>
            <a:ext cx="108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20" idx="2"/>
            <a:endCxn id="222" idx="0"/>
          </p:cNvCxnSpPr>
          <p:nvPr/>
        </p:nvCxnSpPr>
        <p:spPr>
          <a:xfrm>
            <a:off x="6362280" y="4538520"/>
            <a:ext cx="1080" cy="32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3" name=""/>
          <p:cNvGrpSpPr/>
          <p:nvPr/>
        </p:nvGrpSpPr>
        <p:grpSpPr>
          <a:xfrm>
            <a:off x="152280" y="76320"/>
            <a:ext cx="8839440" cy="6248160"/>
            <a:chOff x="152280" y="76320"/>
            <a:chExt cx="8839440" cy="6248160"/>
          </a:xfrm>
        </p:grpSpPr>
        <p:grpSp>
          <p:nvGrpSpPr>
            <p:cNvPr id="224" name=""/>
            <p:cNvGrpSpPr/>
            <p:nvPr/>
          </p:nvGrpSpPr>
          <p:grpSpPr>
            <a:xfrm>
              <a:off x="533520" y="326880"/>
              <a:ext cx="8229600" cy="5585400"/>
              <a:chOff x="533520" y="326880"/>
              <a:chExt cx="8229600" cy="55854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33520" y="326880"/>
                <a:ext cx="8229600" cy="1470240"/>
                <a:chOff x="533520" y="326880"/>
                <a:chExt cx="8229600" cy="147024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533520" y="326880"/>
                  <a:ext cx="8229600" cy="1470240"/>
                  <a:chOff x="533520" y="326880"/>
                  <a:chExt cx="8229600" cy="1470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3520" y="768240"/>
                    <a:ext cx="2743200" cy="587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dentificación de la oportunida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962520" y="326880"/>
                    <a:ext cx="4800600" cy="147024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del Consumido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litativa para identificar tem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ntitativa para entrar a los model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28" name=""/>
                  <p:cNvCxnSpPr>
                    <a:stCxn id="227" idx="3"/>
                    <a:endCxn id="219" idx="1"/>
                  </p:cNvCxnSpPr>
                  <p:nvPr/>
                </p:nvCxnSpPr>
                <p:spPr>
                  <a:xfrm flipV="1">
                    <a:off x="3295440" y="1078560"/>
                    <a:ext cx="648360" cy="252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29" name=""/>
                <p:cNvSpPr/>
                <p:nvPr/>
              </p:nvSpPr>
              <p:spPr>
                <a:xfrm>
                  <a:off x="3352680" y="688680"/>
                  <a:ext cx="3812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33520" y="4879800"/>
                <a:ext cx="8229600" cy="1032480"/>
                <a:chOff x="533520" y="4879800"/>
                <a:chExt cx="8229600" cy="103248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3520" y="4879800"/>
                  <a:ext cx="8229600" cy="1032480"/>
                  <a:chOff x="533520" y="4879800"/>
                  <a:chExt cx="8229600" cy="1032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3520" y="5217840"/>
                    <a:ext cx="274320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Evaluació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962520" y="4879800"/>
                    <a:ext cx="4800600" cy="103248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edecir Comportamiento Mc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Agregar a los Individu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onocimiento y Disponibilida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33" name=""/>
                  <p:cNvCxnSpPr>
                    <a:stCxn id="222" idx="1"/>
                    <a:endCxn id="232" idx="3"/>
                  </p:cNvCxnSpPr>
                  <p:nvPr/>
                </p:nvCxnSpPr>
                <p:spPr>
                  <a:xfrm flipH="1" flipV="1">
                    <a:off x="3295080" y="5406120"/>
                    <a:ext cx="648360" cy="540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34" name=""/>
                <p:cNvSpPr/>
                <p:nvPr/>
              </p:nvSpPr>
              <p:spPr>
                <a:xfrm>
                  <a:off x="3429000" y="49557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33520" y="2212560"/>
                <a:ext cx="8229600" cy="2288160"/>
                <a:chOff x="533520" y="2212560"/>
                <a:chExt cx="8229600" cy="228816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533520" y="2212560"/>
                  <a:ext cx="8229600" cy="2288160"/>
                  <a:chOff x="533520" y="2212560"/>
                  <a:chExt cx="8229600" cy="22881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33520" y="2498040"/>
                    <a:ext cx="2743200" cy="172440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Refinamien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KT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&amp;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ngenier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oducció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962520" y="2212560"/>
                    <a:ext cx="4800600" cy="2288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odelos de los Consumidor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267080" y="2517120"/>
                    <a:ext cx="4419720" cy="1913040"/>
                    <a:chOff x="4267080" y="2517120"/>
                    <a:chExt cx="4419720" cy="191304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267080" y="25171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ce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267080" y="335520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29400" y="3355200"/>
                      <a:ext cx="20574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267080" y="41173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243" name=""/>
                    <p:cNvCxnSpPr>
                      <a:stCxn id="239" idx="2"/>
                      <a:endCxn id="240" idx="0"/>
                    </p:cNvCxnSpPr>
                    <p:nvPr/>
                  </p:nvCxnSpPr>
                  <p:spPr>
                    <a:xfrm>
                      <a:off x="5181120" y="2886840"/>
                      <a:ext cx="1080" cy="45000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4" name=""/>
                    <p:cNvCxnSpPr>
                      <a:stCxn id="240" idx="2"/>
                      <a:endCxn id="242" idx="0"/>
                    </p:cNvCxnSpPr>
                    <p:nvPr/>
                  </p:nvCxnSpPr>
                  <p:spPr>
                    <a:xfrm>
                      <a:off x="5181120" y="3724560"/>
                      <a:ext cx="1080" cy="37404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5" name=""/>
                    <p:cNvCxnSpPr>
                      <a:stCxn id="240" idx="3"/>
                      <a:endCxn id="241" idx="1"/>
                    </p:cNvCxnSpPr>
                    <p:nvPr/>
                  </p:nvCxnSpPr>
                  <p:spPr>
                    <a:xfrm>
                      <a:off x="6114960" y="3530880"/>
                      <a:ext cx="496080" cy="108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</p:cxn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3276720" y="28983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276720" y="38127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3429000" y="24411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429000" y="343188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52280" y="76320"/>
              <a:ext cx="335304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33920" y="76320"/>
              <a:ext cx="525780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6442200"/>
            <a:ext cx="9144000" cy="34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SO DE DISEÑ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707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70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baja con escalas ordi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elija cual es el perfil que prefiere forzando que se quede sólo con un perfil por compa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usando LI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wsft.net/~demo/aca/acalog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vistado hace ranking o rating de esos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56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56" idx="2"/>
              <a:endCxn id="257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57" idx="2"/>
              <a:endCxn id="263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8" idx="2"/>
              <a:endCxn id="259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59" idx="2"/>
              <a:endCxn id="260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3" idx="2"/>
              <a:endCxn id="258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0" idx="1"/>
              <a:endCxn id="256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57" idx="1"/>
              <a:endCxn id="256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4" idx="2"/>
            <a:endCxn id="275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81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2"/>
            <a:endCxn id="278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1" idx="2"/>
            <a:endCxn id="276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1"/>
            <a:endCxn id="274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5" idx="1"/>
            <a:endCxn id="274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7-05-07T00:16:30Z</dcterms:modified>
  <cp:revision>12</cp:revision>
  <dc:subject/>
  <dc:title>PREFERENCIAS</dc:title>
</cp:coreProperties>
</file>