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5AF612-2FE2-47F8-838D-DB4392556017}"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9BD762-C0A2-4228-AEB0-58274FC5D4C7}"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CAB67E-D04D-4D23-A9C2-6FF43DC1B4E2}"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0896A1-B2F1-45E5-A680-328EE2A23AE0}"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C73DD-C0F1-4B7E-8457-EA5607DA9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749ECF4-6C39-4259-A397-42BD8D42CA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49B567F-CCF7-47D7-9BC0-218CE8352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3BF6771-0AB4-4D90-9D85-4AA509F38D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35F688-722C-44B3-A77E-8362082813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679779ED-2EAF-461B-8E17-EF32CABE54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98EB233-AA6A-42C2-ACD4-1BC33C3F5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B84DFC8-563C-44B9-B58D-42ED59CED7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E0BFD552-5A19-4E4E-9C42-D02A62455F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7218693F-7AF9-422C-B13C-B3FBB729E8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D25B371-7D76-4B8B-8D2F-48F08A0E7E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201D9F7-A979-4935-8D1C-E8AF39ABC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81E9620-04BB-41C1-A336-EF26EDC49E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3DA34A6-8D9C-4D35-B181-5F3F8083B5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EC011FF-1847-4F1B-AACA-65973B9124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F746903-773F-4904-8D39-E878BA8277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493A3C5-D42B-4506-B317-219490CE4B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17FB272-EAE6-44F0-BB8C-1548AA607C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1C0AF16-8B9E-41EB-A971-1951900F4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CD0CFB54-838E-498A-9EB2-EB1503EDE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2C9AC36-86BA-4A52-83C5-728F1CAA50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ABAF4DF-CDF8-4A94-A534-6D04E4BD00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D58419F-37BD-490E-99ED-132C5BC954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1EB46EA-8745-48FB-81F2-2D70A3388C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EE45-936D-4379-8C0E-DED837C8272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9F7C-6E93-4E69-AD97-2BDE3030D99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86D2C0A-6011-4B9C-90AB-9EFBCFD85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A3E498C-7637-42A8-9BA3-A3CE552EE0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F5CC970-FFD2-49C0-9252-0C228E62C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6FBB1E-A76E-4653-B5F2-E75C48123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BAEB2F-E3C6-4E55-9099-475E1527D98C}"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214BDB-0A5E-4314-B48D-C4220316C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D62F6A-6E8F-4261-9953-89DC9D65A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4749587-CB44-452B-A64A-B445B69A3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2EC5935-7087-4073-94D9-5B0282101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10F61AA3-51AE-4934-8875-BD521F0159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874127-EDA5-4E2F-896C-F83CC0731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8CDDAA9E-AF26-4EC0-BC35-412A8415E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1E0AFA4-317A-46A4-A540-113F9180C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8E7E3E-13AE-4AE4-8074-359E8574C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0571FBC-E00F-4FD0-ACBB-EFDEA319D2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F8F4CC21-BC61-447D-9E48-DD1359D15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56600D2-0D8A-4BB0-901E-5449188A68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20CA62A-8563-45F2-992D-483EAB206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BBB5760-E010-4C2E-AF5E-3816C2BE5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55AF847-5D5D-4F1B-A735-261681544D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8C04A80-4224-44D3-AF85-BF9CDCFCBB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2885796-8105-42B1-985F-BB8EA9832D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231CC3B-CCB3-47DB-9DC6-9763AEA4091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6ED49B5-9DA3-415F-93C1-E05EFE9D90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19352E4-947C-4C83-BDC1-6B7AB71C34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49437FE-9154-4883-9B4D-0EF0D6A382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C7F5CE-9B0B-4E73-A961-8D126D4ACF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33C27741-0AE2-4B69-9796-BAA2D1A14B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CA318A5-2574-4E3E-9C2C-219B758715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19D4056-0773-40D5-B59A-24A39D7461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A447922-85CD-46D9-BEAD-D4B085FD80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66D6D47-7E59-4C06-A4B5-77DCC9EFFE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61C3F67-27AC-417D-9C88-AB60DB27F3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398CE2D-2069-40D1-90DA-0D250ACE59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900F1C8-39C2-4D09-A9C1-926170E64D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4F30ADD8-CCBE-478D-8BB6-2C2D898DEC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96967007-0C94-425E-A961-DB0712C90F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077D378-B49E-4539-84E6-C41CF5E1B0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6FB9D6F-3110-4CDC-B6E0-86F440BD72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96C9279B-1480-418B-88BF-9F085834B8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F07AE4FC-B49D-4E50-8144-17D14FA046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96F1492A-1D61-40E9-9AEE-9F7B0D8F3A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E92B81-B394-4279-AFF7-060983E991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0045E6-3856-4638-8014-6517194705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88DA8CB-1A67-46DB-8479-6CD814D3F7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BD2BF35-BA1B-4410-A0E0-510B9092A9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6E68D31-5200-40BF-9153-9F97AA19A9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2AA8BB3-FAAF-40E6-8E42-A6C6200846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6146272-3925-4A42-B50F-ED95CA6B49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B7FD5E21-731C-4756-ACF0-A65D612F00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EFCA2D3-7CD7-42AA-B3AC-732F5170F0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16094CB-D377-41AF-AFB6-A60A5F05FE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55D400B2-8EFE-479E-8FBE-0DB504AE33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C606A1D-5E65-4849-99F7-3F07BADBDC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807D9CB-66D8-447B-A7D2-A0A9963AB1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5C92332B-6B80-4BF6-9B76-AC4E457413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AB1C956-448E-4E2D-A711-7DD9FC9D9D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BEA6963-8B27-4A6D-89BE-F33B2181CA9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30521C3-57D7-4975-8373-AD774F84FA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570DAB3-BE6F-42DC-8F7B-C5F969CA1E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69DB46-E1ED-4BAA-9A0D-44B09C1E011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E14A7A9-1AB3-4804-A76F-1C3F431E24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1FAAFC5-9F1A-4CC2-BB8A-614C29E3B5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883F9DA-2F20-43F7-B878-7E12EAA13D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8166A9B-25E1-4BD1-A358-096D355175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31D7F6-C62D-4D52-B28B-3F8A1E6311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D5AE35A5-07A7-4A7A-8AD5-8A0D50F086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ECD4190-B578-40DF-A822-2AA359661E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54B5EF7-4874-46ED-B9AE-C4F1A14C7A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31E6DF18-CFFC-4BCD-8758-E0889CCC73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804B142-90CA-428F-BC0F-2080A3ECE0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F05AA9D-C99A-4A56-ADE4-A3DEF0861E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F45BCAC-4BDB-4CA2-8FC5-14EB7B46F3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05DABA22-E84F-4088-BE31-C976288243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F583BA7-18AB-4E1F-A861-0D443D8027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D43638-33C4-44FA-987A-E12C451D32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CB73728-5E9F-458D-92C2-1DCB89784A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9454CC0-136F-45EE-9C8A-77A368EDEE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59FEFE1-D0FF-45E1-85E6-A3DCEE5F88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51580F1-BABE-470B-8DCB-A14E90571A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EEE753D-8311-4A17-9CAF-F84DFFFDF5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BDF6DC81-4F0A-43BE-8BE2-EECBD87166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96CA3DA-2539-4598-936D-64B866AA26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5176855-059C-42FA-9960-39302C1C9A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B539AB7-FBAF-451F-A987-FE4803C5918F}"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FD6BF95-32A3-4FA1-829F-89B9F18176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7-05-12T15:10:48Z</dcterms:modified>
  <cp:revision>184</cp:revision>
  <dc:subject/>
  <dc:title>Propuesta Modelo Evaluación Impacto Programa Capacitación</dc:title>
</cp:coreProperties>
</file>