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AD13-24E2-49EF-B89C-942EBDD1D3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7B8-C301-4BF0-8B2F-3A1BFD6B74C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putación - Estanda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 abierta: qué es más customizado, el almacén o el hiper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angibilidad, presencia de cuentas, necesidad de defi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quete, producto, producto servicio,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7AC-E9B8-420A-B902-5ED07B14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031-5DC1-4E6D-9BBF-81BC988E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ECF-9C87-4CED-885A-AA8FDBB2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8BA-F88E-4C2F-B0CC-ABF8C253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FEC9-3E2E-44FD-B09B-0377EE05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41DA-CD02-42B8-A782-33ECB87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C54-9555-406B-9E9C-18689AD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390-A06E-42E6-B4C9-1E2218A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6B66-D8AE-4D59-93FF-53E4BE7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5978-9066-4CF3-A6D5-17596C7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95A1-F7B5-43FD-9436-E461EB3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2A-8D66-4128-8EA6-BB86D69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2B59-AB01-426A-A51D-08A81DA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E52B-59B0-4D04-8B54-1CDAFED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A0D-BC70-4B86-827E-8938FE2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955-BD97-4BA7-8FD8-E4EA7250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CC7D-1152-4CF7-B45E-A6ACED0C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7A7-1B2A-492D-B4E0-284BBEA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77D-4D51-4002-9E56-2C2B349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312-9BA5-4E31-934A-8506A89D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A56-5238-4989-9A6E-22BE2E7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192-4163-46B1-A7AA-98A53F0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978-3EC4-45F3-98DC-3E6E203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772-4EAA-459F-83B9-3EF3661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DC0-DE6B-4E95-B9C0-89DA3CF1DB3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55A-2554-45A0-A71E-DE375179B1B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ex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namiento del 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dicadores du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im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tit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mósf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vacidad y segu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 participa en el proc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boración (supermercado, comida rápi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dida de desempeño (educación, salu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multá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r (franqui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iente (garantía, regul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terogé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erza labo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lasificación de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en la ec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mano de obra (en comparación a la infraestruc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atrib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ara Negocio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eguros, créditos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cios de Intercambi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Retailing, mantenimien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ersonale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elleza, restaurantes, salud, banca de pers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de Infraestructur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Transporte, comunicaciones, servici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dminstración Públic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Gobierno, educ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2592360"/>
            <a:ext cx="120636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dust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dministr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úbl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3736800"/>
            <a:ext cx="1587600" cy="5972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fra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3889440"/>
            <a:ext cx="1336680" cy="5223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tercamb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6360" y="2057400"/>
            <a:ext cx="181620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Extractiv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186520"/>
            <a:ext cx="189252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nufacture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7640" y="2668680"/>
            <a:ext cx="1130400" cy="113184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sumi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184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133720" y="2355480"/>
            <a:ext cx="0" cy="2300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355840"/>
            <a:ext cx="1676160" cy="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5562720"/>
            <a:ext cx="15242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738520"/>
            <a:ext cx="3886200" cy="19080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19400"/>
            <a:ext cx="1981440" cy="221472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3502080"/>
            <a:ext cx="4343400" cy="137304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890800"/>
            <a:ext cx="35049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1560"/>
            <a:ext cx="160020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28440" y="2508120"/>
            <a:ext cx="2133720" cy="21384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19400"/>
            <a:ext cx="0" cy="15271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4339800"/>
            <a:ext cx="1066680" cy="30636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417920"/>
            <a:ext cx="3733920" cy="533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180040"/>
            <a:ext cx="0" cy="38268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5027760"/>
            <a:ext cx="35816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2661840"/>
            <a:ext cx="464796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920" y="2662200"/>
            <a:ext cx="7617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119040"/>
            <a:ext cx="2667240" cy="76356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86600" y="3654000"/>
            <a:ext cx="533520" cy="22860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3807000"/>
            <a:ext cx="0" cy="839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4417920"/>
            <a:ext cx="68580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264200"/>
            <a:ext cx="1981440" cy="6109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9400"/>
            <a:ext cx="685800" cy="6112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340160"/>
            <a:ext cx="838080" cy="8398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6324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te. Dorothy Riddle, Service led Growt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907920"/>
          <a:ext cx="8229600" cy="477216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81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dustr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stos de Personal / Costos de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lectrici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munic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cá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n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telerí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endas especializad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gur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rretaj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24000" y="58514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uente: “How can Service Business Survive and Prosper” de Roger W. Schmenner, Sloan Management Review, Spring 1986. Son válidos para Estados Unidos en base a datos de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a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gramas de benefi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ol geográ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vances 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abilidad del cliente de afectar personalmente la naturaleza del servicio entregad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onado con el grado de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onfundir con percepción de la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onentes de un Produ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racterísticas de los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asificación de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de-off entre costos y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eño de interf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jerarquí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ealtad de los emple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j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76520"/>
            <a:ext cx="7543800" cy="4038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67652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733920"/>
            <a:ext cx="7467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rado de Interacción y Customiz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3952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a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Fábrica de Servi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5146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erolíneas/Hoteles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731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Talleres de Servi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Hospitales/ Mecáni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Mas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724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tailing/ Escuelas/ Comida ráp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38606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profesion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572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édicos/ Arquitectos Abogados/Con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21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480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asificación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por tipo de proce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ros 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objetos que reciben el servicio antes de el client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tibilidad del resul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bresía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 d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cionalidad de la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xibilidad de la of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gar de interacción con 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 are deeds, processes, and performance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arie Zeithaml &amp; Mary Jo Bi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n activity or series of activities of more or less intangible nature that normally, but not necessarily take place in interactions between customer and service employees and/or physical resources or goods and/or systems of the service provider, which are provided as solutions to customer problem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istian Gon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conomic activities whose output is not a physical product or construction, is generally consumed at the time it is produced, and provides added value in intangible forms 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nn, Jordan, Baruch &amp; Cushm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 Time-perishable, Intangible Experience Performed for a Customer Acting in the Role of a Coproducer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mes Fitzsimm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: Obj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: Experiencia intangible; Elaborado y consumido de manera simultán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: Combinación de Bienes y Servicios orientados a un cli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or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362320"/>
          <a:ext cx="7693200" cy="3644640"/>
        </p:xfrm>
        <a:graphic>
          <a:graphicData uri="http://schemas.openxmlformats.org/drawingml/2006/table">
            <a:tbl>
              <a:tblPr/>
              <a:tblGrid>
                <a:gridCol w="5261040"/>
                <a:gridCol w="24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O (PAQUETE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solinera auto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utad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de comida rápid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gourm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ración de aut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u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te de p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mponentes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stalacione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físicos disponibles antes d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iene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Recursos físicos disponibles durante 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ex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observ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im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sico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MOSQUERA</cp:lastModifiedBy>
  <cp:lastPrinted>1997-05-16T15:38:36Z</cp:lastPrinted>
  <dcterms:modified xsi:type="dcterms:W3CDTF">2007-07-24T14:01:07Z</dcterms:modified>
  <cp:revision>102</cp:revision>
  <dc:subject/>
  <dc:title>Role of Services in an Economy</dc:title>
</cp:coreProperties>
</file>