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833-27A9-4EAD-85F1-267185F3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486-F24F-44DB-A86B-6239B93F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C9D-0B58-40FE-9BCA-DBB0055B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A5C-1FD5-4791-A3E3-2DE37D12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78E4-6605-4AEF-87C8-51365C69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C980-7250-4A16-9B3F-8843776A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331F-235C-4266-AFA8-34251CD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2796-DD9A-4C45-82D5-397E798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71C4-5F29-4F9C-9800-5B4B79B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305C-E633-41CA-B9D6-991C0FEE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0AE6-0801-4348-AB21-7CAC9467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3BB-8894-44DE-A92E-05EC9275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2F04-5672-4524-ACB0-DC3A6AD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78C0-AB97-4099-91C5-EAFA0C8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62EA-8E37-4896-8BA5-F5CF349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4EB5-317F-495B-A68D-DEE193CB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9651-72E6-42DA-B597-1CF9EC09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351-CF41-454D-AA98-85D9C0F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C7A-E797-4315-878A-9647D6F9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3BD-EA59-4274-9ACB-FDBF474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7FE-360A-4F2A-925F-905BCD22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83D-0E69-40AF-B691-8AE1E9D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DD5-B3FE-47D9-B0F7-BB12E46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41F-4697-470C-94C5-BAD3CC2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8D12-2387-40C9-94F0-B0BD87D7A6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3EB-CCC1-40C0-8C46-442F554654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 al Retai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349360"/>
          <a:ext cx="7480440" cy="39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74804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7770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77770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un Restaura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ida ráp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cafet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en lín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ención en me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Farmaci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tilla la variabilidad del gasto y por lo tanto la 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one 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t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re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 en Supermercados (200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3141720"/>
          <a:ext cx="8388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141720"/>
                    <a:ext cx="8388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cimi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17880" y="3105000"/>
          <a:ext cx="333360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7880" y="3105000"/>
                    <a:ext cx="33336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2394000"/>
            <a:ext cx="769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ción de bienes a consumidore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ta minorista o al deta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existe un consumidor existe un Retai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os b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nad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as prop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riendo de herramien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ncos y financie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Mercaderí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2349360"/>
          <a:ext cx="69138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69138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Propie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epend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ndas de especi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porativa (Mass Retail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arma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anquicia (Brand Retail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stu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astronom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s atributos de clasif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ariedad: Número de Categorí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rtido: Número de SKUs por Categ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: Eficiencia en Oper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s de los servicios e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nsidad en mano de o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2349360"/>
          <a:ext cx="7632720" cy="41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5640" y="2276640"/>
          <a:ext cx="8064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76640"/>
                    <a:ext cx="8064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08:54Z</dcterms:created>
  <dc:creator>Joselyn Bravo</dc:creator>
  <dc:description/>
  <dc:language>en-US</dc:language>
  <cp:lastModifiedBy>Joselyn Bravo</cp:lastModifiedBy>
  <dcterms:modified xsi:type="dcterms:W3CDTF">2007-07-23T03:01:37Z</dcterms:modified>
  <cp:revision>5</cp:revision>
  <dc:subject/>
  <dc:title>Retail</dc:title>
</cp:coreProperties>
</file>