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0" y="-14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779640" y="-14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sldNum" idx="9"/>
          </p:nvPr>
        </p:nvSpPr>
        <p:spPr>
          <a:xfrm>
            <a:off x="377964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5F8B5-D94C-4146-BF53-19B59B42145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Img"/>
          </p:nvPr>
        </p:nvSpPr>
        <p:spPr>
          <a:xfrm>
            <a:off x="861480" y="750600"/>
            <a:ext cx="4945320" cy="3708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945400" y="9510120"/>
            <a:ext cx="93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37597-95A9-4E06-96C0-A3214BD2EB76}" type="slidenum"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861840" y="750960"/>
            <a:ext cx="4945320" cy="370836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Rol de la tecnologí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861840" y="750960"/>
            <a:ext cx="4945320" cy="370836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Riesgo: perder clientes renta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861840" y="750960"/>
            <a:ext cx="4945320" cy="370836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Unicidad. Riesgo: Perder din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861840" y="750960"/>
            <a:ext cx="4945320" cy="370836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oncepto: valor del servicio para los clientes (Formato, concepto de servicio, concepto estratégico). Evaluación vs Estrateg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861840" y="750960"/>
            <a:ext cx="4945320" cy="370836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Instalaciones: si tiene o no cocina, si tiene o no microond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861840" y="750960"/>
            <a:ext cx="4945320" cy="370836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Límite entre localización y lay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B1F2-74C1-4253-93AD-2E008358A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351D-3CF6-4F81-A583-1C73907F4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D1E9-9F11-4771-B5B3-662C50F2E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457C-846E-4B5D-BC85-2565D0E2A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B425F-04F6-48C5-8C16-9EC4F6919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85DD1-A3CE-46C1-8603-524B6C187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8314A-C76A-4676-AA21-272A61C3A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101BB-1C9E-49D1-A3CE-FBA7F7B0E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01AEB-1F30-4F57-95C5-F16E639B6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7D632-E03B-44B9-A0E0-D4EAF4946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F4E32-CE2A-4012-9D0C-A2361A4EA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331A-650F-47B4-9D6F-97DB5EE6D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2E952-5818-4F83-BF3B-21C20D568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46B65-787B-4695-9080-CB7A00B3D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C7F7E-600D-4EC4-B03A-ECE5512D7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21F3F-3AED-4316-B44F-77745E857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2F865-ACE6-46BC-9B25-0F4BFDA60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9DF8-8A2C-44B4-86AE-ACD9EBE3B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6619-6CC8-4D39-9F6D-EDB3AA34F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6A19-9F8E-405E-83C8-7B1C4B155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8E4B-D809-46AB-A66B-5BB21D82A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D671-1B70-4411-8E7B-DF59C7493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3E5F-433C-4D30-BF78-6C9B8E224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0704-FA96-455D-98BF-0F4D77910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B385B-3ECE-41EB-A803-A242F8B8EA84}" type="slidenum">
              <a:rPr b="1" lang="es-E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2C099-065C-4FDC-9307-FEA00DABDA46}" type="slidenum">
              <a:rPr b="1" lang="es-E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66"/>
                </a:solidFill>
                <a:latin typeface="Arial"/>
              </a:rPr>
              <a:t>Estrategia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6666"/>
                </a:solidFill>
                <a:latin typeface="Arial"/>
              </a:rPr>
              <a:t>IN71K: Gestión de Operaciones en la Industria de Servicios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6666"/>
                </a:solidFill>
                <a:latin typeface="Arial"/>
              </a:rPr>
              <a:t>30 de julio de 2007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Concepto: Elementos Blando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Interfaz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Interacción con el client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Perfil del personal: Reclutamiento, Capacitación, Tipo de contrat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alida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Percepció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Realidad: Indicadores, Controles, Acciones Correctiv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Concepto: Elementos Blando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Gestión de la Oferta y Demand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Flexibilización de la Ofert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Aplanamiento de la Demand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Informa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Externa: Clientes, Inversionist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Intern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Relacion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116000" y="1074600"/>
            <a:ext cx="7704000" cy="574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Tipos de Estrategi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Liderazgo en Cost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Diferencia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Foc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Liderazgo en Costo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atisfacer clientes poco costos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standarización: </a:t>
            </a:r>
            <a:r>
              <a:rPr b="0" i="1" lang="es-ES" sz="2800" spc="-1" strike="noStrike">
                <a:solidFill>
                  <a:srgbClr val="003366"/>
                </a:solidFill>
                <a:latin typeface="Arial"/>
              </a:rPr>
              <a:t>routin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Intensidad en capita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upply Chain Managem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Back Office “Offline”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Liderazgo en Diferenciació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Tangibilización”: Imagen, visit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ustomiza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Gestión de Percepciones (ansiedad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apacita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alida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Foc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Liderazgo en Costos y Diferencia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Foc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Liderazgo en Costos y Diferencia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egmentos de mercado más pequeñ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Necesidad específic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Bellez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Salu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Distribución espacia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Introduc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Definición de Concepto Estratégic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lementos de la Estrateg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Relación con la clase pasad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Tipos de Estrateg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Introducció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0" y="2133720"/>
          <a:ext cx="4643280" cy="405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133720"/>
                    <a:ext cx="4643280" cy="405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4524480" y="2133720"/>
          <a:ext cx="4619520" cy="4152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24480" y="2133720"/>
                    <a:ext cx="4619520" cy="415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Introducció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68360" y="3645000"/>
            <a:ext cx="1081080" cy="82404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Target Market Element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92360" y="4076640"/>
            <a:ext cx="1008000" cy="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547640" y="3571920"/>
            <a:ext cx="12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Positioning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844720" y="3645000"/>
            <a:ext cx="1081080" cy="58068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Service Concept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068720" y="4076640"/>
            <a:ext cx="1008000" cy="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924360" y="335592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Value-Cost Leveraging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292720" y="3645000"/>
            <a:ext cx="1225440" cy="58068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Operating Strategy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661080" y="4076640"/>
            <a:ext cx="1008000" cy="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516720" y="3213000"/>
            <a:ext cx="1295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Strategy-Systems Integration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813800" y="3645000"/>
            <a:ext cx="1081080" cy="82404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Service Delivery System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1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trategic Service Vis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Definició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187280" y="3500280"/>
            <a:ext cx="1944720" cy="459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Producto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419640" y="3716280"/>
            <a:ext cx="2881080" cy="0"/>
          </a:xfrm>
          <a:prstGeom prst="line">
            <a:avLst/>
          </a:prstGeom>
          <a:ln w="28440">
            <a:solidFill>
              <a:srgbClr val="003366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588000" y="3429000"/>
            <a:ext cx="1944720" cy="459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Concepto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Concepto: Elementos Duro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istema de Entreg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Diseño de las instalacion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Localiza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Planificación de Capacida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Concepto: Elementos Blando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Interfaz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alida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Gestión de la Oferta y Demand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Informa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Concepto: Elementos Duro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istema de Entrega (Delivery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Back Office: Automatizació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Front Office: Participación del Client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Diseño de las instalacion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Equipamient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Layout: Tamaño, Distribució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Concepto: Elementos Duro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Localiza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Nivel de desagregació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Cercanía al client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Cercanía a la competenci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Arquitectura: Tamaño, Orientación, Acces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Planificación de Capacida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Nivel de congestió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Estructura de las redes de esper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Entidad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1-13T13:42:34Z</dcterms:created>
  <dc:creator>Máximo Bosch</dc:creator>
  <dc:description/>
  <dc:language>en-US</dc:language>
  <cp:lastModifiedBy>Joselyn Bravo</cp:lastModifiedBy>
  <cp:lastPrinted>1997-05-16T15:38:36Z</cp:lastPrinted>
  <dcterms:modified xsi:type="dcterms:W3CDTF">2007-07-30T19:31:05Z</dcterms:modified>
  <cp:revision>113</cp:revision>
  <dc:subject/>
  <dc:title>Role of Services in an Economy</dc:title>
</cp:coreProperties>
</file>