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EE9-847C-444E-A80E-6A2542D7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AF0-C96A-4C21-8653-A13BA2D7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048-A33F-4579-82B6-336CB9E7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B4C-C5A5-4306-AE81-095D6361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0F1E-7B32-4CC4-82E2-6B52BC3C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F6FD-8185-40E3-9432-C7DBC0CB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2FB9-C1FB-429B-9E60-08621735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770E-953F-497E-846C-5E7B15D9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0141-A0A6-4DBA-9AF8-335495A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D18E-5FD7-4F51-93C0-49E2E931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5C59-ABBA-4875-8841-757E457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6EA-8365-4D62-AB15-F0244CB1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B170-9709-48EC-AE1A-05451FF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5B5E-D1BD-417D-91BF-803CB22C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2BC4-7E4C-4382-960E-A0C95872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9A95-5B5B-4392-AEE4-D86CD250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E859-A892-4665-A262-14C17DDB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14D-734E-49E4-A779-8AA12753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BA2-C1FF-4636-B7B8-F069F9E9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84B-2537-4DFB-9954-F92B8B93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009-9831-4D5A-83E7-69EA1161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163-E927-4CAC-8E74-41F56034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02C-A925-4ADB-BF0B-02C6D3E1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4D1-ACAF-42F8-AB71-E62A6981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E371-89AF-4019-8428-9125EF2CE88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0123-0BCA-41BA-A62A-458B6D61DFB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6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Gestión de Percep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ásicos: Decoración, espejos, audiovisuales, com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-Rela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r el proce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é en la puerta: Ficha médica, men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hows: Experiencia memo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ectativa del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breestimación: Colas rápidas, 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tidumbre: Seguridad al cliente, aproximación, explicaciones, ojo con las reservas y los núm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decidi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serv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 en co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Atributos de una Solu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s del sistema (re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sonas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iempo de espera, tiempo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Uti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dístico (probabi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áx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cen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dor, estación, 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iente, segmento, pobl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: 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neging, b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Metamodelos de Simul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untos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lección de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j: Tiempo de reposi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distancias de movimi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y tamaño de flota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cificar posibles val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alea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juste de una fu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5519880"/>
            <a:ext cx="7353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y capacidad interactú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fist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mulación versus solución analí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 vs Little (varía con capacidad) vs Brown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as solu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oferta y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del pronó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git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a impresió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 perd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los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ones a todo ni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uevos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sp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rramientas de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Percep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entario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 versus información dispon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lking, reneg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20920"/>
            <a:ext cx="7693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ú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: Vip, banca, aerolí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Jocke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: Fila ún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ce institu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era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cupa más espa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espera pro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ita que las entidades se atasqu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camarade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reneging, mayor b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empo de elección de serv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ope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hem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zc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9:26:17Z</dcterms:created>
  <dc:creator>Joselyn Bravo</dc:creator>
  <dc:description/>
  <dc:language>en-US</dc:language>
  <cp:lastModifiedBy>JMOSQUERA</cp:lastModifiedBy>
  <dcterms:modified xsi:type="dcterms:W3CDTF">2007-08-06T15:10:39Z</dcterms:modified>
  <cp:revision>37</cp:revision>
  <dc:subject/>
  <dc:title>Espe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