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8B37-0F0F-4807-844A-606F54B6C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A5E4-37B0-440A-BFC8-247B8FC4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09A3-6447-4A5F-9F3F-ADF9D149A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8880-E2C0-4AD5-804A-ABD00357F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9FF7-6EE6-4C3B-9F96-B551B2DC0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8AD92-C87A-4D92-B24F-FFE46C18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C7BA9-520B-4B87-9733-365D4C37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FC46-D88B-443C-9D2D-6EAD289C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3255-2A87-481B-95A1-CF673DB6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989E-CC96-442D-9A38-509D6783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E049-183B-47C1-8B42-DD0C1628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7A19-D9E4-4B98-8A25-DEA8D2C1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2BF7-748A-4246-B134-20896A7E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89E8-4FDD-40AE-BC67-3D98769B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9E0B-A9BC-403F-B541-79056D0F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D650-B29F-4A0E-ABD8-9AE6EDB46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8526-7161-4E98-95A9-0A6EFF78F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E485-5E66-4E33-AD5F-4FF12844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9537-9F7F-43B1-9EB8-24B5CB40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7617-4314-4019-ABD1-A8F387FB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4D0A-3540-4DFF-9D79-EA86532B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0694-65CB-43B3-B725-87A4ED1B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8038-143F-46AD-A08C-BDE816FF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8588-4E9B-48D4-B32B-DCFCAC6D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393C-23A4-4B61-9A5B-F1FF7673745C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ADB9-46A5-4F84-9489-D578EC1B7C26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Espera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IN71K: Gestión de Operaciones en la Industria de Servicio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6 de agosto de 2007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Gestión de Percep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Básicos: Decoración, espejos, audiovisuales, comi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rvice-Relate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Ver el proces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ié en la puerta: Ficha médica, men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eshows: Experiencia memora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xpectativa del tiemp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obreestimación: Colas rápidas, reserv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ertidumbre: Seguridad al cliente, aproximación, explicaciones, ojo con las reservas y los númer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apacity Plan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s decidi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Número de servido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ceso de aten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ntidades en co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Capacity Planning: Atributos de una Solució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Variables del sistema (relacion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ersonas en siste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Tiempo de espera, tiempo en siste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Utiliza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tadístico (probabilidad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Medi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Máxim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ercenti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tal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Servidor, estación, r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liente, segmento, pobla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apacity Planning: Objetiv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neging, balk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pe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ten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s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ervic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pe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Capacity Planning: Metamodelos de Simulació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untos de diseñ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elección de variables de decis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Ej: Tiempo de reposición </a:t>
            </a:r>
            <a:r>
              <a:rPr b="0" i="1" lang="es-ES" sz="20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, distancias de movimiento </a:t>
            </a:r>
            <a:r>
              <a:rPr b="0" i="1" lang="es-ES" sz="2000" spc="-1" strike="noStrike">
                <a:solidFill>
                  <a:srgbClr val="003366"/>
                </a:solidFill>
                <a:latin typeface="Arial"/>
              </a:rPr>
              <a:t>D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y tamaño de flota </a:t>
            </a:r>
            <a:r>
              <a:rPr b="0" i="1" lang="es-E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pecificar posibles valo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lección aleator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juste de una fun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71640" y="5519880"/>
            <a:ext cx="735336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mentarios Fin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26920" y="2276280"/>
            <a:ext cx="76932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ercepción y capacidad interactú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ofistic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imulación versus solución analít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xponencial vs Little (varía con capacidad) vs Brownia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Otras soluci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Gestión de la oferta y la deman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ortancia del pronósti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gital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ortancia en el servic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imera impresión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Tiempo perdid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ortancia en los cos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cisiones a todo ni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Nuevos negoci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oyectos de invers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ejora continu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stema de Espe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racteriz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cisi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Herramientas de Solu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Gestión de Percepci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pacity Plan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mentarios Fin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istema de Espe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ntida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ceso de lleg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ipo de fi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ceso de aten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lección de entida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istema de Espe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ntida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egmentació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Tamañ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ceso de lleg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alidad versus información disponi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xponenci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Balking, reneg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pac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istema de Espe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26920" y="2320920"/>
            <a:ext cx="769320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ipo de fi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la ún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la múltip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Discriminación: Vip, banca, aerolíne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Jockey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pac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istema de Espera: Fila ún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uce institucion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upera expectativ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Ocupa más espac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enor espera promed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vita que las entidades se atasqu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ayor camaraderí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ayor justi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enor reneging, mayor bal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iempo de elección de servid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istema de Espe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ceso de aten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stribu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oper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tandariz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Interfaz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Tecnologí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istema de Espe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lección de entidad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CF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P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ehempt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CF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ezcl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ound Rob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5T19:26:17Z</dcterms:created>
  <dc:creator>Joselyn Bravo</dc:creator>
  <dc:description/>
  <dc:language>en-US</dc:language>
  <cp:lastModifiedBy>JMOSQUERA</cp:lastModifiedBy>
  <dcterms:modified xsi:type="dcterms:W3CDTF">2007-08-06T15:10:39Z</dcterms:modified>
  <cp:revision>37</cp:revision>
  <dc:subject/>
  <dc:title>Esper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