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1AC-C7BE-40DE-B0AA-A2FEEA25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150-61C5-4E81-BF8B-26FCAA45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768-6837-4F8D-982F-19BF1599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66D-281F-4412-88E6-14365E95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ED95-4A59-43F0-841A-16A4CFC4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1210-DF77-48F4-97B3-3D9E434A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D8F2-FE7A-4409-BBBA-DF2F69E6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F1E7-ECD8-4941-8D0C-533D1DD4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843E-35CF-48E3-A2BC-3618E41C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D196-B484-4023-B5AD-4FB4B614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2FCC-0E30-4390-A33B-B5092F69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07B-7B5F-46CD-9431-1350661F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6747-98DE-4BA1-9DB5-9E521EA8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108E-962C-4020-A6E6-7FD40FA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05F9-E07E-4EEC-9BB7-E6BF9F35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F78A-03EC-499D-A8CE-3A412257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A475-5C13-4A37-A0D1-2E31E28E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067-C0D1-4CFB-9414-A2E68676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216-8616-4BE0-AA66-8F0F28A8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896-6BAA-4828-BD3E-C44321C1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EA0-ECFD-4755-8795-AC7E740F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6BF-F831-484B-80DC-08188682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163-5832-4F9D-A785-81126055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D1E-D35E-4E9C-AC9D-2C2A0799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EB3-5AC1-4F19-A1A4-6C862025C0C9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E57D-941D-4139-85B1-70D44D99529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ronóstic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13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443320"/>
            <a:ext cx="8964720" cy="4703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52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01920" y="4419720"/>
                <a:ext cx="31208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n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195640" y="23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4724280" cy="14763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7010280" cy="13446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nto se va a gastar en servicios de caja el 2008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Mayo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mbios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 en superficie: 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umento en demanda: 1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supuesto mensual 2008: $ 469.400.3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25909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qué 10% en aumento de demand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 Modelo de Asignación de Caje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3716280"/>
            <a:ext cx="561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Qué impacto produce el plan Transantiago en la venta en Metr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 Nº de personas transporta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horario: punta mañana – punta ta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origen de acceso: Micro – camina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uente: Estudio de Fernández &amp; De Cea en base a encuesta origen destino 199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upues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 la gente que llega desde una micro, el 50% es cliente Multired y todos usan B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oda la gente que llega caminando es cliente Multired. De ellos, el 10% utiliza bol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carga promedio de BIP es de cuatro viaj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s usuarios de boleto compran de una un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9640" y="2506680"/>
            <a:ext cx="1079280" cy="852480"/>
            <a:chOff x="539640" y="2506680"/>
            <a:chExt cx="1079280" cy="852480"/>
          </a:xfrm>
        </p:grpSpPr>
        <p:sp>
          <p:nvSpPr>
            <p:cNvPr id="145" name=""/>
            <p:cNvSpPr/>
            <p:nvPr/>
          </p:nvSpPr>
          <p:spPr>
            <a:xfrm>
              <a:off x="828360" y="250668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640" y="308268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Micro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9280" y="2276640"/>
            <a:ext cx="360360" cy="575640"/>
            <a:chOff x="179280" y="2276640"/>
            <a:chExt cx="360360" cy="575640"/>
          </a:xfrm>
        </p:grpSpPr>
        <p:sp>
          <p:nvSpPr>
            <p:cNvPr id="148" name=""/>
            <p:cNvSpPr/>
            <p:nvPr/>
          </p:nvSpPr>
          <p:spPr>
            <a:xfrm>
              <a:off x="179280" y="263664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276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08000" y="4797360"/>
            <a:ext cx="360360" cy="576360"/>
            <a:chOff x="108000" y="4797360"/>
            <a:chExt cx="360360" cy="576360"/>
          </a:xfrm>
        </p:grpSpPr>
        <p:sp>
          <p:nvSpPr>
            <p:cNvPr id="151" name=""/>
            <p:cNvSpPr/>
            <p:nvPr/>
          </p:nvSpPr>
          <p:spPr>
            <a:xfrm>
              <a:off x="108000" y="515772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000" y="4797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5280" y="4883040"/>
            <a:ext cx="1079280" cy="852480"/>
            <a:chOff x="395280" y="4883040"/>
            <a:chExt cx="1079280" cy="852480"/>
          </a:xfrm>
        </p:grpSpPr>
        <p:sp>
          <p:nvSpPr>
            <p:cNvPr id="154" name=""/>
            <p:cNvSpPr/>
            <p:nvPr/>
          </p:nvSpPr>
          <p:spPr>
            <a:xfrm>
              <a:off x="682560" y="488304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280" y="54590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Call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9280" y="1125360"/>
            <a:ext cx="12258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Ingresan a Metr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89000"/>
            <a:ext cx="7200720" cy="6553080"/>
          </a:xfrm>
          <a:prstGeom prst="cub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3671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835280" y="1197000"/>
            <a:ext cx="1800000" cy="4465440"/>
            <a:chOff x="1835280" y="1197000"/>
            <a:chExt cx="1800000" cy="4465440"/>
          </a:xfrm>
        </p:grpSpPr>
        <p:grpSp>
          <p:nvGrpSpPr>
            <p:cNvPr id="160" name=""/>
            <p:cNvGrpSpPr/>
            <p:nvPr/>
          </p:nvGrpSpPr>
          <p:grpSpPr>
            <a:xfrm>
              <a:off x="2124000" y="4869000"/>
              <a:ext cx="360360" cy="575640"/>
              <a:chOff x="2124000" y="4869000"/>
              <a:chExt cx="360360" cy="575640"/>
            </a:xfrm>
          </p:grpSpPr>
          <p:sp>
            <p:nvSpPr>
              <p:cNvPr id="161" name=""/>
              <p:cNvSpPr/>
              <p:nvPr/>
            </p:nvSpPr>
            <p:spPr>
              <a:xfrm>
                <a:off x="2124000" y="5229000"/>
                <a:ext cx="360360" cy="215640"/>
              </a:xfrm>
              <a:prstGeom prst="rightArrow">
                <a:avLst>
                  <a:gd name="adj1" fmla="val 50000"/>
                  <a:gd name="adj2" fmla="val 41778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24000" y="4869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35280" y="2276640"/>
              <a:ext cx="865080" cy="575640"/>
              <a:chOff x="1835280" y="2276640"/>
              <a:chExt cx="865080" cy="575640"/>
            </a:xfrm>
          </p:grpSpPr>
          <p:sp>
            <p:nvSpPr>
              <p:cNvPr id="164" name=""/>
              <p:cNvSpPr/>
              <p:nvPr/>
            </p:nvSpPr>
            <p:spPr>
              <a:xfrm>
                <a:off x="205092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3528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556000" y="2433600"/>
              <a:ext cx="1079280" cy="852480"/>
              <a:chOff x="2556000" y="2433600"/>
              <a:chExt cx="1079280" cy="852480"/>
            </a:xfrm>
          </p:grpSpPr>
          <p:sp>
            <p:nvSpPr>
              <p:cNvPr id="167" name=""/>
              <p:cNvSpPr/>
              <p:nvPr/>
            </p:nvSpPr>
            <p:spPr>
              <a:xfrm>
                <a:off x="2844720" y="243360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56000" y="300960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556000" y="4809960"/>
              <a:ext cx="1079280" cy="852480"/>
              <a:chOff x="2556000" y="4809960"/>
              <a:chExt cx="1079280" cy="852480"/>
            </a:xfrm>
          </p:grpSpPr>
          <p:sp>
            <p:nvSpPr>
              <p:cNvPr id="170" name=""/>
              <p:cNvSpPr/>
              <p:nvPr/>
            </p:nvSpPr>
            <p:spPr>
              <a:xfrm>
                <a:off x="2843280" y="4809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56000" y="5385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2340000" y="1197000"/>
              <a:ext cx="122544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lientes Multire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80000" y="1197000"/>
            <a:ext cx="2087280" cy="5400720"/>
            <a:chOff x="3780000" y="1197000"/>
            <a:chExt cx="2087280" cy="5400720"/>
          </a:xfrm>
        </p:grpSpPr>
        <p:sp>
          <p:nvSpPr>
            <p:cNvPr id="174" name=""/>
            <p:cNvSpPr/>
            <p:nvPr/>
          </p:nvSpPr>
          <p:spPr>
            <a:xfrm>
              <a:off x="3995640" y="443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81440" y="399888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9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1440" y="55101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95640" y="587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928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5928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2998800"/>
              <a:ext cx="79200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780000" y="2276640"/>
              <a:ext cx="865080" cy="575640"/>
              <a:chOff x="3780000" y="2276640"/>
              <a:chExt cx="865080" cy="57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399564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8000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45080" y="2133720"/>
              <a:ext cx="1079280" cy="852480"/>
              <a:chOff x="4645080" y="2133720"/>
              <a:chExt cx="1079280" cy="852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933800" y="21337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45080" y="27097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716360" y="5386320"/>
              <a:ext cx="1079280" cy="852480"/>
              <a:chOff x="4716360" y="5386320"/>
              <a:chExt cx="1079280" cy="852480"/>
            </a:xfrm>
          </p:grpSpPr>
          <p:sp>
            <p:nvSpPr>
              <p:cNvPr id="188" name=""/>
              <p:cNvSpPr/>
              <p:nvPr/>
            </p:nvSpPr>
            <p:spPr>
              <a:xfrm>
                <a:off x="5003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16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16360" y="3801960"/>
              <a:ext cx="1079280" cy="852480"/>
              <a:chOff x="4716360" y="3801960"/>
              <a:chExt cx="1079280" cy="852480"/>
            </a:xfrm>
          </p:grpSpPr>
          <p:sp>
            <p:nvSpPr>
              <p:cNvPr id="191" name=""/>
              <p:cNvSpPr/>
              <p:nvPr/>
            </p:nvSpPr>
            <p:spPr>
              <a:xfrm>
                <a:off x="5003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16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500720" y="1197000"/>
              <a:ext cx="13665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940360" y="1197000"/>
            <a:ext cx="2521080" cy="5400720"/>
            <a:chOff x="5940360" y="1197000"/>
            <a:chExt cx="2521080" cy="5400720"/>
          </a:xfrm>
        </p:grpSpPr>
        <p:sp>
          <p:nvSpPr>
            <p:cNvPr id="195" name=""/>
            <p:cNvSpPr/>
            <p:nvPr/>
          </p:nvSpPr>
          <p:spPr>
            <a:xfrm>
              <a:off x="5940360" y="22701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50%x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2000" y="3925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90%y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720" y="54388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0720" y="263700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00720" y="580536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99280" y="429264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164360" y="2146320"/>
              <a:ext cx="1079280" cy="852480"/>
              <a:chOff x="7164360" y="2146320"/>
              <a:chExt cx="1079280" cy="852480"/>
            </a:xfrm>
          </p:grpSpPr>
          <p:sp>
            <p:nvSpPr>
              <p:cNvPr id="202" name=""/>
              <p:cNvSpPr/>
              <p:nvPr/>
            </p:nvSpPr>
            <p:spPr>
              <a:xfrm>
                <a:off x="7453080" y="214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64360" y="272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164360" y="5386320"/>
              <a:ext cx="1079280" cy="852480"/>
              <a:chOff x="7164360" y="5386320"/>
              <a:chExt cx="1079280" cy="852480"/>
            </a:xfrm>
          </p:grpSpPr>
          <p:sp>
            <p:nvSpPr>
              <p:cNvPr id="205" name=""/>
              <p:cNvSpPr/>
              <p:nvPr/>
            </p:nvSpPr>
            <p:spPr>
              <a:xfrm>
                <a:off x="7451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64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164360" y="3801960"/>
              <a:ext cx="1079280" cy="852480"/>
              <a:chOff x="7164360" y="3801960"/>
              <a:chExt cx="1079280" cy="852480"/>
            </a:xfrm>
          </p:grpSpPr>
          <p:sp>
            <p:nvSpPr>
              <p:cNvPr id="208" name=""/>
              <p:cNvSpPr/>
              <p:nvPr/>
            </p:nvSpPr>
            <p:spPr>
              <a:xfrm>
                <a:off x="7451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4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30872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0872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77080" y="1197000"/>
              <a:ext cx="15843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 diari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tiliza la información dispon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rones por naturale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os tipos de técnic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l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nt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 de error: absoluto, cuadrático, tipo I y tipo II, en 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acciones de Cargas y Boletos 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Puestos de Ven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todología aplicable a otras insta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os vemos entre 9:31:04 a.m. y 12:13:38 p.m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uesto sobre supuesto: Bali, taller de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breajus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intos polinomios se ajustan 100% unos mismos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bliminal al hacer muchas prueb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: Cobre versus Bol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l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 datos o con patrones confu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rg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tapa inic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sos: Nuevo producto, re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phi y Cross-impact analysis: iterativo de alto 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istorical analogy: películas, TV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uicio exper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nt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n datos (puntos de funció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tip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ies de tiempo: Y=f(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sos particulares: media móvil, suavización exponencial (tendencia, estacionalid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asificación: Y=f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usa–Efecto: Y=f(Y,X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gresión, Econometría, Redes neur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luvia en cafa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 de Venta de Metro (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eración dia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 200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antia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alogía multivía – B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será la demanda para el próximo m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día, por ho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4724280"/>
            <a:ext cx="5105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valu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 de crecimient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ía Lunes de Jun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iferencias en las car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ite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en Program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0:07:26Z</dcterms:created>
  <dc:creator>Joselyn Bravo</dc:creator>
  <dc:description/>
  <dc:language>en-US</dc:language>
  <cp:lastModifiedBy>Joselyn Bravo</cp:lastModifiedBy>
  <dcterms:modified xsi:type="dcterms:W3CDTF">2007-08-13T13:41:58Z</dcterms:modified>
  <cp:revision>4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