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F3DD-1599-4CCF-B541-5AE2A762B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C6D4-4CBC-4E38-A91C-D906088E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730E-FE90-404C-BE3B-DAD53D728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653C-E63F-4FBC-B95D-60FA196C3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A779-891E-4D93-AF5C-7D1E50A77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B2250-4C99-47D5-A969-836063A7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0845-554E-42C5-AB94-D79A2F2D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DD28-A9B8-4023-9693-131D5C4D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EF5E-D9C8-447C-BEF4-7A405287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59CD7-84C2-4582-A91D-40D54E44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98A9-EAE5-42C2-AA09-37E2863F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2DC4-10F8-40C7-8AC2-521DD244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1D64-2684-43F2-83F9-53539DCA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8250-5645-4D3A-B492-9EAFD9E4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1CE21-45ED-4B30-B46D-2698845E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A742-E4A3-423C-ABD7-2819C3D89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2A71-E9FE-4C50-BB80-8DCC517C1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4A77-21C2-450F-B3C1-868E22A1D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2667-C2A5-4BB7-9EF5-943513BA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617D-D56E-487E-8E4A-0657FB6B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EE05-F109-44B2-A04E-B4B61CE2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B967-B601-46EF-947D-E39FE489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D7F5-A9A4-46C3-B0A9-D14E546C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D25E-6F04-4116-95C5-E2649FBB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CFA2-8437-493E-A60F-CD9AE943ACC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D0F4-B9DF-4143-B8C1-B9D07D8907E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Bienes y Precio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IN71K: Gestión de Operaciones en la Industria de Servicio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20 de agosto de 2007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enes No Pereci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Teorí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finitos períod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manda independiente (períodos, producto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jemplos: Retail, Gastronomía, Mantenimien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336760" y="3860640"/>
                <a:ext cx="1835280" cy="19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Q</m:t>
                              </m:r>
                              <m:r>
                                <m:t xml:space="preserve">=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f>
                                    <m:num>
                                      <m:r>
                                        <m:t xml:space="preserve">2</m:t>
                                      </m:r>
                                      <m:r>
                                        <m:t xml:space="preserve">μS</m:t>
                                      </m:r>
                                    </m:num>
                                    <m:den>
                                      <m:r>
                                        <m:t xml:space="preserve">H</m:t>
                                      </m:r>
                                    </m:den>
                                  </m:f>
                                </m:e>
                              </m:rad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S</m:t>
                              </m:r>
                              <m:r>
                                <m:t xml:space="preserve">=</m:t>
                              </m:r>
                              <m:r>
                                <m:t xml:space="preserve">Zσ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L</m:t>
                                  </m:r>
                                </m:e>
                              </m:rad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OP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S</m:t>
                              </m:r>
                              <m:r>
                                <m:t xml:space="preserve">+</m:t>
                              </m:r>
                              <m:r>
                                <m:t xml:space="preserve">μL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0" y="34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867280" y="3860640"/>
                <a:ext cx="230364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Q</m:t>
                              </m:r>
                              <m:r>
                                <m:t xml:space="preserve">=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f>
                                    <m:num>
                                      <m:r>
                                        <m:t xml:space="preserve">2</m:t>
                                      </m:r>
                                      <m:r>
                                        <m:t xml:space="preserve">μS</m:t>
                                      </m:r>
                                    </m:num>
                                    <m:den>
                                      <m:r>
                                        <m:t xml:space="preserve">H</m:t>
                                      </m:r>
                                    </m:den>
                                  </m:f>
                                </m:e>
                              </m:rad>
                            </m:e>
                          </m:mr>
                          <m:mr>
                            <m:e>
                              <m:r>
                                <m:t xml:space="preserve">P</m:t>
                              </m:r>
                              <m:r>
                                <m:t xml:space="preserve">=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Q</m:t>
                                  </m:r>
                                </m:num>
                                <m:den>
                                  <m:r>
                                    <m:t xml:space="preserve">μ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S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Zσ</m:t>
                                    </m:r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P</m:t>
                                        </m:r>
                                      </m:e>
                                    </m:rad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IL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S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μ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L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971640" y="4508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visión Continu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3280" y="4508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visión Periódic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ienes Perecibles: Single-Peri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Vendedor de Diari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manda: 7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± 3.16 unidades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(empíric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eci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Venta: $10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mpra: $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venta (Salvage value): $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ienes Perecibles: Single-Peri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Teorí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ólo un período - decis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emplo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rriendo de autos o equipos, publicidad en TV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Overbooking (Hoteles, Viajes, Evento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Critical fractile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527200" y="5099040"/>
                <a:ext cx="29368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&lt;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ienes Perecibles: Multi-Peri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cidir abastecimiento y precios en la venta de Shorts en veran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manda = Demanda(mes,preci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sto de venta perdida: $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uatro posibles valores para el precio en tiempo: $20, $15, $10 ó $6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stricciones de precio (blanda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mbios fini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olíticas monóton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neraliza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colección y utilizació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arkov: Futuro = Futuro (Capacidad actua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ath-dependent: Demanda desconocida, aprendiza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Otros factores: clima, competencia, moda, 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simetrías de informació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lidad, inventar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esupuesto, valor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uc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neraliza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Varios recursos se transforman en varios productos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Bund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Espacio de Solucion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3366"/>
                </a:solidFill>
                <a:latin typeface="Arial"/>
              </a:rPr>
              <a:t>Dedicated – flexib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talle de Productos: ventana – col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ecio = Precio (producto, tiempo, informació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Otras restricciones de precio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Bund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Discriminación geográfic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osto (política, imagen, ley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sfuerz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eguir una neces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eguir un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eguir los da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eguir una solu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entarios Fin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nsibilidad de las decisiones respecto del costo de Stockou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pacidad es fija o flexible según la escala de tiemp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mplejidad: matemática, comunicación, da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roducción: Bie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enes en Servici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staurante, Hospital, Consultorí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ecibles – no pereci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ariables de decis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tidad, Tiempo, Prec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roducción: Pre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26560" y="2362320"/>
            <a:ext cx="7704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uy efectivo para cambiar demanda en el corto plaz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ltos costos de start-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pacidad pereci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Horizontes de tiempo cor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manda estocástica y sensi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acto Financiero: 50% del Prof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acto Operacional: Congestión, Bie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l de la Inform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ecnologí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ódigos de bar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ac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manda (</a:t>
            </a:r>
            <a:r>
              <a:rPr b="0" i="1" lang="es-ES" sz="2400" spc="-1" strike="noStrike">
                <a:solidFill>
                  <a:srgbClr val="003366"/>
                </a:solidFill>
                <a:latin typeface="Arial"/>
              </a:rPr>
              <a:t>Shoppers – buyer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ventari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ogística (Relabeling, ED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secuenci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ventory Manage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venue Managemen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tributos de un Inventar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tidad de produc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rizonte: uno, varios o infinitos perío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manda: Dependencia, aleatorie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ipo de bi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iempo de reposi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ur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eatorie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s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stos de la disponibilidad de Bien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oco stoc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ompensación al cliente: Automoto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érdida de la venta: Supermercado (Wasil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érdida del cliente: Supermercado (Coca-Col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érdida de varios clientes: Restauran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lmacena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Obsolecenci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osto del capital (bienes e instalacion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Seguros, mer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HH (digitación, cuadraturas, supervisión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Ambientación (temperatura, humedad, limpiez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stos de la disponibilidad de Bien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vimien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pecificación de las órde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licitud, evaluación y negociación de cotizaci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unicación con proveedo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ansporte, embarque, desempaqu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nitoreo y control de cal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aslado de bie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jempl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bastecimiento en Multi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Bienes Pereci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Bienes No Pereci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Un Períod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últiples Períod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enes No Pereci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bastecer los baños de un hotel de barras de jab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manda diaria: 16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± 3 barras (norma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Cos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Barra: $0,25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Reposición: $10,0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Tas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Capital: 5% (mensua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Servicio: 94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5T23:13:48Z</dcterms:created>
  <dc:creator>Joselyn Bravo</dc:creator>
  <dc:description/>
  <dc:language>en-US</dc:language>
  <cp:lastModifiedBy>Joselyn Bravo</cp:lastModifiedBy>
  <dcterms:modified xsi:type="dcterms:W3CDTF">2007-08-19T21:31:19Z</dcterms:modified>
  <cp:revision>58</cp:revision>
  <dc:subject/>
  <dc:title>Bienes</dc:title>
</cp:coreProperties>
</file>