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AEC-B159-41B0-8284-68484CE5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73F-BD9A-4ABA-9282-E1390CD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2D5-A791-472E-8131-A8F89C6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A89-AF56-40EA-BEC2-0CED6AE8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7BA-4568-491E-A8DE-9046051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79F-78AD-456E-B7A0-B9C040B1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E2C-38F5-48BB-96DD-FBECB653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AA72-EB52-4495-B9BB-D22DC084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893B-B304-4E54-8EE9-47CF265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B241-1D8B-4228-B09C-B2CA7D3B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2074-2CA9-4316-987D-2D6BF9D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E3A-8F3B-41B7-90C7-771CF2F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30B-3AD9-4A52-9431-6E91E46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E178-DCEF-4811-935D-E64A4BD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2CA2-CE47-4F33-AB10-F7888B69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DA43-0E61-4414-8575-408A9390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1A53-54F1-48A4-B653-FFD2756E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1A3-E8CC-4397-8E9F-CE20B34B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C2A-D554-4D53-9ECA-E81A09E3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7F7-462F-4611-8546-3F52896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B0B-9E1D-4EE5-81D7-BFCEFB1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335-1179-4327-8D49-0DAFB73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F8F-BD51-4229-B68E-CE918DB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E92-B52A-421E-9404-005CF87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071-A824-421F-BC33-535EF6EE660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F2D9-A93C-4728-AA7C-AD05C978FE7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Gestión de la Ofert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7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en Me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gración con asignación de tax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ce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pósitos pa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estivos lib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Jefes de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du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de la seman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(Domingo a Sáb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ria por emple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leado recibe      fines de semana libres cada       sema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trabajan exactamente 5 días por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pueden trabajar más de 6 días consecu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84720" y="2421000"/>
                <a:ext cx="1439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3284640"/>
                <a:ext cx="493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378936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4292640"/>
                <a:ext cx="372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cotas inferiores para el número mínimo de trabajadore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emá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58920" y="3141720"/>
                <a:ext cx="2089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4005360"/>
                <a:ext cx="14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7280" y="501336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6021360"/>
                <a:ext cx="2087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64000" y="5734080"/>
                <a:ext cx="3095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7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cíclicamente fines de semana libres cad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-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truir una lista de n pares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Si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 eleg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siderar el par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). Disminuir en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19640" y="3213000"/>
                <a:ext cx="1582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386064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76720" y="3860640"/>
                <a:ext cx="1623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24720" y="3860640"/>
                <a:ext cx="647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04000" y="4292640"/>
                <a:ext cx="647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la sema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lasificar los empleados en cuatro tip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3311280" cy="104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r pares con empleados T2 y T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un par (no repetido) a los T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otro par, un día a los T3 y otro a T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petir pasos para la siguiente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izonte de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eríodos (cicl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e pres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turn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l tipo de tu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cada tu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ón: Cantidad de turnos j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43280" y="2975040"/>
                <a:ext cx="1441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76720" y="3429000"/>
                <a:ext cx="297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08360" y="4005360"/>
                <a:ext cx="136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4437000"/>
                <a:ext cx="129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5013360"/>
                <a:ext cx="1512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227640" y="5516640"/>
                <a:ext cx="151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blema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3366"/>
                </a:solidFill>
                <a:latin typeface="Arial"/>
              </a:rPr>
              <a:t>Basta listar todos los turnos posibl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59280" y="2924280"/>
                <a:ext cx="2184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utas y personal en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íneas aé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uce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Curi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quinaria y personal en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osición en 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tures Depor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-cur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mb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aso cíc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 “Cuatro por t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 ex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olver 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gregar dos desigualdades vál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as ex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nal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508720" y="2349360"/>
                <a:ext cx="2158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ses de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tiv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lución Genérica o Específ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den variar en el tiempo e incluso formar parte de la función 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cronizar recursos para cumplir actividades de acuerdo a reglas o prioridades para alcanzar los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as 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uración (processing ti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nor tiempo de inicio (releas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yor tiempo de término (du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oridad (weigh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os recu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, ha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nas de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s de se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querimient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kespan (Through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ámenes o Reuniones en un período definido de ti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 de recu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nalidades (por tiempos “marketero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iveles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et scheduling/Rou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orkforc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w/Machin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axonomía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ufa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ob 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sambl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t s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met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Pers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en Me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Tur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8-27T02:29:56Z</dcterms:modified>
  <cp:revision>1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