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3B6-2D7C-435E-90C8-BEC000A2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3807-00C6-4289-A8D4-46021270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BAD-FCE6-4395-B1BC-9AA51E0E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43D-DCAD-4AFD-9A51-7F3FA15F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BCA8-F423-4450-9232-F65E6F63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6426-1AAE-478F-83C5-A6F5F3F1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A93D-62A9-40FC-98FB-B9F9BA21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74B4-1BF9-4EC1-8B25-737E0DD0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B17F-11C7-4202-AA42-D0FADC4D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0DF7-36DB-4539-B6A8-C0D06075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3C3F-7414-4726-8118-5856AE4E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136B-0606-4853-869D-F0014048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9FDB-8B1D-4167-9A41-8099A0D3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8111-538A-44EB-8160-88B6F5DB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2F80-2BEF-49B7-BDC7-A1FCBCB0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C9F0-972B-43D9-89F4-04FF5475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96C9-A757-4BE1-A157-C1397FA2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2EA-1AB2-44FE-AABD-4B159535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302-B481-48F6-9293-705BF39B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C3D-B5B9-41FC-9AFA-0766E080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D72-DDC1-46FA-9304-55F927E5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069-345A-4335-8352-2F35602D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F96-EB5F-4625-A67E-8CDDE368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6FD-28A1-4220-8738-1C8A788D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EE04-6DB1-468D-A759-CAD8A5EBEA77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BA01-593C-4EE8-AD22-E89DFCB12DE2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10 de septiembre de 2007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ponsiv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ng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uente: Zeithalm, Parasuraman y Ber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ponsiv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Dispon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Respues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ompete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onfian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ng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iability </a:t>
            </a: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(Confiabilida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isponi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dad de proveer de un servicio oportu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y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Islas y Bomberos (o Caja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Respues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acción ante proble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lexibilidad en el hor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volu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Surtidor de 9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ocimiento técn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rtesía, ama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dicación exclusi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Bienvenida, Limpieza de vidrios, ubicación de la tap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fian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ansmisión de credibilidad a través de los emple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Surtidor en cero, dar bole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mpat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nsibilidad para comprender las necesidades e intereses del cl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cc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or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sonal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Hablar del auto, limpiador de inyect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ang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ariencia, limpieza, atractivo, tecnología, amb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stala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quipa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tros Cli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Mangueras y Limpiaparabrisas, ru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ñalé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uevos produc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mo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Vasos, pelotas, Majoret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fia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minución de la variabilidad, cumplimiento de compromi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ront Office: Tiempo (Rapidez y Percep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ck Office: Órdenes de compra, factu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Agua y a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delo de Brech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mensiones de la 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ción de la 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000" y="2060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Arial"/>
              </a:rPr>
              <a:t>¿Cómo medir la calidad de un servicio médico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inco enfo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Es adecuada la secuencia de actividad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Clasificación de pacientes, asignación de boxes, doctores y enfermeras, toma de exámenes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Hay recursos disponibl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Discusión entre doctores, utilización (enfermos en pasillo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Se están siguiendo los procedimiento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Colegio médico, pitutos, fonas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Cuál es el efecto en el largo plaz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Mortalidad infantil, distancia promedio a un centro médico, rechazos por prev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Está satisfecho el Clien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Infecciones por cirugía, muertes por enfermedad, quejas,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ncuestas de calidad de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ncuestas de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mediciones son invas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úmero de Respuestas versus Ses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fecto Ha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cepción </a:t>
            </a:r>
            <a:r>
              <a:rPr b="0" lang="es-E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Atributos </a:t>
            </a:r>
            <a:r>
              <a:rPr b="0" lang="es-E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Esca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ner números no logra objetiv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de la firma a los emple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tre dimens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tividad: Percepciones y Expectat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criminar entre cli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cluir medidas Obje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olucrarse en la medi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0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2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06" idx="3"/>
            <a:endCxn id="108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08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3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5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31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0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31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vestigación de Mercad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municación a través de la Jerarqu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0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2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56" idx="3"/>
            <a:endCxn id="158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7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58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436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Definición de Met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Definición de Polític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1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85" idx="3"/>
            <a:endCxn id="187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6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5240" y="539748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7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513240" y="5451120"/>
            <a:ext cx="0" cy="28260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centivos conflictivos o pervers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fraestruct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ntro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0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2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16" idx="3"/>
            <a:endCxn id="218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7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5240" y="539748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59320" y="5253120"/>
            <a:ext cx="8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56000" y="5300640"/>
            <a:ext cx="91620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18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513240" y="5451120"/>
            <a:ext cx="0" cy="28260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municación Marketing – Opera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municación geográf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Sobreofrecer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55" name=""/>
          <p:cNvCxnSpPr>
            <a:stCxn id="243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5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9" idx="3"/>
            <a:endCxn id="251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1" name=""/>
          <p:cNvCxnSpPr/>
          <p:nvPr/>
        </p:nvCxnSpPr>
        <p:spPr>
          <a:xfrm>
            <a:off x="3512880" y="4149360"/>
            <a:ext cx="1080" cy="289440"/>
          </a:xfrm>
          <a:prstGeom prst="straightConnector1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668680" y="4149720"/>
            <a:ext cx="113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50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5240" y="539748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59320" y="5253120"/>
            <a:ext cx="8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56000" y="5300640"/>
            <a:ext cx="91620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1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513240" y="5451120"/>
            <a:ext cx="0" cy="28260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satisfac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Satisfac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Delig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4000" y="2060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Arial"/>
              </a:rPr>
              <a:t>¿Por qué el servicio de una bencinera es de buena o mala calida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25:18Z</dcterms:created>
  <dc:creator>Joselyn Bravo</dc:creator>
  <dc:description/>
  <dc:language>en-US</dc:language>
  <cp:lastModifiedBy>Joselyn Bravo</cp:lastModifiedBy>
  <dcterms:modified xsi:type="dcterms:W3CDTF">2007-09-10T11:31:39Z</dcterms:modified>
  <cp:revision>69</cp:revision>
  <dc:subject/>
  <dc:title>Gestión de la Ofer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